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B85-A8E6-48B6-93DA-1D187195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5F0-DBAC-48D9-9E69-26DF473A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5EF-8FC4-4CF1-8E53-D2ED3F2C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A82-80AB-4349-B7FB-3C6463D6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81D8-648E-4E2B-8D62-DABFC5FF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C2F9-1F4B-4CB2-BE93-63AFD3C8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9838-E49A-43F3-B98E-CCA431A3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A1DC-4623-4878-A515-DA5D3548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D8E3-AE9C-42ED-B765-3DAEF08E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83F3-EC4C-496C-9656-2846380C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196C-2692-44F1-B839-012C0EDE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D26-D8BC-4C0D-A0E5-FD700D75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8BB5-65E3-44EC-A10C-25DD8B15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4C07-D23F-44DD-99B4-BB4CBB1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BD9B-AA48-43DE-93A9-9F3ECE01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D825-AF41-4728-BD17-F68E7263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685F-B666-4580-86A2-42950672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E12-F3B0-4887-8B12-F3C634D1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651-D67A-435F-B8B0-3626281F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570-7083-4AFF-81B9-B98DF963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DC4-B2BF-4C1D-989F-B86AB906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B17-0E78-4727-8598-944E23E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551-91BB-4434-96A6-7C4B1FFF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73D-38DF-42CC-9499-CC630577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81E0-A891-4DD3-B1E5-134C8D66F1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2849-730A-4380-AAEB-343E85F5D7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rse 2 Dec. 15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7(3+-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 – 3 x -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-28 - -4)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697040" y="2340000"/>
            <a:ext cx="892080" cy="633240"/>
          </a:xfrm>
          <a:custGeom>
            <a:avLst/>
            <a:gdLst/>
            <a:ahLst/>
            <a:rect l="l" t="t" r="r" b="b"/>
            <a:pathLst>
              <a:path w="2481" h="1762">
                <a:moveTo>
                  <a:pt x="6077" y="6747"/>
                </a:moveTo>
                <a:cubicBezTo>
                  <a:pt x="6165" y="6747"/>
                  <a:pt x="6300" y="6734"/>
                  <a:pt x="6375" y="6747"/>
                </a:cubicBezTo>
                <a:cubicBezTo>
                  <a:pt x="6383" y="6755"/>
                  <a:pt x="6392" y="6764"/>
                  <a:pt x="6400" y="6772"/>
                </a:cubicBezTo>
              </a:path>
              <a:path w="2481" h="1762">
                <a:moveTo>
                  <a:pt x="6896" y="6548"/>
                </a:moveTo>
                <a:cubicBezTo>
                  <a:pt x="6846" y="6556"/>
                  <a:pt x="6713" y="6564"/>
                  <a:pt x="6672" y="6598"/>
                </a:cubicBezTo>
                <a:cubicBezTo>
                  <a:pt x="6638" y="6626"/>
                  <a:pt x="6597" y="6730"/>
                  <a:pt x="6573" y="6772"/>
                </a:cubicBezTo>
                <a:cubicBezTo>
                  <a:pt x="6646" y="6772"/>
                  <a:pt x="6698" y="6751"/>
                  <a:pt x="6772" y="6747"/>
                </a:cubicBezTo>
                <a:cubicBezTo>
                  <a:pt x="6858" y="6743"/>
                  <a:pt x="6910" y="6840"/>
                  <a:pt x="6871" y="6921"/>
                </a:cubicBezTo>
                <a:cubicBezTo>
                  <a:pt x="6811" y="7047"/>
                  <a:pt x="6632" y="7020"/>
                  <a:pt x="6524" y="7020"/>
                </a:cubicBezTo>
                <a:cubicBezTo>
                  <a:pt x="6507" y="7020"/>
                  <a:pt x="6491" y="7020"/>
                  <a:pt x="6474" y="7020"/>
                </a:cubicBezTo>
              </a:path>
              <a:path w="2481" h="1762">
                <a:moveTo>
                  <a:pt x="5953" y="6524"/>
                </a:moveTo>
                <a:cubicBezTo>
                  <a:pt x="5883" y="6547"/>
                  <a:pt x="5837" y="6672"/>
                  <a:pt x="5804" y="6747"/>
                </a:cubicBezTo>
                <a:cubicBezTo>
                  <a:pt x="5749" y="6871"/>
                  <a:pt x="5681" y="7061"/>
                  <a:pt x="5755" y="7193"/>
                </a:cubicBezTo>
                <a:cubicBezTo>
                  <a:pt x="5810" y="7291"/>
                  <a:pt x="5813" y="7273"/>
                  <a:pt x="5904" y="7218"/>
                </a:cubicBezTo>
              </a:path>
              <a:path w="2481" h="1762">
                <a:moveTo>
                  <a:pt x="7069" y="6499"/>
                </a:moveTo>
                <a:cubicBezTo>
                  <a:pt x="7154" y="6520"/>
                  <a:pt x="7182" y="6640"/>
                  <a:pt x="7193" y="6722"/>
                </a:cubicBezTo>
                <a:cubicBezTo>
                  <a:pt x="7214" y="6878"/>
                  <a:pt x="7134" y="6949"/>
                  <a:pt x="7069" y="7069"/>
                </a:cubicBezTo>
                <a:cubicBezTo>
                  <a:pt x="7069" y="7077"/>
                  <a:pt x="7069" y="7086"/>
                  <a:pt x="7069" y="7094"/>
                </a:cubicBezTo>
              </a:path>
              <a:path w="2481" h="1762">
                <a:moveTo>
                  <a:pt x="4713" y="6995"/>
                </a:moveTo>
                <a:cubicBezTo>
                  <a:pt x="4754" y="6995"/>
                  <a:pt x="4796" y="6995"/>
                  <a:pt x="4837" y="6995"/>
                </a:cubicBezTo>
              </a:path>
              <a:path w="2481" h="1762">
                <a:moveTo>
                  <a:pt x="5035" y="6772"/>
                </a:moveTo>
                <a:cubicBezTo>
                  <a:pt x="5052" y="6721"/>
                  <a:pt x="5104" y="6759"/>
                  <a:pt x="5159" y="6747"/>
                </a:cubicBezTo>
                <a:cubicBezTo>
                  <a:pt x="5242" y="6729"/>
                  <a:pt x="5251" y="6733"/>
                  <a:pt x="5333" y="6747"/>
                </a:cubicBezTo>
                <a:cubicBezTo>
                  <a:pt x="5288" y="6865"/>
                  <a:pt x="5205" y="6956"/>
                  <a:pt x="5159" y="7069"/>
                </a:cubicBezTo>
                <a:cubicBezTo>
                  <a:pt x="5159" y="7077"/>
                  <a:pt x="5159" y="7086"/>
                  <a:pt x="5159" y="7094"/>
                </a:cubicBezTo>
              </a:path>
              <a:path w="2481" h="1762">
                <a:moveTo>
                  <a:pt x="5507" y="7565"/>
                </a:moveTo>
                <a:cubicBezTo>
                  <a:pt x="5529" y="7521"/>
                  <a:pt x="5586" y="7502"/>
                  <a:pt x="5631" y="7466"/>
                </a:cubicBezTo>
                <a:cubicBezTo>
                  <a:pt x="5654" y="7531"/>
                  <a:pt x="5669" y="7609"/>
                  <a:pt x="5606" y="7665"/>
                </a:cubicBezTo>
                <a:cubicBezTo>
                  <a:pt x="5589" y="7681"/>
                  <a:pt x="5548" y="7708"/>
                  <a:pt x="5531" y="7714"/>
                </a:cubicBezTo>
                <a:cubicBezTo>
                  <a:pt x="5567" y="7687"/>
                  <a:pt x="5633" y="7675"/>
                  <a:pt x="5655" y="7739"/>
                </a:cubicBezTo>
                <a:cubicBezTo>
                  <a:pt x="5675" y="7795"/>
                  <a:pt x="5582" y="7898"/>
                  <a:pt x="5531" y="7913"/>
                </a:cubicBezTo>
                <a:cubicBezTo>
                  <a:pt x="5481" y="7928"/>
                  <a:pt x="5467" y="7918"/>
                  <a:pt x="5457" y="7888"/>
                </a:cubicBezTo>
              </a:path>
              <a:path w="2481" h="1762">
                <a:moveTo>
                  <a:pt x="6077" y="7466"/>
                </a:moveTo>
                <a:cubicBezTo>
                  <a:pt x="6003" y="7466"/>
                  <a:pt x="5931" y="7476"/>
                  <a:pt x="5879" y="7466"/>
                </a:cubicBezTo>
                <a:cubicBezTo>
                  <a:pt x="5841" y="7458"/>
                  <a:pt x="5832" y="7579"/>
                  <a:pt x="5829" y="7615"/>
                </a:cubicBezTo>
                <a:cubicBezTo>
                  <a:pt x="5829" y="7623"/>
                  <a:pt x="5829" y="7632"/>
                  <a:pt x="5829" y="7640"/>
                </a:cubicBezTo>
                <a:cubicBezTo>
                  <a:pt x="5884" y="7596"/>
                  <a:pt x="5933" y="7577"/>
                  <a:pt x="6003" y="7565"/>
                </a:cubicBezTo>
                <a:cubicBezTo>
                  <a:pt x="6024" y="7623"/>
                  <a:pt x="6080" y="7723"/>
                  <a:pt x="6052" y="7789"/>
                </a:cubicBezTo>
                <a:cubicBezTo>
                  <a:pt x="6011" y="7884"/>
                  <a:pt x="5971" y="7917"/>
                  <a:pt x="5879" y="7938"/>
                </a:cubicBezTo>
                <a:cubicBezTo>
                  <a:pt x="5847" y="7945"/>
                  <a:pt x="5858" y="7923"/>
                  <a:pt x="5829" y="7913"/>
                </a:cubicBezTo>
              </a:path>
              <a:path w="2481" h="1762">
                <a:moveTo>
                  <a:pt x="6201" y="7342"/>
                </a:moveTo>
                <a:cubicBezTo>
                  <a:pt x="6161" y="7336"/>
                  <a:pt x="6137" y="7332"/>
                  <a:pt x="6102" y="7317"/>
                </a:cubicBezTo>
                <a:cubicBezTo>
                  <a:pt x="6068" y="7302"/>
                  <a:pt x="6043" y="7295"/>
                  <a:pt x="6003" y="7293"/>
                </a:cubicBezTo>
                <a:cubicBezTo>
                  <a:pt x="5942" y="7290"/>
                  <a:pt x="5950" y="7271"/>
                  <a:pt x="5879" y="7268"/>
                </a:cubicBezTo>
                <a:cubicBezTo>
                  <a:pt x="5798" y="7264"/>
                  <a:pt x="5792" y="7290"/>
                  <a:pt x="5730" y="7293"/>
                </a:cubicBezTo>
                <a:cubicBezTo>
                  <a:pt x="5666" y="7296"/>
                  <a:pt x="5641" y="7297"/>
                  <a:pt x="5581" y="7317"/>
                </a:cubicBezTo>
                <a:cubicBezTo>
                  <a:pt x="5534" y="7332"/>
                  <a:pt x="5498" y="7344"/>
                  <a:pt x="5457" y="7367"/>
                </a:cubicBezTo>
                <a:cubicBezTo>
                  <a:pt x="5412" y="7392"/>
                  <a:pt x="5347" y="7411"/>
                  <a:pt x="5308" y="7441"/>
                </a:cubicBezTo>
                <a:cubicBezTo>
                  <a:pt x="5254" y="7483"/>
                  <a:pt x="5240" y="7554"/>
                  <a:pt x="5209" y="7615"/>
                </a:cubicBezTo>
                <a:cubicBezTo>
                  <a:pt x="5172" y="7689"/>
                  <a:pt x="5180" y="7712"/>
                  <a:pt x="5159" y="7789"/>
                </a:cubicBezTo>
                <a:cubicBezTo>
                  <a:pt x="5140" y="7860"/>
                  <a:pt x="5150" y="7898"/>
                  <a:pt x="5184" y="7962"/>
                </a:cubicBezTo>
                <a:cubicBezTo>
                  <a:pt x="5219" y="8027"/>
                  <a:pt x="5231" y="8083"/>
                  <a:pt x="5283" y="8136"/>
                </a:cubicBezTo>
                <a:cubicBezTo>
                  <a:pt x="5333" y="8186"/>
                  <a:pt x="5353" y="8183"/>
                  <a:pt x="5407" y="8210"/>
                </a:cubicBezTo>
                <a:cubicBezTo>
                  <a:pt x="5450" y="8231"/>
                  <a:pt x="5527" y="8254"/>
                  <a:pt x="5581" y="8260"/>
                </a:cubicBezTo>
                <a:cubicBezTo>
                  <a:pt x="5700" y="8273"/>
                  <a:pt x="5818" y="8254"/>
                  <a:pt x="5928" y="8235"/>
                </a:cubicBezTo>
                <a:cubicBezTo>
                  <a:pt x="6003" y="8222"/>
                  <a:pt x="6057" y="8196"/>
                  <a:pt x="6127" y="8161"/>
                </a:cubicBezTo>
                <a:cubicBezTo>
                  <a:pt x="6183" y="8133"/>
                  <a:pt x="6206" y="8131"/>
                  <a:pt x="6251" y="8086"/>
                </a:cubicBezTo>
                <a:cubicBezTo>
                  <a:pt x="6280" y="8057"/>
                  <a:pt x="6317" y="8001"/>
                  <a:pt x="6325" y="7962"/>
                </a:cubicBezTo>
                <a:cubicBezTo>
                  <a:pt x="6336" y="7910"/>
                  <a:pt x="6378" y="7891"/>
                  <a:pt x="6375" y="7838"/>
                </a:cubicBezTo>
                <a:cubicBezTo>
                  <a:pt x="6374" y="7823"/>
                  <a:pt x="6356" y="7728"/>
                  <a:pt x="6350" y="7714"/>
                </a:cubicBezTo>
                <a:cubicBezTo>
                  <a:pt x="6338" y="7687"/>
                  <a:pt x="6315" y="7637"/>
                  <a:pt x="6300" y="7615"/>
                </a:cubicBezTo>
                <a:cubicBezTo>
                  <a:pt x="6273" y="7575"/>
                  <a:pt x="6258" y="7533"/>
                  <a:pt x="6226" y="7491"/>
                </a:cubicBezTo>
                <a:cubicBezTo>
                  <a:pt x="6204" y="7461"/>
                  <a:pt x="6166" y="7431"/>
                  <a:pt x="6152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5320" y="3419640"/>
            <a:ext cx="1509840" cy="812520"/>
          </a:xfrm>
          <a:custGeom>
            <a:avLst/>
            <a:gdLst/>
            <a:ahLst/>
            <a:rect l="l" t="t" r="r" b="b"/>
            <a:pathLst>
              <a:path w="4193" h="2258">
                <a:moveTo>
                  <a:pt x="6524" y="9599"/>
                </a:moveTo>
                <a:cubicBezTo>
                  <a:pt x="6516" y="9675"/>
                  <a:pt x="6502" y="9746"/>
                  <a:pt x="6499" y="9823"/>
                </a:cubicBezTo>
                <a:cubicBezTo>
                  <a:pt x="6499" y="9847"/>
                  <a:pt x="6499" y="9856"/>
                  <a:pt x="6499" y="9872"/>
                </a:cubicBezTo>
                <a:cubicBezTo>
                  <a:pt x="6593" y="9872"/>
                  <a:pt x="6711" y="9841"/>
                  <a:pt x="6796" y="9847"/>
                </a:cubicBezTo>
                <a:cubicBezTo>
                  <a:pt x="6879" y="9853"/>
                  <a:pt x="6958" y="9872"/>
                  <a:pt x="7045" y="9872"/>
                </a:cubicBezTo>
                <a:cubicBezTo>
                  <a:pt x="7222" y="9872"/>
                  <a:pt x="7392" y="9882"/>
                  <a:pt x="7565" y="9897"/>
                </a:cubicBezTo>
                <a:cubicBezTo>
                  <a:pt x="7788" y="9916"/>
                  <a:pt x="8016" y="9890"/>
                  <a:pt x="8235" y="9872"/>
                </a:cubicBezTo>
                <a:cubicBezTo>
                  <a:pt x="8358" y="9862"/>
                  <a:pt x="8484" y="9862"/>
                  <a:pt x="8607" y="9847"/>
                </a:cubicBezTo>
                <a:cubicBezTo>
                  <a:pt x="8744" y="9830"/>
                  <a:pt x="8872" y="9816"/>
                  <a:pt x="9004" y="9773"/>
                </a:cubicBezTo>
                <a:cubicBezTo>
                  <a:pt x="9063" y="9754"/>
                  <a:pt x="9122" y="9740"/>
                  <a:pt x="9178" y="9723"/>
                </a:cubicBezTo>
                <a:cubicBezTo>
                  <a:pt x="9155" y="9666"/>
                  <a:pt x="9151" y="9583"/>
                  <a:pt x="9128" y="9525"/>
                </a:cubicBezTo>
                <a:cubicBezTo>
                  <a:pt x="9120" y="9517"/>
                  <a:pt x="9111" y="9508"/>
                  <a:pt x="9103" y="9500"/>
                </a:cubicBezTo>
              </a:path>
              <a:path w="4193" h="2258">
                <a:moveTo>
                  <a:pt x="7119" y="10220"/>
                </a:moveTo>
                <a:cubicBezTo>
                  <a:pt x="7169" y="10220"/>
                  <a:pt x="7218" y="10220"/>
                  <a:pt x="7268" y="10220"/>
                </a:cubicBezTo>
              </a:path>
              <a:path w="4193" h="2258">
                <a:moveTo>
                  <a:pt x="7491" y="10096"/>
                </a:moveTo>
                <a:cubicBezTo>
                  <a:pt x="7491" y="10166"/>
                  <a:pt x="7491" y="10552"/>
                  <a:pt x="7491" y="10368"/>
                </a:cubicBezTo>
              </a:path>
              <a:path w="4193" h="2258">
                <a:moveTo>
                  <a:pt x="7665" y="10120"/>
                </a:moveTo>
                <a:cubicBezTo>
                  <a:pt x="7701" y="10108"/>
                  <a:pt x="7686" y="10096"/>
                  <a:pt x="7739" y="10096"/>
                </a:cubicBezTo>
                <a:cubicBezTo>
                  <a:pt x="7815" y="10096"/>
                  <a:pt x="7885" y="10121"/>
                  <a:pt x="7863" y="10220"/>
                </a:cubicBezTo>
                <a:cubicBezTo>
                  <a:pt x="7846" y="10295"/>
                  <a:pt x="7733" y="10349"/>
                  <a:pt x="7689" y="10418"/>
                </a:cubicBezTo>
                <a:cubicBezTo>
                  <a:pt x="7757" y="10404"/>
                  <a:pt x="7815" y="10373"/>
                  <a:pt x="7888" y="10368"/>
                </a:cubicBezTo>
                <a:cubicBezTo>
                  <a:pt x="7913" y="10368"/>
                  <a:pt x="7921" y="10368"/>
                  <a:pt x="7938" y="10368"/>
                </a:cubicBezTo>
              </a:path>
              <a:path w="4193" h="2258">
                <a:moveTo>
                  <a:pt x="5060" y="10269"/>
                </a:moveTo>
                <a:cubicBezTo>
                  <a:pt x="5159" y="10269"/>
                  <a:pt x="5274" y="10286"/>
                  <a:pt x="5358" y="10244"/>
                </a:cubicBezTo>
              </a:path>
              <a:path w="4193" h="2258">
                <a:moveTo>
                  <a:pt x="5829" y="9996"/>
                </a:moveTo>
                <a:cubicBezTo>
                  <a:pt x="5772" y="9996"/>
                  <a:pt x="5722" y="9984"/>
                  <a:pt x="5680" y="10021"/>
                </a:cubicBezTo>
                <a:cubicBezTo>
                  <a:pt x="5630" y="10065"/>
                  <a:pt x="5616" y="10133"/>
                  <a:pt x="5606" y="10195"/>
                </a:cubicBezTo>
                <a:cubicBezTo>
                  <a:pt x="5674" y="10195"/>
                  <a:pt x="5747" y="10184"/>
                  <a:pt x="5779" y="10220"/>
                </a:cubicBezTo>
                <a:cubicBezTo>
                  <a:pt x="5814" y="10260"/>
                  <a:pt x="5823" y="10369"/>
                  <a:pt x="5755" y="10393"/>
                </a:cubicBezTo>
                <a:cubicBezTo>
                  <a:pt x="5721" y="10405"/>
                  <a:pt x="5668" y="10411"/>
                  <a:pt x="5631" y="10418"/>
                </a:cubicBezTo>
              </a:path>
              <a:path w="4193" h="2258">
                <a:moveTo>
                  <a:pt x="6251" y="10220"/>
                </a:moveTo>
                <a:cubicBezTo>
                  <a:pt x="6342" y="10220"/>
                  <a:pt x="6433" y="10220"/>
                  <a:pt x="6524" y="10220"/>
                </a:cubicBezTo>
              </a:path>
              <a:path w="4193" h="2258">
                <a:moveTo>
                  <a:pt x="4986" y="10790"/>
                </a:moveTo>
                <a:cubicBezTo>
                  <a:pt x="5058" y="10808"/>
                  <a:pt x="5028" y="10811"/>
                  <a:pt x="5110" y="10790"/>
                </a:cubicBezTo>
                <a:cubicBezTo>
                  <a:pt x="5143" y="10790"/>
                  <a:pt x="5159" y="10790"/>
                  <a:pt x="5184" y="10790"/>
                </a:cubicBezTo>
              </a:path>
              <a:path w="4193" h="2258">
                <a:moveTo>
                  <a:pt x="5730" y="10616"/>
                </a:moveTo>
                <a:cubicBezTo>
                  <a:pt x="5675" y="10616"/>
                  <a:pt x="5636" y="10637"/>
                  <a:pt x="5581" y="10641"/>
                </a:cubicBezTo>
                <a:cubicBezTo>
                  <a:pt x="5532" y="10645"/>
                  <a:pt x="5546" y="10674"/>
                  <a:pt x="5531" y="10716"/>
                </a:cubicBezTo>
                <a:cubicBezTo>
                  <a:pt x="5510" y="10759"/>
                  <a:pt x="5497" y="10771"/>
                  <a:pt x="5531" y="10790"/>
                </a:cubicBezTo>
                <a:cubicBezTo>
                  <a:pt x="5588" y="10790"/>
                  <a:pt x="5637" y="10777"/>
                  <a:pt x="5680" y="10815"/>
                </a:cubicBezTo>
                <a:cubicBezTo>
                  <a:pt x="5718" y="10849"/>
                  <a:pt x="5723" y="10931"/>
                  <a:pt x="5680" y="10964"/>
                </a:cubicBezTo>
                <a:cubicBezTo>
                  <a:pt x="5628" y="11004"/>
                  <a:pt x="5601" y="11006"/>
                  <a:pt x="5556" y="10988"/>
                </a:cubicBezTo>
              </a:path>
              <a:path w="4193" h="2258">
                <a:moveTo>
                  <a:pt x="6127" y="10691"/>
                </a:moveTo>
                <a:cubicBezTo>
                  <a:pt x="6127" y="10650"/>
                  <a:pt x="6118" y="10725"/>
                  <a:pt x="6127" y="10765"/>
                </a:cubicBezTo>
                <a:cubicBezTo>
                  <a:pt x="6143" y="10835"/>
                  <a:pt x="6176" y="10857"/>
                  <a:pt x="6127" y="10889"/>
                </a:cubicBezTo>
              </a:path>
              <a:path w="4193" h="2258">
                <a:moveTo>
                  <a:pt x="6028" y="10790"/>
                </a:moveTo>
                <a:cubicBezTo>
                  <a:pt x="6124" y="10790"/>
                  <a:pt x="6210" y="10786"/>
                  <a:pt x="6300" y="10765"/>
                </a:cubicBezTo>
                <a:cubicBezTo>
                  <a:pt x="6308" y="10765"/>
                  <a:pt x="6317" y="10765"/>
                  <a:pt x="6325" y="10765"/>
                </a:cubicBezTo>
              </a:path>
              <a:path w="4193" h="2258">
                <a:moveTo>
                  <a:pt x="6598" y="10616"/>
                </a:moveTo>
                <a:cubicBezTo>
                  <a:pt x="6586" y="10685"/>
                  <a:pt x="6573" y="10743"/>
                  <a:pt x="6573" y="10815"/>
                </a:cubicBezTo>
                <a:cubicBezTo>
                  <a:pt x="6573" y="10840"/>
                  <a:pt x="6573" y="10848"/>
                  <a:pt x="6573" y="10864"/>
                </a:cubicBezTo>
              </a:path>
              <a:path w="4193" h="2258">
                <a:moveTo>
                  <a:pt x="6772" y="10616"/>
                </a:moveTo>
                <a:cubicBezTo>
                  <a:pt x="6835" y="10585"/>
                  <a:pt x="6888" y="10574"/>
                  <a:pt x="6921" y="10641"/>
                </a:cubicBezTo>
                <a:cubicBezTo>
                  <a:pt x="6965" y="10732"/>
                  <a:pt x="6938" y="10749"/>
                  <a:pt x="6871" y="10815"/>
                </a:cubicBezTo>
                <a:cubicBezTo>
                  <a:pt x="6829" y="10856"/>
                  <a:pt x="6821" y="10864"/>
                  <a:pt x="6796" y="10889"/>
                </a:cubicBezTo>
                <a:cubicBezTo>
                  <a:pt x="6851" y="10889"/>
                  <a:pt x="6890" y="10868"/>
                  <a:pt x="6945" y="10864"/>
                </a:cubicBezTo>
                <a:cubicBezTo>
                  <a:pt x="6970" y="10864"/>
                  <a:pt x="6978" y="10864"/>
                  <a:pt x="6995" y="10864"/>
                </a:cubicBezTo>
              </a:path>
              <a:path w="4193" h="2258">
                <a:moveTo>
                  <a:pt x="6052" y="11137"/>
                </a:moveTo>
                <a:cubicBezTo>
                  <a:pt x="6061" y="11154"/>
                  <a:pt x="6138" y="11160"/>
                  <a:pt x="6201" y="11162"/>
                </a:cubicBezTo>
                <a:cubicBezTo>
                  <a:pt x="6259" y="11164"/>
                  <a:pt x="6317" y="11162"/>
                  <a:pt x="6375" y="11162"/>
                </a:cubicBezTo>
                <a:cubicBezTo>
                  <a:pt x="6355" y="11220"/>
                  <a:pt x="6306" y="11271"/>
                  <a:pt x="6300" y="11336"/>
                </a:cubicBezTo>
                <a:cubicBezTo>
                  <a:pt x="6296" y="11378"/>
                  <a:pt x="6280" y="11397"/>
                  <a:pt x="6276" y="11435"/>
                </a:cubicBezTo>
                <a:cubicBezTo>
                  <a:pt x="6276" y="11443"/>
                  <a:pt x="6276" y="11452"/>
                  <a:pt x="6276" y="11460"/>
                </a:cubicBezTo>
              </a:path>
              <a:path w="4193" h="2258">
                <a:moveTo>
                  <a:pt x="5928" y="11584"/>
                </a:moveTo>
                <a:cubicBezTo>
                  <a:pt x="6001" y="11630"/>
                  <a:pt x="6041" y="11638"/>
                  <a:pt x="6127" y="11658"/>
                </a:cubicBezTo>
                <a:cubicBezTo>
                  <a:pt x="6227" y="11681"/>
                  <a:pt x="6300" y="11663"/>
                  <a:pt x="6400" y="11633"/>
                </a:cubicBezTo>
                <a:cubicBezTo>
                  <a:pt x="6487" y="11607"/>
                  <a:pt x="6601" y="11544"/>
                  <a:pt x="6648" y="11460"/>
                </a:cubicBezTo>
                <a:cubicBezTo>
                  <a:pt x="6680" y="11404"/>
                  <a:pt x="6694" y="11326"/>
                  <a:pt x="6697" y="11261"/>
                </a:cubicBezTo>
                <a:cubicBezTo>
                  <a:pt x="6699" y="11198"/>
                  <a:pt x="6688" y="11140"/>
                  <a:pt x="6648" y="11088"/>
                </a:cubicBezTo>
                <a:cubicBezTo>
                  <a:pt x="6581" y="11001"/>
                  <a:pt x="6509" y="10994"/>
                  <a:pt x="6424" y="10939"/>
                </a:cubicBezTo>
                <a:cubicBezTo>
                  <a:pt x="6376" y="10908"/>
                  <a:pt x="6313" y="10892"/>
                  <a:pt x="6251" y="10889"/>
                </a:cubicBezTo>
                <a:cubicBezTo>
                  <a:pt x="6176" y="10886"/>
                  <a:pt x="6120" y="10893"/>
                  <a:pt x="6052" y="10914"/>
                </a:cubicBezTo>
                <a:cubicBezTo>
                  <a:pt x="5959" y="10943"/>
                  <a:pt x="5852" y="11031"/>
                  <a:pt x="5804" y="11112"/>
                </a:cubicBezTo>
                <a:cubicBezTo>
                  <a:pt x="5766" y="11176"/>
                  <a:pt x="5771" y="11194"/>
                  <a:pt x="5755" y="11261"/>
                </a:cubicBezTo>
                <a:cubicBezTo>
                  <a:pt x="5732" y="11357"/>
                  <a:pt x="5731" y="11416"/>
                  <a:pt x="5755" y="11509"/>
                </a:cubicBezTo>
                <a:cubicBezTo>
                  <a:pt x="5762" y="11538"/>
                  <a:pt x="5783" y="11636"/>
                  <a:pt x="5804" y="11658"/>
                </a:cubicBezTo>
                <a:cubicBezTo>
                  <a:pt x="5840" y="11697"/>
                  <a:pt x="5910" y="11714"/>
                  <a:pt x="5953" y="11733"/>
                </a:cubicBezTo>
                <a:cubicBezTo>
                  <a:pt x="6031" y="11767"/>
                  <a:pt x="6070" y="11750"/>
                  <a:pt x="6152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43040" y="4705200"/>
            <a:ext cx="1278000" cy="1420920"/>
          </a:xfrm>
          <a:custGeom>
            <a:avLst/>
            <a:gdLst/>
            <a:ahLst/>
            <a:rect l="l" t="t" r="r" b="b"/>
            <a:pathLst>
              <a:path w="3548" h="3945">
                <a:moveTo>
                  <a:pt x="6548" y="13246"/>
                </a:moveTo>
                <a:cubicBezTo>
                  <a:pt x="6548" y="13381"/>
                  <a:pt x="6556" y="13523"/>
                  <a:pt x="6524" y="13643"/>
                </a:cubicBezTo>
                <a:cubicBezTo>
                  <a:pt x="6524" y="13667"/>
                  <a:pt x="6524" y="13675"/>
                  <a:pt x="6524" y="13643"/>
                </a:cubicBezTo>
              </a:path>
              <a:path w="3548" h="3945">
                <a:moveTo>
                  <a:pt x="6375" y="13469"/>
                </a:moveTo>
                <a:cubicBezTo>
                  <a:pt x="6432" y="13483"/>
                  <a:pt x="6479" y="13494"/>
                  <a:pt x="6548" y="13494"/>
                </a:cubicBezTo>
                <a:cubicBezTo>
                  <a:pt x="6599" y="13494"/>
                  <a:pt x="6635" y="13479"/>
                  <a:pt x="6648" y="13519"/>
                </a:cubicBezTo>
              </a:path>
              <a:path w="3548" h="3945">
                <a:moveTo>
                  <a:pt x="7020" y="13246"/>
                </a:moveTo>
                <a:cubicBezTo>
                  <a:pt x="7040" y="13306"/>
                  <a:pt x="7032" y="13355"/>
                  <a:pt x="7020" y="13444"/>
                </a:cubicBezTo>
                <a:cubicBezTo>
                  <a:pt x="7020" y="13461"/>
                  <a:pt x="7020" y="13477"/>
                  <a:pt x="7020" y="13494"/>
                </a:cubicBezTo>
                <a:cubicBezTo>
                  <a:pt x="7113" y="13494"/>
                  <a:pt x="7201" y="13475"/>
                  <a:pt x="7293" y="13469"/>
                </a:cubicBezTo>
                <a:cubicBezTo>
                  <a:pt x="7301" y="13469"/>
                  <a:pt x="7309" y="13469"/>
                  <a:pt x="7317" y="13469"/>
                </a:cubicBezTo>
              </a:path>
              <a:path w="3548" h="3945">
                <a:moveTo>
                  <a:pt x="7317" y="13072"/>
                </a:moveTo>
                <a:cubicBezTo>
                  <a:pt x="7295" y="13228"/>
                  <a:pt x="7256" y="13385"/>
                  <a:pt x="7243" y="13543"/>
                </a:cubicBezTo>
                <a:cubicBezTo>
                  <a:pt x="7243" y="13636"/>
                  <a:pt x="7245" y="13662"/>
                  <a:pt x="7218" y="13717"/>
                </a:cubicBezTo>
              </a:path>
              <a:path w="3548" h="3945">
                <a:moveTo>
                  <a:pt x="4564" y="13643"/>
                </a:moveTo>
                <a:cubicBezTo>
                  <a:pt x="4664" y="13659"/>
                  <a:pt x="4711" y="13667"/>
                  <a:pt x="4812" y="13643"/>
                </a:cubicBezTo>
              </a:path>
              <a:path w="3548" h="3945">
                <a:moveTo>
                  <a:pt x="5135" y="13295"/>
                </a:moveTo>
                <a:cubicBezTo>
                  <a:pt x="5254" y="13295"/>
                  <a:pt x="5306" y="13341"/>
                  <a:pt x="5333" y="13469"/>
                </a:cubicBezTo>
                <a:cubicBezTo>
                  <a:pt x="5372" y="13651"/>
                  <a:pt x="5192" y="13831"/>
                  <a:pt x="5035" y="13891"/>
                </a:cubicBezTo>
                <a:cubicBezTo>
                  <a:pt x="5010" y="13891"/>
                  <a:pt x="4986" y="13891"/>
                  <a:pt x="4961" y="13891"/>
                </a:cubicBezTo>
                <a:cubicBezTo>
                  <a:pt x="4946" y="13831"/>
                  <a:pt x="4957" y="13717"/>
                  <a:pt x="5060" y="13717"/>
                </a:cubicBezTo>
                <a:cubicBezTo>
                  <a:pt x="5138" y="13717"/>
                  <a:pt x="5185" y="13792"/>
                  <a:pt x="5234" y="13841"/>
                </a:cubicBezTo>
              </a:path>
              <a:path w="3548" h="3945">
                <a:moveTo>
                  <a:pt x="5705" y="13271"/>
                </a:moveTo>
                <a:cubicBezTo>
                  <a:pt x="5592" y="13285"/>
                  <a:pt x="5544" y="13347"/>
                  <a:pt x="5482" y="13444"/>
                </a:cubicBezTo>
                <a:cubicBezTo>
                  <a:pt x="5418" y="13545"/>
                  <a:pt x="5529" y="13587"/>
                  <a:pt x="5606" y="13643"/>
                </a:cubicBezTo>
                <a:cubicBezTo>
                  <a:pt x="5698" y="13710"/>
                  <a:pt x="5722" y="13813"/>
                  <a:pt x="5581" y="13841"/>
                </a:cubicBezTo>
                <a:cubicBezTo>
                  <a:pt x="5556" y="13841"/>
                  <a:pt x="5532" y="13841"/>
                  <a:pt x="5507" y="13841"/>
                </a:cubicBezTo>
                <a:cubicBezTo>
                  <a:pt x="5476" y="13656"/>
                  <a:pt x="5592" y="13602"/>
                  <a:pt x="5680" y="13444"/>
                </a:cubicBezTo>
                <a:cubicBezTo>
                  <a:pt x="5728" y="13358"/>
                  <a:pt x="5802" y="13264"/>
                  <a:pt x="5705" y="13295"/>
                </a:cubicBezTo>
              </a:path>
              <a:path w="3548" h="3945">
                <a:moveTo>
                  <a:pt x="5655" y="14114"/>
                </a:moveTo>
                <a:cubicBezTo>
                  <a:pt x="5640" y="14191"/>
                  <a:pt x="5631" y="14264"/>
                  <a:pt x="5606" y="14337"/>
                </a:cubicBezTo>
                <a:cubicBezTo>
                  <a:pt x="5715" y="14378"/>
                  <a:pt x="5798" y="14342"/>
                  <a:pt x="5928" y="14337"/>
                </a:cubicBezTo>
                <a:cubicBezTo>
                  <a:pt x="6251" y="14324"/>
                  <a:pt x="6574" y="14306"/>
                  <a:pt x="6896" y="14288"/>
                </a:cubicBezTo>
                <a:cubicBezTo>
                  <a:pt x="6929" y="14288"/>
                  <a:pt x="6962" y="14288"/>
                  <a:pt x="6995" y="14288"/>
                </a:cubicBezTo>
                <a:cubicBezTo>
                  <a:pt x="7006" y="14177"/>
                  <a:pt x="7032" y="14070"/>
                  <a:pt x="7069" y="13965"/>
                </a:cubicBezTo>
              </a:path>
              <a:path w="3548" h="3945">
                <a:moveTo>
                  <a:pt x="5755" y="15007"/>
                </a:moveTo>
                <a:cubicBezTo>
                  <a:pt x="5824" y="15030"/>
                  <a:pt x="5879" y="15032"/>
                  <a:pt x="5953" y="15032"/>
                </a:cubicBezTo>
              </a:path>
              <a:path w="3548" h="3945">
                <a:moveTo>
                  <a:pt x="6276" y="14734"/>
                </a:moveTo>
                <a:cubicBezTo>
                  <a:pt x="6388" y="14734"/>
                  <a:pt x="6506" y="14756"/>
                  <a:pt x="6548" y="14883"/>
                </a:cubicBezTo>
                <a:cubicBezTo>
                  <a:pt x="6609" y="15067"/>
                  <a:pt x="6435" y="15216"/>
                  <a:pt x="6276" y="15255"/>
                </a:cubicBezTo>
                <a:cubicBezTo>
                  <a:pt x="6193" y="15255"/>
                  <a:pt x="6159" y="15272"/>
                  <a:pt x="6176" y="15205"/>
                </a:cubicBezTo>
                <a:cubicBezTo>
                  <a:pt x="6250" y="15103"/>
                  <a:pt x="6289" y="15106"/>
                  <a:pt x="6400" y="15156"/>
                </a:cubicBezTo>
                <a:cubicBezTo>
                  <a:pt x="6462" y="15184"/>
                  <a:pt x="6474" y="15296"/>
                  <a:pt x="6474" y="15255"/>
                </a:cubicBezTo>
              </a:path>
              <a:path w="3548" h="3945">
                <a:moveTo>
                  <a:pt x="6648" y="14759"/>
                </a:moveTo>
                <a:cubicBezTo>
                  <a:pt x="6648" y="14808"/>
                  <a:pt x="6600" y="14945"/>
                  <a:pt x="6623" y="14982"/>
                </a:cubicBezTo>
                <a:cubicBezTo>
                  <a:pt x="6653" y="15030"/>
                  <a:pt x="6845" y="15019"/>
                  <a:pt x="6871" y="14982"/>
                </a:cubicBezTo>
                <a:cubicBezTo>
                  <a:pt x="6879" y="14957"/>
                  <a:pt x="6888" y="14933"/>
                  <a:pt x="6896" y="14908"/>
                </a:cubicBezTo>
              </a:path>
              <a:path w="3548" h="3945">
                <a:moveTo>
                  <a:pt x="6896" y="14709"/>
                </a:moveTo>
                <a:cubicBezTo>
                  <a:pt x="6879" y="14825"/>
                  <a:pt x="6885" y="14940"/>
                  <a:pt x="6871" y="15056"/>
                </a:cubicBezTo>
                <a:cubicBezTo>
                  <a:pt x="6860" y="15146"/>
                  <a:pt x="6846" y="15215"/>
                  <a:pt x="6846" y="15304"/>
                </a:cubicBezTo>
              </a:path>
              <a:path w="3548" h="3945">
                <a:moveTo>
                  <a:pt x="7268" y="14461"/>
                </a:moveTo>
                <a:cubicBezTo>
                  <a:pt x="7366" y="14461"/>
                  <a:pt x="7408" y="14487"/>
                  <a:pt x="7441" y="14610"/>
                </a:cubicBezTo>
                <a:cubicBezTo>
                  <a:pt x="7501" y="14834"/>
                  <a:pt x="7467" y="15169"/>
                  <a:pt x="7317" y="15354"/>
                </a:cubicBezTo>
                <a:cubicBezTo>
                  <a:pt x="7208" y="15488"/>
                  <a:pt x="7116" y="15460"/>
                  <a:pt x="6970" y="15453"/>
                </a:cubicBezTo>
              </a:path>
              <a:path w="3548" h="3945">
                <a:moveTo>
                  <a:pt x="5631" y="14461"/>
                </a:moveTo>
                <a:cubicBezTo>
                  <a:pt x="5536" y="14485"/>
                  <a:pt x="5471" y="14858"/>
                  <a:pt x="5457" y="14932"/>
                </a:cubicBezTo>
                <a:cubicBezTo>
                  <a:pt x="5408" y="15184"/>
                  <a:pt x="5423" y="15386"/>
                  <a:pt x="5655" y="15528"/>
                </a:cubicBezTo>
                <a:cubicBezTo>
                  <a:pt x="5722" y="15550"/>
                  <a:pt x="5740" y="15555"/>
                  <a:pt x="5779" y="15577"/>
                </a:cubicBezTo>
              </a:path>
              <a:path w="3548" h="3945">
                <a:moveTo>
                  <a:pt x="7813" y="14784"/>
                </a:moveTo>
                <a:cubicBezTo>
                  <a:pt x="7833" y="14754"/>
                  <a:pt x="7907" y="14748"/>
                  <a:pt x="7962" y="14759"/>
                </a:cubicBezTo>
                <a:cubicBezTo>
                  <a:pt x="8135" y="14794"/>
                  <a:pt x="8029" y="14918"/>
                  <a:pt x="7962" y="15007"/>
                </a:cubicBezTo>
                <a:cubicBezTo>
                  <a:pt x="7886" y="15109"/>
                  <a:pt x="7806" y="15172"/>
                  <a:pt x="7714" y="15255"/>
                </a:cubicBezTo>
                <a:cubicBezTo>
                  <a:pt x="7798" y="15255"/>
                  <a:pt x="7881" y="15228"/>
                  <a:pt x="7962" y="15205"/>
                </a:cubicBezTo>
                <a:cubicBezTo>
                  <a:pt x="8048" y="15180"/>
                  <a:pt x="8036" y="15190"/>
                  <a:pt x="8111" y="15205"/>
                </a:cubicBezTo>
              </a:path>
              <a:path w="3548" h="3945">
                <a:moveTo>
                  <a:pt x="6573" y="16024"/>
                </a:moveTo>
                <a:cubicBezTo>
                  <a:pt x="6564" y="16075"/>
                  <a:pt x="6548" y="16120"/>
                  <a:pt x="6548" y="16173"/>
                </a:cubicBezTo>
                <a:cubicBezTo>
                  <a:pt x="6662" y="16155"/>
                  <a:pt x="6759" y="16103"/>
                  <a:pt x="6871" y="16073"/>
                </a:cubicBezTo>
                <a:cubicBezTo>
                  <a:pt x="6879" y="16073"/>
                  <a:pt x="6888" y="16073"/>
                  <a:pt x="6896" y="16073"/>
                </a:cubicBezTo>
              </a:path>
              <a:path w="3548" h="3945">
                <a:moveTo>
                  <a:pt x="6846" y="15949"/>
                </a:moveTo>
                <a:cubicBezTo>
                  <a:pt x="6832" y="16098"/>
                  <a:pt x="6801" y="16248"/>
                  <a:pt x="6772" y="16396"/>
                </a:cubicBezTo>
                <a:cubicBezTo>
                  <a:pt x="6760" y="16458"/>
                  <a:pt x="6698" y="16619"/>
                  <a:pt x="6772" y="16520"/>
                </a:cubicBezTo>
              </a:path>
              <a:path w="3548" h="3945">
                <a:moveTo>
                  <a:pt x="7218" y="16049"/>
                </a:moveTo>
                <a:cubicBezTo>
                  <a:pt x="7178" y="16128"/>
                  <a:pt x="7098" y="16102"/>
                  <a:pt x="7020" y="16123"/>
                </a:cubicBezTo>
                <a:cubicBezTo>
                  <a:pt x="6979" y="16143"/>
                  <a:pt x="6963" y="16141"/>
                  <a:pt x="6970" y="16173"/>
                </a:cubicBezTo>
                <a:cubicBezTo>
                  <a:pt x="7016" y="16309"/>
                  <a:pt x="7123" y="16280"/>
                  <a:pt x="7218" y="16371"/>
                </a:cubicBezTo>
                <a:cubicBezTo>
                  <a:pt x="7318" y="16466"/>
                  <a:pt x="7120" y="16503"/>
                  <a:pt x="7069" y="16520"/>
                </a:cubicBezTo>
                <a:cubicBezTo>
                  <a:pt x="6965" y="16433"/>
                  <a:pt x="7081" y="16329"/>
                  <a:pt x="7144" y="16222"/>
                </a:cubicBezTo>
                <a:cubicBezTo>
                  <a:pt x="7224" y="16086"/>
                  <a:pt x="7296" y="16002"/>
                  <a:pt x="7119" y="16098"/>
                </a:cubicBezTo>
              </a:path>
              <a:path w="3548" h="3945">
                <a:moveTo>
                  <a:pt x="6028" y="16272"/>
                </a:moveTo>
                <a:cubicBezTo>
                  <a:pt x="6096" y="16290"/>
                  <a:pt x="6088" y="16318"/>
                  <a:pt x="6176" y="16321"/>
                </a:cubicBezTo>
                <a:cubicBezTo>
                  <a:pt x="6234" y="16323"/>
                  <a:pt x="6292" y="16321"/>
                  <a:pt x="6350" y="16321"/>
                </a:cubicBezTo>
              </a:path>
              <a:path w="3548" h="3945">
                <a:moveTo>
                  <a:pt x="5928" y="16694"/>
                </a:moveTo>
                <a:cubicBezTo>
                  <a:pt x="5960" y="16738"/>
                  <a:pt x="5999" y="16779"/>
                  <a:pt x="6052" y="16818"/>
                </a:cubicBezTo>
                <a:cubicBezTo>
                  <a:pt x="6154" y="16893"/>
                  <a:pt x="6278" y="16959"/>
                  <a:pt x="6400" y="16991"/>
                </a:cubicBezTo>
                <a:cubicBezTo>
                  <a:pt x="6595" y="17042"/>
                  <a:pt x="6775" y="17003"/>
                  <a:pt x="6970" y="16991"/>
                </a:cubicBezTo>
                <a:cubicBezTo>
                  <a:pt x="7148" y="16980"/>
                  <a:pt x="7374" y="16966"/>
                  <a:pt x="7541" y="16892"/>
                </a:cubicBezTo>
                <a:cubicBezTo>
                  <a:pt x="7636" y="16850"/>
                  <a:pt x="7764" y="16761"/>
                  <a:pt x="7813" y="16669"/>
                </a:cubicBezTo>
                <a:cubicBezTo>
                  <a:pt x="7871" y="16561"/>
                  <a:pt x="7865" y="16487"/>
                  <a:pt x="7838" y="16371"/>
                </a:cubicBezTo>
                <a:cubicBezTo>
                  <a:pt x="7814" y="16269"/>
                  <a:pt x="7788" y="16133"/>
                  <a:pt x="7689" y="16073"/>
                </a:cubicBezTo>
                <a:cubicBezTo>
                  <a:pt x="7582" y="16008"/>
                  <a:pt x="7437" y="15959"/>
                  <a:pt x="7317" y="15925"/>
                </a:cubicBezTo>
                <a:cubicBezTo>
                  <a:pt x="7164" y="15881"/>
                  <a:pt x="6980" y="15879"/>
                  <a:pt x="6821" y="15875"/>
                </a:cubicBezTo>
                <a:cubicBezTo>
                  <a:pt x="6651" y="15871"/>
                  <a:pt x="6492" y="15887"/>
                  <a:pt x="6325" y="15900"/>
                </a:cubicBezTo>
                <a:cubicBezTo>
                  <a:pt x="6217" y="15908"/>
                  <a:pt x="6075" y="15912"/>
                  <a:pt x="5978" y="15974"/>
                </a:cubicBezTo>
                <a:cubicBezTo>
                  <a:pt x="5919" y="16012"/>
                  <a:pt x="5868" y="16096"/>
                  <a:pt x="5854" y="16148"/>
                </a:cubicBezTo>
                <a:cubicBezTo>
                  <a:pt x="5818" y="16286"/>
                  <a:pt x="5799" y="16405"/>
                  <a:pt x="5829" y="16545"/>
                </a:cubicBezTo>
                <a:cubicBezTo>
                  <a:pt x="5855" y="16668"/>
                  <a:pt x="5894" y="16712"/>
                  <a:pt x="6003" y="16768"/>
                </a:cubicBezTo>
                <a:cubicBezTo>
                  <a:pt x="6103" y="16820"/>
                  <a:pt x="6213" y="16836"/>
                  <a:pt x="6325" y="16842"/>
                </a:cubicBezTo>
                <a:cubicBezTo>
                  <a:pt x="6366" y="16844"/>
                  <a:pt x="6408" y="16842"/>
                  <a:pt x="6449" y="16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5: Expressions, Equations and Integer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 6.7: Simplify numeric expressions using the properties of addition and subtra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bjective: Simplify numeric expressions using the properties of multiplication and ad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ocabulary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Distributive property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You can multiply a number and a sum by multiplying the number by each part of the sum and then adding these produc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054080" y="3821040"/>
            <a:ext cx="6429240" cy="1644840"/>
          </a:xfrm>
          <a:custGeom>
            <a:avLst/>
            <a:gdLst/>
            <a:ahLst/>
            <a:rect l="l" t="t" r="r" b="b"/>
            <a:pathLst>
              <a:path w="17860" h="4565">
                <a:moveTo>
                  <a:pt x="3274" y="10641"/>
                </a:moveTo>
                <a:cubicBezTo>
                  <a:pt x="3282" y="10633"/>
                  <a:pt x="3291" y="10624"/>
                  <a:pt x="3299" y="10616"/>
                </a:cubicBezTo>
              </a:path>
              <a:path w="17860" h="4565">
                <a:moveTo>
                  <a:pt x="2927" y="13047"/>
                </a:moveTo>
                <a:cubicBezTo>
                  <a:pt x="2927" y="13064"/>
                  <a:pt x="2927" y="13080"/>
                  <a:pt x="2927" y="13097"/>
                </a:cubicBezTo>
              </a:path>
              <a:path w="17860" h="4565">
                <a:moveTo>
                  <a:pt x="18703" y="13097"/>
                </a:moveTo>
                <a:cubicBezTo>
                  <a:pt x="18573" y="13327"/>
                  <a:pt x="18504" y="13572"/>
                  <a:pt x="18504" y="13841"/>
                </a:cubicBezTo>
                <a:cubicBezTo>
                  <a:pt x="18504" y="14048"/>
                  <a:pt x="18560" y="14194"/>
                  <a:pt x="18752" y="14114"/>
                </a:cubicBezTo>
              </a:path>
              <a:path w="17860" h="4565">
                <a:moveTo>
                  <a:pt x="19521" y="13469"/>
                </a:moveTo>
                <a:cubicBezTo>
                  <a:pt x="19616" y="13437"/>
                  <a:pt x="19718" y="13425"/>
                  <a:pt x="19819" y="13395"/>
                </a:cubicBezTo>
              </a:path>
              <a:path w="17860" h="4565">
                <a:moveTo>
                  <a:pt x="20340" y="13072"/>
                </a:moveTo>
                <a:cubicBezTo>
                  <a:pt x="20604" y="13242"/>
                  <a:pt x="20831" y="13361"/>
                  <a:pt x="20762" y="13717"/>
                </a:cubicBezTo>
                <a:cubicBezTo>
                  <a:pt x="20730" y="13882"/>
                  <a:pt x="20603" y="14088"/>
                  <a:pt x="20439" y="14064"/>
                </a:cubicBezTo>
              </a:path>
              <a:path w="17860" h="4565">
                <a:moveTo>
                  <a:pt x="18951" y="14312"/>
                </a:moveTo>
                <a:cubicBezTo>
                  <a:pt x="18888" y="14563"/>
                  <a:pt x="18858" y="14841"/>
                  <a:pt x="19000" y="15081"/>
                </a:cubicBezTo>
                <a:cubicBezTo>
                  <a:pt x="19090" y="15170"/>
                  <a:pt x="19110" y="15203"/>
                  <a:pt x="19199" y="15180"/>
                </a:cubicBezTo>
              </a:path>
              <a:path w="17860" h="4565">
                <a:moveTo>
                  <a:pt x="20315" y="14114"/>
                </a:moveTo>
                <a:cubicBezTo>
                  <a:pt x="20465" y="14299"/>
                  <a:pt x="20581" y="14566"/>
                  <a:pt x="20513" y="14833"/>
                </a:cubicBezTo>
                <a:cubicBezTo>
                  <a:pt x="20475" y="14983"/>
                  <a:pt x="20359" y="15022"/>
                  <a:pt x="20241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03680" y="4170240"/>
            <a:ext cx="5108400" cy="125640"/>
          </a:xfrm>
          <a:custGeom>
            <a:avLst/>
            <a:gdLst/>
            <a:ahLst/>
            <a:rect l="l" t="t" r="r" b="b"/>
            <a:pathLst>
              <a:path w="14189" h="348">
                <a:moveTo>
                  <a:pt x="19943" y="11857"/>
                </a:moveTo>
                <a:cubicBezTo>
                  <a:pt x="20160" y="11792"/>
                  <a:pt x="20372" y="11730"/>
                  <a:pt x="20588" y="11658"/>
                </a:cubicBezTo>
              </a:path>
              <a:path w="14189" h="348">
                <a:moveTo>
                  <a:pt x="20588" y="11658"/>
                </a:moveTo>
                <a:lnTo>
                  <a:pt x="20588" y="11658"/>
                </a:lnTo>
              </a:path>
              <a:path w="14189" h="348">
                <a:moveTo>
                  <a:pt x="21977" y="11931"/>
                </a:moveTo>
                <a:lnTo>
                  <a:pt x="21977" y="11931"/>
                </a:lnTo>
              </a:path>
              <a:path w="14189" h="348">
                <a:moveTo>
                  <a:pt x="7789" y="11782"/>
                </a:moveTo>
                <a:cubicBezTo>
                  <a:pt x="7789" y="11774"/>
                  <a:pt x="7789" y="11765"/>
                  <a:pt x="7789" y="11757"/>
                </a:cubicBezTo>
              </a:path>
              <a:path w="14189" h="348">
                <a:moveTo>
                  <a:pt x="7789" y="11757"/>
                </a:moveTo>
                <a:lnTo>
                  <a:pt x="7789" y="11757"/>
                </a:lnTo>
              </a:path>
              <a:path w="14189" h="348">
                <a:moveTo>
                  <a:pt x="8806" y="11584"/>
                </a:moveTo>
                <a:lnTo>
                  <a:pt x="8806" y="11584"/>
                </a:lnTo>
                <a:lnTo>
                  <a:pt x="8806" y="11584"/>
                </a:lnTo>
              </a:path>
              <a:path w="14189" h="348">
                <a:moveTo>
                  <a:pt x="8806" y="11584"/>
                </a:moveTo>
                <a:lnTo>
                  <a:pt x="8806" y="11584"/>
                </a:lnTo>
              </a:path>
              <a:path w="14189" h="348">
                <a:moveTo>
                  <a:pt x="9971" y="11658"/>
                </a:moveTo>
                <a:cubicBezTo>
                  <a:pt x="9979" y="11658"/>
                  <a:pt x="9988" y="11658"/>
                  <a:pt x="9996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71840" y="4098960"/>
            <a:ext cx="1241280" cy="250920"/>
          </a:xfrm>
          <a:custGeom>
            <a:avLst/>
            <a:gdLst/>
            <a:ahLst/>
            <a:rect l="l" t="t" r="r" b="b"/>
            <a:pathLst>
              <a:path w="3449" h="696">
                <a:moveTo>
                  <a:pt x="7441" y="11609"/>
                </a:moveTo>
                <a:cubicBezTo>
                  <a:pt x="7423" y="11717"/>
                  <a:pt x="7416" y="11823"/>
                  <a:pt x="7392" y="11931"/>
                </a:cubicBezTo>
                <a:cubicBezTo>
                  <a:pt x="7373" y="12005"/>
                  <a:pt x="7365" y="12012"/>
                  <a:pt x="7367" y="12055"/>
                </a:cubicBezTo>
              </a:path>
              <a:path w="3449" h="696">
                <a:moveTo>
                  <a:pt x="7144" y="11559"/>
                </a:moveTo>
                <a:cubicBezTo>
                  <a:pt x="7311" y="11494"/>
                  <a:pt x="7500" y="11429"/>
                  <a:pt x="7615" y="11633"/>
                </a:cubicBezTo>
                <a:cubicBezTo>
                  <a:pt x="7685" y="11757"/>
                  <a:pt x="7612" y="11984"/>
                  <a:pt x="7491" y="12055"/>
                </a:cubicBezTo>
                <a:cubicBezTo>
                  <a:pt x="7437" y="12086"/>
                  <a:pt x="7375" y="12080"/>
                  <a:pt x="7317" y="12080"/>
                </a:cubicBezTo>
              </a:path>
              <a:path w="3449" h="696">
                <a:moveTo>
                  <a:pt x="7739" y="11857"/>
                </a:moveTo>
                <a:cubicBezTo>
                  <a:pt x="7750" y="11919"/>
                  <a:pt x="7759" y="11980"/>
                  <a:pt x="7789" y="12030"/>
                </a:cubicBezTo>
              </a:path>
              <a:path w="3449" h="696">
                <a:moveTo>
                  <a:pt x="8037" y="11733"/>
                </a:moveTo>
                <a:cubicBezTo>
                  <a:pt x="7993" y="11754"/>
                  <a:pt x="7981" y="11757"/>
                  <a:pt x="7962" y="11782"/>
                </a:cubicBezTo>
                <a:cubicBezTo>
                  <a:pt x="8025" y="11798"/>
                  <a:pt x="8076" y="11794"/>
                  <a:pt x="8111" y="11857"/>
                </a:cubicBezTo>
                <a:cubicBezTo>
                  <a:pt x="8157" y="11940"/>
                  <a:pt x="8085" y="11947"/>
                  <a:pt x="8012" y="11981"/>
                </a:cubicBezTo>
                <a:cubicBezTo>
                  <a:pt x="7995" y="11989"/>
                  <a:pt x="7979" y="11997"/>
                  <a:pt x="7962" y="12005"/>
                </a:cubicBezTo>
              </a:path>
              <a:path w="3449" h="696">
                <a:moveTo>
                  <a:pt x="8285" y="11485"/>
                </a:moveTo>
                <a:cubicBezTo>
                  <a:pt x="8312" y="11589"/>
                  <a:pt x="8320" y="11692"/>
                  <a:pt x="8334" y="11807"/>
                </a:cubicBezTo>
                <a:cubicBezTo>
                  <a:pt x="8349" y="11929"/>
                  <a:pt x="8352" y="11925"/>
                  <a:pt x="8334" y="12030"/>
                </a:cubicBezTo>
              </a:path>
              <a:path w="3449" h="696">
                <a:moveTo>
                  <a:pt x="8136" y="11782"/>
                </a:moveTo>
                <a:cubicBezTo>
                  <a:pt x="8249" y="11751"/>
                  <a:pt x="8363" y="11757"/>
                  <a:pt x="8483" y="11757"/>
                </a:cubicBezTo>
                <a:cubicBezTo>
                  <a:pt x="8545" y="11757"/>
                  <a:pt x="8529" y="11769"/>
                  <a:pt x="8558" y="11807"/>
                </a:cubicBezTo>
                <a:cubicBezTo>
                  <a:pt x="8593" y="11852"/>
                  <a:pt x="8607" y="11969"/>
                  <a:pt x="8607" y="11931"/>
                </a:cubicBezTo>
                <a:cubicBezTo>
                  <a:pt x="8607" y="11874"/>
                  <a:pt x="8626" y="11775"/>
                  <a:pt x="8657" y="11733"/>
                </a:cubicBezTo>
                <a:cubicBezTo>
                  <a:pt x="8687" y="11692"/>
                  <a:pt x="8736" y="11708"/>
                  <a:pt x="8781" y="11708"/>
                </a:cubicBezTo>
                <a:cubicBezTo>
                  <a:pt x="8789" y="11708"/>
                  <a:pt x="8798" y="11708"/>
                  <a:pt x="8806" y="11708"/>
                </a:cubicBezTo>
                <a:cubicBezTo>
                  <a:pt x="8806" y="11798"/>
                  <a:pt x="8815" y="11869"/>
                  <a:pt x="8830" y="11956"/>
                </a:cubicBezTo>
                <a:cubicBezTo>
                  <a:pt x="8837" y="11999"/>
                  <a:pt x="8814" y="11992"/>
                  <a:pt x="8855" y="12005"/>
                </a:cubicBezTo>
              </a:path>
              <a:path w="3449" h="696">
                <a:moveTo>
                  <a:pt x="8979" y="11559"/>
                </a:moveTo>
                <a:cubicBezTo>
                  <a:pt x="8979" y="11513"/>
                  <a:pt x="9025" y="11772"/>
                  <a:pt x="9029" y="11807"/>
                </a:cubicBezTo>
                <a:cubicBezTo>
                  <a:pt x="9029" y="11892"/>
                  <a:pt x="9023" y="11912"/>
                  <a:pt x="9054" y="11956"/>
                </a:cubicBezTo>
                <a:cubicBezTo>
                  <a:pt x="9054" y="11901"/>
                  <a:pt x="9022" y="11813"/>
                  <a:pt x="9079" y="11782"/>
                </a:cubicBezTo>
                <a:cubicBezTo>
                  <a:pt x="9136" y="11751"/>
                  <a:pt x="9273" y="11795"/>
                  <a:pt x="9252" y="11881"/>
                </a:cubicBezTo>
                <a:cubicBezTo>
                  <a:pt x="9234" y="11955"/>
                  <a:pt x="9091" y="12012"/>
                  <a:pt x="9029" y="12030"/>
                </a:cubicBezTo>
                <a:cubicBezTo>
                  <a:pt x="9021" y="12030"/>
                  <a:pt x="9012" y="12030"/>
                  <a:pt x="9004" y="12030"/>
                </a:cubicBezTo>
              </a:path>
              <a:path w="3449" h="696">
                <a:moveTo>
                  <a:pt x="9351" y="11757"/>
                </a:moveTo>
                <a:cubicBezTo>
                  <a:pt x="9363" y="11827"/>
                  <a:pt x="9376" y="11884"/>
                  <a:pt x="9376" y="11956"/>
                </a:cubicBezTo>
                <a:cubicBezTo>
                  <a:pt x="9465" y="11956"/>
                  <a:pt x="9506" y="11932"/>
                  <a:pt x="9525" y="11832"/>
                </a:cubicBezTo>
                <a:cubicBezTo>
                  <a:pt x="9540" y="11752"/>
                  <a:pt x="9497" y="11660"/>
                  <a:pt x="9525" y="11782"/>
                </a:cubicBezTo>
                <a:cubicBezTo>
                  <a:pt x="9547" y="11847"/>
                  <a:pt x="9555" y="11862"/>
                  <a:pt x="9550" y="11906"/>
                </a:cubicBezTo>
              </a:path>
              <a:path w="3449" h="696">
                <a:moveTo>
                  <a:pt x="9773" y="11385"/>
                </a:moveTo>
                <a:cubicBezTo>
                  <a:pt x="9787" y="11527"/>
                  <a:pt x="9798" y="11662"/>
                  <a:pt x="9798" y="11807"/>
                </a:cubicBezTo>
                <a:cubicBezTo>
                  <a:pt x="9798" y="11865"/>
                  <a:pt x="9798" y="11939"/>
                  <a:pt x="9798" y="11881"/>
                </a:cubicBezTo>
              </a:path>
              <a:path w="3449" h="696">
                <a:moveTo>
                  <a:pt x="9599" y="11683"/>
                </a:moveTo>
                <a:cubicBezTo>
                  <a:pt x="9684" y="11683"/>
                  <a:pt x="9766" y="11674"/>
                  <a:pt x="9847" y="11708"/>
                </a:cubicBezTo>
                <a:cubicBezTo>
                  <a:pt x="9936" y="11745"/>
                  <a:pt x="9949" y="11773"/>
                  <a:pt x="9971" y="11832"/>
                </a:cubicBezTo>
                <a:cubicBezTo>
                  <a:pt x="9990" y="11883"/>
                  <a:pt x="9996" y="11882"/>
                  <a:pt x="9996" y="11931"/>
                </a:cubicBezTo>
              </a:path>
              <a:path w="3449" h="696">
                <a:moveTo>
                  <a:pt x="10120" y="11683"/>
                </a:moveTo>
                <a:cubicBezTo>
                  <a:pt x="10169" y="11780"/>
                  <a:pt x="10228" y="11882"/>
                  <a:pt x="10269" y="11981"/>
                </a:cubicBezTo>
                <a:cubicBezTo>
                  <a:pt x="10269" y="12005"/>
                  <a:pt x="10269" y="12013"/>
                  <a:pt x="10294" y="12005"/>
                </a:cubicBezTo>
                <a:cubicBezTo>
                  <a:pt x="10330" y="11912"/>
                  <a:pt x="10364" y="11813"/>
                  <a:pt x="10418" y="11733"/>
                </a:cubicBezTo>
              </a:path>
              <a:path w="3449" h="696">
                <a:moveTo>
                  <a:pt x="10492" y="11857"/>
                </a:moveTo>
                <a:cubicBezTo>
                  <a:pt x="10526" y="11849"/>
                  <a:pt x="10582" y="11800"/>
                  <a:pt x="10592" y="11782"/>
                </a:cubicBezTo>
                <a:cubicBezTo>
                  <a:pt x="10592" y="11774"/>
                  <a:pt x="10592" y="11765"/>
                  <a:pt x="10592" y="11757"/>
                </a:cubicBezTo>
                <a:cubicBezTo>
                  <a:pt x="10482" y="11769"/>
                  <a:pt x="10441" y="11788"/>
                  <a:pt x="10418" y="11906"/>
                </a:cubicBezTo>
                <a:cubicBezTo>
                  <a:pt x="10392" y="12043"/>
                  <a:pt x="10550" y="11954"/>
                  <a:pt x="10592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6240" y="4152960"/>
            <a:ext cx="831960" cy="339840"/>
          </a:xfrm>
          <a:custGeom>
            <a:avLst/>
            <a:gdLst/>
            <a:ahLst/>
            <a:rect l="l" t="t" r="r" b="b"/>
            <a:pathLst>
              <a:path w="2308" h="944">
                <a:moveTo>
                  <a:pt x="11460" y="11708"/>
                </a:moveTo>
                <a:cubicBezTo>
                  <a:pt x="11467" y="11802"/>
                  <a:pt x="11457" y="11943"/>
                  <a:pt x="11485" y="12030"/>
                </a:cubicBezTo>
                <a:cubicBezTo>
                  <a:pt x="11493" y="12038"/>
                  <a:pt x="11501" y="12047"/>
                  <a:pt x="11509" y="12055"/>
                </a:cubicBezTo>
                <a:cubicBezTo>
                  <a:pt x="11445" y="11973"/>
                  <a:pt x="11435" y="11835"/>
                  <a:pt x="11460" y="11733"/>
                </a:cubicBezTo>
                <a:cubicBezTo>
                  <a:pt x="11493" y="11598"/>
                  <a:pt x="11550" y="11580"/>
                  <a:pt x="11658" y="11534"/>
                </a:cubicBezTo>
                <a:cubicBezTo>
                  <a:pt x="11697" y="11630"/>
                  <a:pt x="11767" y="11785"/>
                  <a:pt x="11609" y="11832"/>
                </a:cubicBezTo>
                <a:cubicBezTo>
                  <a:pt x="11527" y="11857"/>
                  <a:pt x="11317" y="11801"/>
                  <a:pt x="11559" y="11782"/>
                </a:cubicBezTo>
              </a:path>
              <a:path w="2308" h="944">
                <a:moveTo>
                  <a:pt x="11757" y="11881"/>
                </a:moveTo>
                <a:cubicBezTo>
                  <a:pt x="11742" y="11958"/>
                  <a:pt x="11733" y="12022"/>
                  <a:pt x="11733" y="12105"/>
                </a:cubicBezTo>
                <a:cubicBezTo>
                  <a:pt x="11781" y="12072"/>
                  <a:pt x="11749" y="11955"/>
                  <a:pt x="11782" y="11881"/>
                </a:cubicBezTo>
                <a:cubicBezTo>
                  <a:pt x="11810" y="11820"/>
                  <a:pt x="11927" y="11810"/>
                  <a:pt x="11981" y="11807"/>
                </a:cubicBezTo>
                <a:cubicBezTo>
                  <a:pt x="11997" y="11807"/>
                  <a:pt x="12014" y="11807"/>
                  <a:pt x="12030" y="11807"/>
                </a:cubicBezTo>
                <a:cubicBezTo>
                  <a:pt x="12010" y="11879"/>
                  <a:pt x="11926" y="11999"/>
                  <a:pt x="11931" y="12080"/>
                </a:cubicBezTo>
                <a:cubicBezTo>
                  <a:pt x="11939" y="12088"/>
                  <a:pt x="11948" y="12097"/>
                  <a:pt x="11956" y="12105"/>
                </a:cubicBezTo>
                <a:cubicBezTo>
                  <a:pt x="12099" y="12128"/>
                  <a:pt x="12156" y="12092"/>
                  <a:pt x="12179" y="11931"/>
                </a:cubicBezTo>
                <a:cubicBezTo>
                  <a:pt x="12186" y="11885"/>
                  <a:pt x="12143" y="11731"/>
                  <a:pt x="12055" y="11782"/>
                </a:cubicBezTo>
                <a:cubicBezTo>
                  <a:pt x="12055" y="11790"/>
                  <a:pt x="12055" y="11799"/>
                  <a:pt x="12055" y="11807"/>
                </a:cubicBezTo>
              </a:path>
              <a:path w="2308" h="944">
                <a:moveTo>
                  <a:pt x="12378" y="11881"/>
                </a:moveTo>
                <a:cubicBezTo>
                  <a:pt x="12387" y="12023"/>
                  <a:pt x="12414" y="12162"/>
                  <a:pt x="12427" y="12303"/>
                </a:cubicBezTo>
                <a:cubicBezTo>
                  <a:pt x="12427" y="12361"/>
                  <a:pt x="12444" y="12386"/>
                  <a:pt x="12402" y="12378"/>
                </a:cubicBezTo>
                <a:cubicBezTo>
                  <a:pt x="12357" y="12263"/>
                  <a:pt x="12300" y="12063"/>
                  <a:pt x="12402" y="11956"/>
                </a:cubicBezTo>
                <a:cubicBezTo>
                  <a:pt x="12474" y="11880"/>
                  <a:pt x="12521" y="11904"/>
                  <a:pt x="12601" y="11931"/>
                </a:cubicBezTo>
                <a:cubicBezTo>
                  <a:pt x="12620" y="12046"/>
                  <a:pt x="12626" y="12134"/>
                  <a:pt x="12502" y="12179"/>
                </a:cubicBezTo>
                <a:cubicBezTo>
                  <a:pt x="12412" y="12212"/>
                  <a:pt x="12296" y="12225"/>
                  <a:pt x="12328" y="12129"/>
                </a:cubicBezTo>
              </a:path>
              <a:path w="2308" h="944">
                <a:moveTo>
                  <a:pt x="12700" y="12030"/>
                </a:moveTo>
                <a:cubicBezTo>
                  <a:pt x="12761" y="12030"/>
                  <a:pt x="12787" y="12022"/>
                  <a:pt x="12849" y="12005"/>
                </a:cubicBezTo>
                <a:cubicBezTo>
                  <a:pt x="12841" y="11982"/>
                  <a:pt x="12769" y="11909"/>
                  <a:pt x="12725" y="11931"/>
                </a:cubicBezTo>
                <a:cubicBezTo>
                  <a:pt x="12683" y="11952"/>
                  <a:pt x="12692" y="12119"/>
                  <a:pt x="12725" y="12154"/>
                </a:cubicBezTo>
                <a:cubicBezTo>
                  <a:pt x="12779" y="12213"/>
                  <a:pt x="12859" y="12175"/>
                  <a:pt x="12898" y="12129"/>
                </a:cubicBezTo>
                <a:cubicBezTo>
                  <a:pt x="12972" y="12043"/>
                  <a:pt x="12927" y="11999"/>
                  <a:pt x="12973" y="12105"/>
                </a:cubicBezTo>
                <a:cubicBezTo>
                  <a:pt x="12973" y="12154"/>
                  <a:pt x="12963" y="12053"/>
                  <a:pt x="12973" y="12005"/>
                </a:cubicBezTo>
                <a:cubicBezTo>
                  <a:pt x="12993" y="11907"/>
                  <a:pt x="13010" y="11929"/>
                  <a:pt x="13072" y="11906"/>
                </a:cubicBezTo>
                <a:cubicBezTo>
                  <a:pt x="13089" y="11898"/>
                  <a:pt x="13105" y="11889"/>
                  <a:pt x="13122" y="11881"/>
                </a:cubicBezTo>
              </a:path>
              <a:path w="2308" h="944">
                <a:moveTo>
                  <a:pt x="13295" y="11683"/>
                </a:moveTo>
                <a:cubicBezTo>
                  <a:pt x="13310" y="11789"/>
                  <a:pt x="13303" y="11901"/>
                  <a:pt x="13320" y="12005"/>
                </a:cubicBezTo>
                <a:cubicBezTo>
                  <a:pt x="13329" y="12060"/>
                  <a:pt x="13360" y="12125"/>
                  <a:pt x="13419" y="12129"/>
                </a:cubicBezTo>
                <a:cubicBezTo>
                  <a:pt x="13505" y="12135"/>
                  <a:pt x="13503" y="12094"/>
                  <a:pt x="13519" y="12030"/>
                </a:cubicBezTo>
              </a:path>
              <a:path w="2308" h="944">
                <a:moveTo>
                  <a:pt x="13171" y="11857"/>
                </a:moveTo>
                <a:cubicBezTo>
                  <a:pt x="13259" y="11857"/>
                  <a:pt x="13337" y="11869"/>
                  <a:pt x="13419" y="11881"/>
                </a:cubicBezTo>
                <a:cubicBezTo>
                  <a:pt x="13461" y="11881"/>
                  <a:pt x="13469" y="11881"/>
                  <a:pt x="13494" y="11881"/>
                </a:cubicBezTo>
                <a:cubicBezTo>
                  <a:pt x="13541" y="11944"/>
                  <a:pt x="13498" y="12006"/>
                  <a:pt x="13519" y="12080"/>
                </a:cubicBezTo>
                <a:cubicBezTo>
                  <a:pt x="13542" y="12162"/>
                  <a:pt x="13691" y="12091"/>
                  <a:pt x="13717" y="12055"/>
                </a:cubicBezTo>
                <a:cubicBezTo>
                  <a:pt x="13724" y="12045"/>
                  <a:pt x="13717" y="11994"/>
                  <a:pt x="13717" y="11981"/>
                </a:cubicBezTo>
                <a:cubicBezTo>
                  <a:pt x="13717" y="12055"/>
                  <a:pt x="13755" y="12194"/>
                  <a:pt x="13742" y="12254"/>
                </a:cubicBezTo>
                <a:cubicBezTo>
                  <a:pt x="13717" y="12370"/>
                  <a:pt x="13567" y="12496"/>
                  <a:pt x="13444" y="12477"/>
                </a:cubicBezTo>
                <a:cubicBezTo>
                  <a:pt x="13370" y="12427"/>
                  <a:pt x="13345" y="12410"/>
                  <a:pt x="13320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6760" y="4259160"/>
            <a:ext cx="733320" cy="285840"/>
          </a:xfrm>
          <a:custGeom>
            <a:avLst/>
            <a:gdLst/>
            <a:ahLst/>
            <a:rect l="l" t="t" r="r" b="b"/>
            <a:pathLst>
              <a:path w="2035" h="795">
                <a:moveTo>
                  <a:pt x="17239" y="12055"/>
                </a:moveTo>
                <a:cubicBezTo>
                  <a:pt x="17121" y="12079"/>
                  <a:pt x="17051" y="12220"/>
                  <a:pt x="17016" y="12328"/>
                </a:cubicBezTo>
                <a:cubicBezTo>
                  <a:pt x="16969" y="12471"/>
                  <a:pt x="16992" y="12520"/>
                  <a:pt x="17066" y="12626"/>
                </a:cubicBezTo>
                <a:cubicBezTo>
                  <a:pt x="17259" y="12546"/>
                  <a:pt x="17386" y="12484"/>
                  <a:pt x="17338" y="12254"/>
                </a:cubicBezTo>
                <a:cubicBezTo>
                  <a:pt x="17303" y="12090"/>
                  <a:pt x="17248" y="12083"/>
                  <a:pt x="17115" y="12105"/>
                </a:cubicBezTo>
              </a:path>
              <a:path w="2035" h="795">
                <a:moveTo>
                  <a:pt x="17512" y="12328"/>
                </a:moveTo>
                <a:cubicBezTo>
                  <a:pt x="17524" y="12386"/>
                  <a:pt x="17537" y="12511"/>
                  <a:pt x="17537" y="12452"/>
                </a:cubicBezTo>
                <a:cubicBezTo>
                  <a:pt x="17546" y="12332"/>
                  <a:pt x="17564" y="12196"/>
                  <a:pt x="17686" y="12129"/>
                </a:cubicBezTo>
                <a:cubicBezTo>
                  <a:pt x="17792" y="12103"/>
                  <a:pt x="17833" y="12095"/>
                  <a:pt x="17909" y="12105"/>
                </a:cubicBezTo>
              </a:path>
              <a:path w="2035" h="795">
                <a:moveTo>
                  <a:pt x="18231" y="12129"/>
                </a:moveTo>
                <a:cubicBezTo>
                  <a:pt x="18089" y="12069"/>
                  <a:pt x="17995" y="12118"/>
                  <a:pt x="17909" y="12254"/>
                </a:cubicBezTo>
                <a:cubicBezTo>
                  <a:pt x="17866" y="12360"/>
                  <a:pt x="17850" y="12381"/>
                  <a:pt x="17859" y="12452"/>
                </a:cubicBezTo>
                <a:cubicBezTo>
                  <a:pt x="18023" y="12464"/>
                  <a:pt x="18176" y="12391"/>
                  <a:pt x="18231" y="12204"/>
                </a:cubicBezTo>
                <a:cubicBezTo>
                  <a:pt x="18265" y="12089"/>
                  <a:pt x="18211" y="11919"/>
                  <a:pt x="18132" y="11857"/>
                </a:cubicBezTo>
                <a:cubicBezTo>
                  <a:pt x="18148" y="12019"/>
                  <a:pt x="18206" y="12173"/>
                  <a:pt x="18256" y="12328"/>
                </a:cubicBezTo>
                <a:cubicBezTo>
                  <a:pt x="18264" y="12353"/>
                  <a:pt x="18273" y="12377"/>
                  <a:pt x="18281" y="12402"/>
                </a:cubicBezTo>
              </a:path>
              <a:path w="2035" h="795">
                <a:moveTo>
                  <a:pt x="18380" y="12204"/>
                </a:moveTo>
                <a:cubicBezTo>
                  <a:pt x="18401" y="12188"/>
                  <a:pt x="18630" y="12008"/>
                  <a:pt x="18628" y="12005"/>
                </a:cubicBezTo>
                <a:cubicBezTo>
                  <a:pt x="18612" y="12005"/>
                  <a:pt x="18595" y="12005"/>
                  <a:pt x="18579" y="12005"/>
                </a:cubicBezTo>
                <a:cubicBezTo>
                  <a:pt x="18416" y="12124"/>
                  <a:pt x="18377" y="12195"/>
                  <a:pt x="18405" y="12402"/>
                </a:cubicBezTo>
                <a:cubicBezTo>
                  <a:pt x="18536" y="12416"/>
                  <a:pt x="18545" y="12373"/>
                  <a:pt x="18653" y="12278"/>
                </a:cubicBezTo>
              </a:path>
              <a:path w="2035" h="795">
                <a:moveTo>
                  <a:pt x="18752" y="12278"/>
                </a:moveTo>
                <a:cubicBezTo>
                  <a:pt x="18752" y="12320"/>
                  <a:pt x="18752" y="12345"/>
                  <a:pt x="18752" y="12303"/>
                </a:cubicBezTo>
                <a:cubicBezTo>
                  <a:pt x="18752" y="12150"/>
                  <a:pt x="18740" y="12044"/>
                  <a:pt x="18852" y="11931"/>
                </a:cubicBezTo>
                <a:cubicBezTo>
                  <a:pt x="18932" y="11877"/>
                  <a:pt x="18963" y="11857"/>
                  <a:pt x="19025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54920" y="4106880"/>
            <a:ext cx="214200" cy="314280"/>
          </a:xfrm>
          <a:custGeom>
            <a:avLst/>
            <a:gdLst/>
            <a:ahLst/>
            <a:rect l="l" t="t" r="r" b="b"/>
            <a:pathLst>
              <a:path w="596" h="869">
                <a:moveTo>
                  <a:pt x="19745" y="11782"/>
                </a:moveTo>
                <a:cubicBezTo>
                  <a:pt x="19648" y="11951"/>
                  <a:pt x="19612" y="12063"/>
                  <a:pt x="19621" y="12254"/>
                </a:cubicBezTo>
                <a:cubicBezTo>
                  <a:pt x="19800" y="12279"/>
                  <a:pt x="19938" y="12216"/>
                  <a:pt x="19968" y="12005"/>
                </a:cubicBezTo>
                <a:cubicBezTo>
                  <a:pt x="19988" y="11868"/>
                  <a:pt x="19813" y="11889"/>
                  <a:pt x="19745" y="11881"/>
                </a:cubicBezTo>
                <a:cubicBezTo>
                  <a:pt x="19702" y="11839"/>
                  <a:pt x="19716" y="11820"/>
                  <a:pt x="19819" y="11807"/>
                </a:cubicBezTo>
              </a:path>
              <a:path w="596" h="869">
                <a:moveTo>
                  <a:pt x="20191" y="11410"/>
                </a:moveTo>
                <a:cubicBezTo>
                  <a:pt x="20008" y="11603"/>
                  <a:pt x="19974" y="11705"/>
                  <a:pt x="20117" y="11956"/>
                </a:cubicBezTo>
                <a:cubicBezTo>
                  <a:pt x="20184" y="12074"/>
                  <a:pt x="20233" y="12055"/>
                  <a:pt x="20141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10320" y="4125960"/>
            <a:ext cx="357480" cy="339840"/>
          </a:xfrm>
          <a:custGeom>
            <a:avLst/>
            <a:gdLst/>
            <a:ahLst/>
            <a:rect l="l" t="t" r="r" b="b"/>
            <a:pathLst>
              <a:path w="993" h="943">
                <a:moveTo>
                  <a:pt x="21084" y="11460"/>
                </a:moveTo>
                <a:cubicBezTo>
                  <a:pt x="20930" y="11601"/>
                  <a:pt x="20830" y="11781"/>
                  <a:pt x="20861" y="12005"/>
                </a:cubicBezTo>
                <a:cubicBezTo>
                  <a:pt x="20877" y="12038"/>
                  <a:pt x="20894" y="12072"/>
                  <a:pt x="20910" y="12105"/>
                </a:cubicBezTo>
                <a:cubicBezTo>
                  <a:pt x="21107" y="12104"/>
                  <a:pt x="21395" y="12055"/>
                  <a:pt x="21406" y="11782"/>
                </a:cubicBezTo>
                <a:cubicBezTo>
                  <a:pt x="21414" y="11580"/>
                  <a:pt x="21102" y="11458"/>
                  <a:pt x="20960" y="11584"/>
                </a:cubicBezTo>
                <a:cubicBezTo>
                  <a:pt x="20943" y="11617"/>
                  <a:pt x="20927" y="11650"/>
                  <a:pt x="20910" y="11683"/>
                </a:cubicBezTo>
                <a:cubicBezTo>
                  <a:pt x="21028" y="11886"/>
                  <a:pt x="21127" y="11975"/>
                  <a:pt x="21382" y="11906"/>
                </a:cubicBezTo>
                <a:cubicBezTo>
                  <a:pt x="21415" y="11890"/>
                  <a:pt x="21448" y="11873"/>
                  <a:pt x="21481" y="11857"/>
                </a:cubicBezTo>
              </a:path>
              <a:path w="993" h="943">
                <a:moveTo>
                  <a:pt x="21605" y="11931"/>
                </a:moveTo>
                <a:cubicBezTo>
                  <a:pt x="21617" y="11997"/>
                  <a:pt x="21630" y="12147"/>
                  <a:pt x="21630" y="12080"/>
                </a:cubicBezTo>
              </a:path>
              <a:path w="993" h="943">
                <a:moveTo>
                  <a:pt x="21654" y="11956"/>
                </a:moveTo>
                <a:cubicBezTo>
                  <a:pt x="21627" y="12059"/>
                  <a:pt x="21630" y="12146"/>
                  <a:pt x="21630" y="12254"/>
                </a:cubicBezTo>
                <a:cubicBezTo>
                  <a:pt x="21630" y="12336"/>
                  <a:pt x="21630" y="12353"/>
                  <a:pt x="21630" y="12402"/>
                </a:cubicBezTo>
                <a:cubicBezTo>
                  <a:pt x="21562" y="12217"/>
                  <a:pt x="21538" y="12028"/>
                  <a:pt x="21580" y="11832"/>
                </a:cubicBezTo>
                <a:cubicBezTo>
                  <a:pt x="21624" y="11722"/>
                  <a:pt x="21629" y="11689"/>
                  <a:pt x="21704" y="11658"/>
                </a:cubicBezTo>
                <a:cubicBezTo>
                  <a:pt x="21825" y="11708"/>
                  <a:pt x="21942" y="11791"/>
                  <a:pt x="21803" y="11931"/>
                </a:cubicBezTo>
                <a:cubicBezTo>
                  <a:pt x="21712" y="12022"/>
                  <a:pt x="21526" y="12044"/>
                  <a:pt x="21406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1760" y="4340160"/>
            <a:ext cx="5322600" cy="339840"/>
          </a:xfrm>
          <a:custGeom>
            <a:avLst/>
            <a:gdLst/>
            <a:ahLst/>
            <a:rect l="l" t="t" r="r" b="b"/>
            <a:pathLst>
              <a:path w="14785" h="944">
                <a:moveTo>
                  <a:pt x="17264" y="12998"/>
                </a:moveTo>
                <a:cubicBezTo>
                  <a:pt x="17497" y="12911"/>
                  <a:pt x="17706" y="12889"/>
                  <a:pt x="17959" y="12849"/>
                </a:cubicBezTo>
                <a:cubicBezTo>
                  <a:pt x="19309" y="12633"/>
                  <a:pt x="20667" y="12553"/>
                  <a:pt x="22027" y="12427"/>
                </a:cubicBezTo>
                <a:cubicBezTo>
                  <a:pt x="22250" y="12408"/>
                  <a:pt x="22275" y="12400"/>
                  <a:pt x="22399" y="12402"/>
                </a:cubicBezTo>
              </a:path>
              <a:path w="14785" h="944">
                <a:moveTo>
                  <a:pt x="7615" y="12055"/>
                </a:moveTo>
                <a:cubicBezTo>
                  <a:pt x="7657" y="12062"/>
                  <a:pt x="7718" y="12072"/>
                  <a:pt x="7789" y="12080"/>
                </a:cubicBezTo>
                <a:cubicBezTo>
                  <a:pt x="7898" y="12092"/>
                  <a:pt x="8003" y="12110"/>
                  <a:pt x="8111" y="12129"/>
                </a:cubicBezTo>
                <a:cubicBezTo>
                  <a:pt x="8209" y="12146"/>
                  <a:pt x="8289" y="12176"/>
                  <a:pt x="8384" y="12204"/>
                </a:cubicBezTo>
                <a:cubicBezTo>
                  <a:pt x="8455" y="12225"/>
                  <a:pt x="8535" y="12238"/>
                  <a:pt x="8607" y="12254"/>
                </a:cubicBezTo>
                <a:cubicBezTo>
                  <a:pt x="8692" y="12273"/>
                  <a:pt x="8784" y="12268"/>
                  <a:pt x="8855" y="12278"/>
                </a:cubicBezTo>
                <a:cubicBezTo>
                  <a:pt x="8942" y="12290"/>
                  <a:pt x="8972" y="12271"/>
                  <a:pt x="9054" y="12278"/>
                </a:cubicBezTo>
                <a:cubicBezTo>
                  <a:pt x="9135" y="12285"/>
                  <a:pt x="9171" y="12283"/>
                  <a:pt x="9252" y="12278"/>
                </a:cubicBezTo>
                <a:cubicBezTo>
                  <a:pt x="9423" y="12268"/>
                  <a:pt x="9633" y="12247"/>
                  <a:pt x="9798" y="12254"/>
                </a:cubicBezTo>
                <a:cubicBezTo>
                  <a:pt x="9840" y="12256"/>
                  <a:pt x="9904" y="12257"/>
                  <a:pt x="9947" y="12254"/>
                </a:cubicBezTo>
                <a:cubicBezTo>
                  <a:pt x="9998" y="12251"/>
                  <a:pt x="10054" y="12256"/>
                  <a:pt x="10120" y="12254"/>
                </a:cubicBezTo>
                <a:cubicBezTo>
                  <a:pt x="10385" y="12247"/>
                  <a:pt x="10657" y="12246"/>
                  <a:pt x="10914" y="12229"/>
                </a:cubicBezTo>
                <a:cubicBezTo>
                  <a:pt x="10949" y="12227"/>
                  <a:pt x="11030" y="12231"/>
                  <a:pt x="11088" y="12229"/>
                </a:cubicBezTo>
                <a:cubicBezTo>
                  <a:pt x="11205" y="12226"/>
                  <a:pt x="11325" y="12211"/>
                  <a:pt x="11435" y="12204"/>
                </a:cubicBezTo>
                <a:cubicBezTo>
                  <a:pt x="11812" y="12179"/>
                  <a:pt x="12205" y="12206"/>
                  <a:pt x="12576" y="12229"/>
                </a:cubicBezTo>
                <a:cubicBezTo>
                  <a:pt x="12653" y="12234"/>
                  <a:pt x="12738" y="12218"/>
                  <a:pt x="12824" y="12229"/>
                </a:cubicBezTo>
                <a:cubicBezTo>
                  <a:pt x="12865" y="12234"/>
                  <a:pt x="12907" y="12245"/>
                  <a:pt x="12948" y="12254"/>
                </a:cubicBezTo>
                <a:cubicBezTo>
                  <a:pt x="13017" y="12269"/>
                  <a:pt x="13074" y="12297"/>
                  <a:pt x="13146" y="12303"/>
                </a:cubicBezTo>
                <a:cubicBezTo>
                  <a:pt x="13216" y="12309"/>
                  <a:pt x="13314" y="12324"/>
                  <a:pt x="13370" y="12328"/>
                </a:cubicBezTo>
                <a:cubicBezTo>
                  <a:pt x="13425" y="12332"/>
                  <a:pt x="13452" y="12345"/>
                  <a:pt x="13494" y="12353"/>
                </a:cubicBezTo>
                <a:cubicBezTo>
                  <a:pt x="13546" y="12363"/>
                  <a:pt x="13592" y="12365"/>
                  <a:pt x="13643" y="12378"/>
                </a:cubicBezTo>
                <a:cubicBezTo>
                  <a:pt x="13667" y="12378"/>
                  <a:pt x="13675" y="12378"/>
                  <a:pt x="13643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57280" y="4572000"/>
            <a:ext cx="2492640" cy="1098720"/>
          </a:xfrm>
          <a:custGeom>
            <a:avLst/>
            <a:gdLst/>
            <a:ahLst/>
            <a:rect l="l" t="t" r="r" b="b"/>
            <a:pathLst>
              <a:path w="6922" h="3052">
                <a:moveTo>
                  <a:pt x="6548" y="12700"/>
                </a:moveTo>
                <a:cubicBezTo>
                  <a:pt x="6548" y="12735"/>
                  <a:pt x="6553" y="12752"/>
                  <a:pt x="6573" y="12774"/>
                </a:cubicBezTo>
              </a:path>
              <a:path w="6922" h="3052">
                <a:moveTo>
                  <a:pt x="6573" y="12973"/>
                </a:moveTo>
                <a:cubicBezTo>
                  <a:pt x="6573" y="12981"/>
                  <a:pt x="6573" y="12990"/>
                  <a:pt x="6573" y="12998"/>
                </a:cubicBezTo>
              </a:path>
              <a:path w="6922" h="3052">
                <a:moveTo>
                  <a:pt x="11212" y="13791"/>
                </a:moveTo>
                <a:cubicBezTo>
                  <a:pt x="11304" y="13755"/>
                  <a:pt x="11395" y="13747"/>
                  <a:pt x="11485" y="13717"/>
                </a:cubicBezTo>
              </a:path>
              <a:path w="6922" h="3052">
                <a:moveTo>
                  <a:pt x="13146" y="14635"/>
                </a:moveTo>
                <a:cubicBezTo>
                  <a:pt x="13302" y="14712"/>
                  <a:pt x="13437" y="14943"/>
                  <a:pt x="13469" y="15131"/>
                </a:cubicBezTo>
                <a:cubicBezTo>
                  <a:pt x="13509" y="15367"/>
                  <a:pt x="13443" y="15562"/>
                  <a:pt x="13320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9960" y="4384800"/>
            <a:ext cx="2946240" cy="2108160"/>
          </a:xfrm>
          <a:custGeom>
            <a:avLst/>
            <a:gdLst/>
            <a:ahLst/>
            <a:rect l="l" t="t" r="r" b="b"/>
            <a:pathLst>
              <a:path w="8186" h="5855">
                <a:moveTo>
                  <a:pt x="5308" y="12799"/>
                </a:moveTo>
                <a:cubicBezTo>
                  <a:pt x="5357" y="12946"/>
                  <a:pt x="5344" y="13017"/>
                  <a:pt x="5308" y="13171"/>
                </a:cubicBezTo>
                <a:cubicBezTo>
                  <a:pt x="5289" y="13245"/>
                  <a:pt x="5281" y="13252"/>
                  <a:pt x="5283" y="13295"/>
                </a:cubicBezTo>
                <a:cubicBezTo>
                  <a:pt x="5411" y="13295"/>
                  <a:pt x="5510" y="13276"/>
                  <a:pt x="5631" y="13246"/>
                </a:cubicBezTo>
                <a:cubicBezTo>
                  <a:pt x="5639" y="13246"/>
                  <a:pt x="5647" y="13246"/>
                  <a:pt x="5655" y="13246"/>
                </a:cubicBezTo>
              </a:path>
              <a:path w="8186" h="5855">
                <a:moveTo>
                  <a:pt x="5259" y="13072"/>
                </a:moveTo>
                <a:cubicBezTo>
                  <a:pt x="5356" y="13055"/>
                  <a:pt x="5438" y="12994"/>
                  <a:pt x="5531" y="12973"/>
                </a:cubicBezTo>
                <a:cubicBezTo>
                  <a:pt x="5553" y="12968"/>
                  <a:pt x="5669" y="12979"/>
                  <a:pt x="5606" y="12948"/>
                </a:cubicBezTo>
              </a:path>
              <a:path w="8186" h="5855">
                <a:moveTo>
                  <a:pt x="5259" y="12824"/>
                </a:moveTo>
                <a:cubicBezTo>
                  <a:pt x="5337" y="12824"/>
                  <a:pt x="5404" y="12772"/>
                  <a:pt x="5482" y="12750"/>
                </a:cubicBezTo>
                <a:cubicBezTo>
                  <a:pt x="5564" y="12727"/>
                  <a:pt x="5667" y="12681"/>
                  <a:pt x="5755" y="12700"/>
                </a:cubicBezTo>
                <a:cubicBezTo>
                  <a:pt x="5780" y="12708"/>
                  <a:pt x="5804" y="12717"/>
                  <a:pt x="5829" y="12725"/>
                </a:cubicBezTo>
              </a:path>
              <a:path w="8186" h="5855">
                <a:moveTo>
                  <a:pt x="5953" y="12849"/>
                </a:moveTo>
                <a:cubicBezTo>
                  <a:pt x="6011" y="12951"/>
                  <a:pt x="6082" y="13054"/>
                  <a:pt x="6152" y="13146"/>
                </a:cubicBezTo>
                <a:cubicBezTo>
                  <a:pt x="6195" y="13203"/>
                  <a:pt x="6197" y="13196"/>
                  <a:pt x="6251" y="13196"/>
                </a:cubicBezTo>
              </a:path>
              <a:path w="8186" h="5855">
                <a:moveTo>
                  <a:pt x="6127" y="12774"/>
                </a:moveTo>
                <a:cubicBezTo>
                  <a:pt x="6059" y="12896"/>
                  <a:pt x="6002" y="13014"/>
                  <a:pt x="5953" y="13146"/>
                </a:cubicBezTo>
                <a:cubicBezTo>
                  <a:pt x="5931" y="13212"/>
                  <a:pt x="5923" y="13227"/>
                  <a:pt x="5928" y="13271"/>
                </a:cubicBezTo>
              </a:path>
              <a:path w="8186" h="5855">
                <a:moveTo>
                  <a:pt x="5110" y="13717"/>
                </a:moveTo>
                <a:cubicBezTo>
                  <a:pt x="5242" y="13717"/>
                  <a:pt x="5372" y="13660"/>
                  <a:pt x="5507" y="13643"/>
                </a:cubicBezTo>
                <a:cubicBezTo>
                  <a:pt x="5773" y="13609"/>
                  <a:pt x="6034" y="13556"/>
                  <a:pt x="6300" y="13519"/>
                </a:cubicBezTo>
                <a:cubicBezTo>
                  <a:pt x="6308" y="13519"/>
                  <a:pt x="6317" y="13519"/>
                  <a:pt x="6325" y="13519"/>
                </a:cubicBezTo>
              </a:path>
              <a:path w="8186" h="5855">
                <a:moveTo>
                  <a:pt x="9054" y="13494"/>
                </a:moveTo>
                <a:cubicBezTo>
                  <a:pt x="9042" y="13542"/>
                  <a:pt x="9020" y="13579"/>
                  <a:pt x="9128" y="13543"/>
                </a:cubicBezTo>
                <a:cubicBezTo>
                  <a:pt x="9295" y="13488"/>
                  <a:pt x="9363" y="13444"/>
                  <a:pt x="9525" y="13519"/>
                </a:cubicBezTo>
                <a:cubicBezTo>
                  <a:pt x="9525" y="13691"/>
                  <a:pt x="9455" y="13827"/>
                  <a:pt x="9277" y="13915"/>
                </a:cubicBezTo>
                <a:cubicBezTo>
                  <a:pt x="9260" y="13915"/>
                  <a:pt x="9244" y="13915"/>
                  <a:pt x="9227" y="13915"/>
                </a:cubicBezTo>
                <a:cubicBezTo>
                  <a:pt x="9323" y="13837"/>
                  <a:pt x="9398" y="13818"/>
                  <a:pt x="9500" y="13915"/>
                </a:cubicBezTo>
                <a:cubicBezTo>
                  <a:pt x="9616" y="14026"/>
                  <a:pt x="9539" y="14211"/>
                  <a:pt x="9426" y="14288"/>
                </a:cubicBezTo>
                <a:cubicBezTo>
                  <a:pt x="9321" y="14360"/>
                  <a:pt x="9204" y="14379"/>
                  <a:pt x="9103" y="14312"/>
                </a:cubicBezTo>
              </a:path>
              <a:path w="8186" h="5855">
                <a:moveTo>
                  <a:pt x="10021" y="13146"/>
                </a:moveTo>
                <a:cubicBezTo>
                  <a:pt x="9949" y="13361"/>
                  <a:pt x="9924" y="13590"/>
                  <a:pt x="9897" y="13816"/>
                </a:cubicBezTo>
                <a:cubicBezTo>
                  <a:pt x="9867" y="14064"/>
                  <a:pt x="9874" y="14306"/>
                  <a:pt x="10071" y="14486"/>
                </a:cubicBezTo>
                <a:cubicBezTo>
                  <a:pt x="10087" y="14494"/>
                  <a:pt x="10104" y="14503"/>
                  <a:pt x="10120" y="14511"/>
                </a:cubicBezTo>
              </a:path>
              <a:path w="8186" h="5855">
                <a:moveTo>
                  <a:pt x="10815" y="13469"/>
                </a:moveTo>
                <a:cubicBezTo>
                  <a:pt x="10720" y="13469"/>
                  <a:pt x="10636" y="13486"/>
                  <a:pt x="10542" y="13494"/>
                </a:cubicBezTo>
                <a:cubicBezTo>
                  <a:pt x="10404" y="13506"/>
                  <a:pt x="10397" y="13525"/>
                  <a:pt x="10393" y="13667"/>
                </a:cubicBezTo>
                <a:cubicBezTo>
                  <a:pt x="10391" y="13733"/>
                  <a:pt x="10393" y="13800"/>
                  <a:pt x="10393" y="13866"/>
                </a:cubicBezTo>
                <a:cubicBezTo>
                  <a:pt x="10501" y="13821"/>
                  <a:pt x="10614" y="13750"/>
                  <a:pt x="10740" y="13791"/>
                </a:cubicBezTo>
                <a:cubicBezTo>
                  <a:pt x="10914" y="13847"/>
                  <a:pt x="10825" y="14051"/>
                  <a:pt x="10740" y="14139"/>
                </a:cubicBezTo>
                <a:cubicBezTo>
                  <a:pt x="10680" y="14201"/>
                  <a:pt x="10485" y="14278"/>
                  <a:pt x="10418" y="14188"/>
                </a:cubicBezTo>
                <a:cubicBezTo>
                  <a:pt x="10418" y="14180"/>
                  <a:pt x="10418" y="14171"/>
                  <a:pt x="10418" y="14163"/>
                </a:cubicBezTo>
              </a:path>
              <a:path w="8186" h="5855">
                <a:moveTo>
                  <a:pt x="11708" y="13469"/>
                </a:moveTo>
                <a:cubicBezTo>
                  <a:pt x="11812" y="13452"/>
                  <a:pt x="11875" y="13411"/>
                  <a:pt x="11981" y="13444"/>
                </a:cubicBezTo>
                <a:cubicBezTo>
                  <a:pt x="12120" y="13487"/>
                  <a:pt x="11978" y="13730"/>
                  <a:pt x="11931" y="13791"/>
                </a:cubicBezTo>
                <a:cubicBezTo>
                  <a:pt x="11866" y="13876"/>
                  <a:pt x="11781" y="13959"/>
                  <a:pt x="11708" y="14039"/>
                </a:cubicBezTo>
                <a:cubicBezTo>
                  <a:pt x="11805" y="14039"/>
                  <a:pt x="11886" y="14002"/>
                  <a:pt x="11981" y="13990"/>
                </a:cubicBezTo>
                <a:cubicBezTo>
                  <a:pt x="12047" y="13990"/>
                  <a:pt x="12064" y="13990"/>
                  <a:pt x="12105" y="13990"/>
                </a:cubicBezTo>
              </a:path>
              <a:path w="8186" h="5855">
                <a:moveTo>
                  <a:pt x="11857" y="12998"/>
                </a:moveTo>
                <a:cubicBezTo>
                  <a:pt x="11973" y="13031"/>
                  <a:pt x="12101" y="13044"/>
                  <a:pt x="12204" y="13122"/>
                </a:cubicBezTo>
                <a:cubicBezTo>
                  <a:pt x="12444" y="13303"/>
                  <a:pt x="12581" y="13572"/>
                  <a:pt x="12576" y="13866"/>
                </a:cubicBezTo>
                <a:cubicBezTo>
                  <a:pt x="12574" y="14017"/>
                  <a:pt x="12501" y="14115"/>
                  <a:pt x="12452" y="14213"/>
                </a:cubicBezTo>
                <a:cubicBezTo>
                  <a:pt x="12452" y="14221"/>
                  <a:pt x="12452" y="14230"/>
                  <a:pt x="12452" y="14238"/>
                </a:cubicBezTo>
              </a:path>
              <a:path w="8186" h="5855">
                <a:moveTo>
                  <a:pt x="9351" y="13246"/>
                </a:moveTo>
                <a:cubicBezTo>
                  <a:pt x="9351" y="13183"/>
                  <a:pt x="9349" y="13148"/>
                  <a:pt x="9376" y="13097"/>
                </a:cubicBezTo>
                <a:cubicBezTo>
                  <a:pt x="9398" y="13057"/>
                  <a:pt x="9405" y="13006"/>
                  <a:pt x="9426" y="12973"/>
                </a:cubicBezTo>
                <a:cubicBezTo>
                  <a:pt x="9433" y="12963"/>
                  <a:pt x="9477" y="12920"/>
                  <a:pt x="9500" y="12898"/>
                </a:cubicBezTo>
                <a:cubicBezTo>
                  <a:pt x="9539" y="12859"/>
                  <a:pt x="9564" y="12834"/>
                  <a:pt x="9599" y="12799"/>
                </a:cubicBezTo>
                <a:cubicBezTo>
                  <a:pt x="9631" y="12767"/>
                  <a:pt x="9664" y="12761"/>
                  <a:pt x="9699" y="12725"/>
                </a:cubicBezTo>
                <a:cubicBezTo>
                  <a:pt x="9729" y="12695"/>
                  <a:pt x="9762" y="12689"/>
                  <a:pt x="9798" y="12675"/>
                </a:cubicBezTo>
                <a:cubicBezTo>
                  <a:pt x="9855" y="12653"/>
                  <a:pt x="9869" y="12632"/>
                  <a:pt x="9922" y="12626"/>
                </a:cubicBezTo>
                <a:cubicBezTo>
                  <a:pt x="9962" y="12622"/>
                  <a:pt x="10005" y="12587"/>
                  <a:pt x="10046" y="12601"/>
                </a:cubicBezTo>
                <a:cubicBezTo>
                  <a:pt x="10091" y="12616"/>
                  <a:pt x="10146" y="12628"/>
                  <a:pt x="10195" y="12650"/>
                </a:cubicBezTo>
                <a:cubicBezTo>
                  <a:pt x="10229" y="12665"/>
                  <a:pt x="10253" y="12690"/>
                  <a:pt x="10269" y="12700"/>
                </a:cubicBezTo>
                <a:cubicBezTo>
                  <a:pt x="10305" y="12723"/>
                  <a:pt x="10342" y="12776"/>
                  <a:pt x="10368" y="12799"/>
                </a:cubicBezTo>
                <a:cubicBezTo>
                  <a:pt x="10399" y="12827"/>
                  <a:pt x="10440" y="12850"/>
                  <a:pt x="10468" y="12898"/>
                </a:cubicBezTo>
                <a:cubicBezTo>
                  <a:pt x="10487" y="12931"/>
                  <a:pt x="10501" y="12986"/>
                  <a:pt x="10517" y="13022"/>
                </a:cubicBezTo>
                <a:cubicBezTo>
                  <a:pt x="10543" y="13079"/>
                  <a:pt x="10551" y="13137"/>
                  <a:pt x="10567" y="13196"/>
                </a:cubicBezTo>
                <a:cubicBezTo>
                  <a:pt x="10574" y="13220"/>
                  <a:pt x="10564" y="13185"/>
                  <a:pt x="10542" y="13171"/>
                </a:cubicBezTo>
                <a:cubicBezTo>
                  <a:pt x="10510" y="13152"/>
                  <a:pt x="10474" y="13150"/>
                  <a:pt x="10443" y="13122"/>
                </a:cubicBezTo>
                <a:cubicBezTo>
                  <a:pt x="10434" y="13114"/>
                  <a:pt x="10387" y="13066"/>
                  <a:pt x="10418" y="13097"/>
                </a:cubicBezTo>
                <a:cubicBezTo>
                  <a:pt x="10449" y="13128"/>
                  <a:pt x="10531" y="13178"/>
                  <a:pt x="10567" y="13196"/>
                </a:cubicBezTo>
                <a:cubicBezTo>
                  <a:pt x="10575" y="13196"/>
                  <a:pt x="10584" y="13196"/>
                  <a:pt x="10592" y="13196"/>
                </a:cubicBezTo>
                <a:cubicBezTo>
                  <a:pt x="10607" y="13161"/>
                  <a:pt x="10646" y="13073"/>
                  <a:pt x="10691" y="13022"/>
                </a:cubicBezTo>
                <a:cubicBezTo>
                  <a:pt x="10716" y="12994"/>
                  <a:pt x="10724" y="12989"/>
                  <a:pt x="10740" y="12973"/>
                </a:cubicBezTo>
              </a:path>
              <a:path w="8186" h="5855">
                <a:moveTo>
                  <a:pt x="8483" y="14858"/>
                </a:moveTo>
                <a:cubicBezTo>
                  <a:pt x="8456" y="15077"/>
                  <a:pt x="8415" y="15281"/>
                  <a:pt x="8409" y="15503"/>
                </a:cubicBezTo>
                <a:cubicBezTo>
                  <a:pt x="8408" y="15540"/>
                  <a:pt x="8398" y="15849"/>
                  <a:pt x="8533" y="15776"/>
                </a:cubicBezTo>
                <a:cubicBezTo>
                  <a:pt x="8541" y="15759"/>
                  <a:pt x="8550" y="15743"/>
                  <a:pt x="8558" y="15726"/>
                </a:cubicBezTo>
              </a:path>
              <a:path w="8186" h="5855">
                <a:moveTo>
                  <a:pt x="8731" y="15106"/>
                </a:moveTo>
                <a:cubicBezTo>
                  <a:pt x="8715" y="15027"/>
                  <a:pt x="8798" y="14995"/>
                  <a:pt x="8880" y="14957"/>
                </a:cubicBezTo>
                <a:cubicBezTo>
                  <a:pt x="8880" y="15065"/>
                  <a:pt x="8851" y="15181"/>
                  <a:pt x="8806" y="15280"/>
                </a:cubicBezTo>
                <a:cubicBezTo>
                  <a:pt x="8798" y="15288"/>
                  <a:pt x="8789" y="15296"/>
                  <a:pt x="8781" y="15304"/>
                </a:cubicBezTo>
                <a:cubicBezTo>
                  <a:pt x="8896" y="15242"/>
                  <a:pt x="8978" y="15235"/>
                  <a:pt x="8930" y="15404"/>
                </a:cubicBezTo>
                <a:cubicBezTo>
                  <a:pt x="8898" y="15519"/>
                  <a:pt x="8802" y="15700"/>
                  <a:pt x="8657" y="15701"/>
                </a:cubicBezTo>
                <a:cubicBezTo>
                  <a:pt x="8592" y="15701"/>
                  <a:pt x="8656" y="15588"/>
                  <a:pt x="8682" y="15528"/>
                </a:cubicBezTo>
              </a:path>
              <a:path w="8186" h="5855">
                <a:moveTo>
                  <a:pt x="9128" y="15081"/>
                </a:moveTo>
                <a:cubicBezTo>
                  <a:pt x="9147" y="15175"/>
                  <a:pt x="9208" y="15267"/>
                  <a:pt x="9252" y="15354"/>
                </a:cubicBezTo>
                <a:cubicBezTo>
                  <a:pt x="9284" y="15418"/>
                  <a:pt x="9299" y="15476"/>
                  <a:pt x="9351" y="15503"/>
                </a:cubicBezTo>
              </a:path>
              <a:path w="8186" h="5855">
                <a:moveTo>
                  <a:pt x="9376" y="14957"/>
                </a:moveTo>
                <a:cubicBezTo>
                  <a:pt x="9314" y="15093"/>
                  <a:pt x="9269" y="15236"/>
                  <a:pt x="9227" y="15379"/>
                </a:cubicBezTo>
                <a:cubicBezTo>
                  <a:pt x="9217" y="15414"/>
                  <a:pt x="9206" y="15535"/>
                  <a:pt x="9178" y="15478"/>
                </a:cubicBezTo>
              </a:path>
              <a:path w="8186" h="5855">
                <a:moveTo>
                  <a:pt x="9872" y="14908"/>
                </a:moveTo>
                <a:cubicBezTo>
                  <a:pt x="9813" y="14949"/>
                  <a:pt x="9759" y="14989"/>
                  <a:pt x="9699" y="15007"/>
                </a:cubicBezTo>
                <a:cubicBezTo>
                  <a:pt x="9661" y="15018"/>
                  <a:pt x="9657" y="15132"/>
                  <a:pt x="9674" y="15180"/>
                </a:cubicBezTo>
                <a:cubicBezTo>
                  <a:pt x="9682" y="15188"/>
                  <a:pt x="9691" y="15197"/>
                  <a:pt x="9699" y="15205"/>
                </a:cubicBezTo>
                <a:cubicBezTo>
                  <a:pt x="9783" y="15152"/>
                  <a:pt x="9835" y="15064"/>
                  <a:pt x="9922" y="15156"/>
                </a:cubicBezTo>
                <a:cubicBezTo>
                  <a:pt x="10008" y="15247"/>
                  <a:pt x="9960" y="15391"/>
                  <a:pt x="9897" y="15478"/>
                </a:cubicBezTo>
                <a:cubicBezTo>
                  <a:pt x="9837" y="15560"/>
                  <a:pt x="9732" y="15627"/>
                  <a:pt x="9699" y="15528"/>
                </a:cubicBezTo>
              </a:path>
              <a:path w="8186" h="5855">
                <a:moveTo>
                  <a:pt x="9847" y="14709"/>
                </a:moveTo>
                <a:cubicBezTo>
                  <a:pt x="9977" y="14709"/>
                  <a:pt x="10079" y="14718"/>
                  <a:pt x="10170" y="14833"/>
                </a:cubicBezTo>
                <a:cubicBezTo>
                  <a:pt x="10321" y="15025"/>
                  <a:pt x="10302" y="15282"/>
                  <a:pt x="10244" y="15503"/>
                </a:cubicBezTo>
                <a:cubicBezTo>
                  <a:pt x="10205" y="15601"/>
                  <a:pt x="10189" y="15615"/>
                  <a:pt x="10195" y="15677"/>
                </a:cubicBezTo>
              </a:path>
              <a:path w="8186" h="5855">
                <a:moveTo>
                  <a:pt x="9079" y="16222"/>
                </a:moveTo>
                <a:cubicBezTo>
                  <a:pt x="9057" y="16373"/>
                  <a:pt x="9079" y="16534"/>
                  <a:pt x="9079" y="16694"/>
                </a:cubicBezTo>
                <a:cubicBezTo>
                  <a:pt x="9079" y="16768"/>
                  <a:pt x="9079" y="16777"/>
                  <a:pt x="9079" y="16818"/>
                </a:cubicBezTo>
              </a:path>
              <a:path w="8186" h="5855">
                <a:moveTo>
                  <a:pt x="9649" y="16098"/>
                </a:moveTo>
                <a:cubicBezTo>
                  <a:pt x="9609" y="16197"/>
                  <a:pt x="9556" y="16162"/>
                  <a:pt x="9475" y="16197"/>
                </a:cubicBezTo>
                <a:cubicBezTo>
                  <a:pt x="9453" y="16220"/>
                  <a:pt x="9445" y="16231"/>
                  <a:pt x="9451" y="16197"/>
                </a:cubicBezTo>
                <a:cubicBezTo>
                  <a:pt x="9405" y="16259"/>
                  <a:pt x="9426" y="16343"/>
                  <a:pt x="9426" y="16421"/>
                </a:cubicBezTo>
                <a:cubicBezTo>
                  <a:pt x="9426" y="16454"/>
                  <a:pt x="9426" y="16470"/>
                  <a:pt x="9426" y="16495"/>
                </a:cubicBezTo>
                <a:cubicBezTo>
                  <a:pt x="9472" y="16460"/>
                  <a:pt x="9522" y="16401"/>
                  <a:pt x="9575" y="16371"/>
                </a:cubicBezTo>
                <a:cubicBezTo>
                  <a:pt x="9701" y="16299"/>
                  <a:pt x="9784" y="16400"/>
                  <a:pt x="9773" y="16520"/>
                </a:cubicBezTo>
                <a:cubicBezTo>
                  <a:pt x="9760" y="16666"/>
                  <a:pt x="9707" y="16755"/>
                  <a:pt x="9575" y="16818"/>
                </a:cubicBezTo>
                <a:cubicBezTo>
                  <a:pt x="9514" y="16847"/>
                  <a:pt x="9487" y="16866"/>
                  <a:pt x="9475" y="16842"/>
                </a:cubicBezTo>
              </a:path>
              <a:path w="8186" h="5855">
                <a:moveTo>
                  <a:pt x="9302" y="13271"/>
                </a:moveTo>
                <a:cubicBezTo>
                  <a:pt x="9321" y="13197"/>
                  <a:pt x="9332" y="13124"/>
                  <a:pt x="9351" y="13047"/>
                </a:cubicBezTo>
                <a:cubicBezTo>
                  <a:pt x="9380" y="12929"/>
                  <a:pt x="9411" y="12827"/>
                  <a:pt x="9475" y="12725"/>
                </a:cubicBezTo>
                <a:cubicBezTo>
                  <a:pt x="9550" y="12605"/>
                  <a:pt x="9652" y="12456"/>
                  <a:pt x="9773" y="12378"/>
                </a:cubicBezTo>
                <a:cubicBezTo>
                  <a:pt x="9859" y="12322"/>
                  <a:pt x="10044" y="12247"/>
                  <a:pt x="10145" y="12229"/>
                </a:cubicBezTo>
                <a:cubicBezTo>
                  <a:pt x="10271" y="12206"/>
                  <a:pt x="10414" y="12192"/>
                  <a:pt x="10542" y="12179"/>
                </a:cubicBezTo>
                <a:cubicBezTo>
                  <a:pt x="10668" y="12167"/>
                  <a:pt x="10770" y="12196"/>
                  <a:pt x="10889" y="12229"/>
                </a:cubicBezTo>
                <a:cubicBezTo>
                  <a:pt x="11010" y="12262"/>
                  <a:pt x="11176" y="12283"/>
                  <a:pt x="11286" y="12328"/>
                </a:cubicBezTo>
                <a:cubicBezTo>
                  <a:pt x="11342" y="12351"/>
                  <a:pt x="11385" y="12379"/>
                  <a:pt x="11435" y="12402"/>
                </a:cubicBezTo>
                <a:cubicBezTo>
                  <a:pt x="11515" y="12440"/>
                  <a:pt x="11526" y="12476"/>
                  <a:pt x="11584" y="12526"/>
                </a:cubicBezTo>
                <a:cubicBezTo>
                  <a:pt x="11624" y="12561"/>
                  <a:pt x="11677" y="12623"/>
                  <a:pt x="11708" y="12650"/>
                </a:cubicBezTo>
                <a:cubicBezTo>
                  <a:pt x="11771" y="12705"/>
                  <a:pt x="11740" y="12707"/>
                  <a:pt x="11782" y="12799"/>
                </a:cubicBezTo>
                <a:cubicBezTo>
                  <a:pt x="11812" y="12864"/>
                  <a:pt x="11846" y="12929"/>
                  <a:pt x="11857" y="12998"/>
                </a:cubicBezTo>
                <a:cubicBezTo>
                  <a:pt x="11867" y="13060"/>
                  <a:pt x="11838" y="13071"/>
                  <a:pt x="11832" y="13122"/>
                </a:cubicBezTo>
                <a:cubicBezTo>
                  <a:pt x="11829" y="13146"/>
                  <a:pt x="11834" y="13172"/>
                  <a:pt x="11832" y="13196"/>
                </a:cubicBezTo>
                <a:cubicBezTo>
                  <a:pt x="11783" y="13137"/>
                  <a:pt x="11765" y="13119"/>
                  <a:pt x="11733" y="13047"/>
                </a:cubicBezTo>
                <a:cubicBezTo>
                  <a:pt x="11755" y="13101"/>
                  <a:pt x="11741" y="13130"/>
                  <a:pt x="11782" y="13171"/>
                </a:cubicBezTo>
                <a:cubicBezTo>
                  <a:pt x="11811" y="13200"/>
                  <a:pt x="11814" y="13201"/>
                  <a:pt x="11832" y="13221"/>
                </a:cubicBezTo>
                <a:cubicBezTo>
                  <a:pt x="11870" y="13149"/>
                  <a:pt x="11911" y="13088"/>
                  <a:pt x="11956" y="13022"/>
                </a:cubicBezTo>
              </a:path>
              <a:path w="8186" h="5855">
                <a:moveTo>
                  <a:pt x="11906" y="14932"/>
                </a:moveTo>
                <a:cubicBezTo>
                  <a:pt x="11866" y="15137"/>
                  <a:pt x="11819" y="15332"/>
                  <a:pt x="11832" y="15553"/>
                </a:cubicBezTo>
                <a:cubicBezTo>
                  <a:pt x="11834" y="15588"/>
                  <a:pt x="11922" y="15942"/>
                  <a:pt x="12030" y="15801"/>
                </a:cubicBezTo>
                <a:cubicBezTo>
                  <a:pt x="12038" y="15776"/>
                  <a:pt x="12047" y="15751"/>
                  <a:pt x="12055" y="15726"/>
                </a:cubicBezTo>
              </a:path>
              <a:path w="8186" h="5855">
                <a:moveTo>
                  <a:pt x="12105" y="15205"/>
                </a:moveTo>
                <a:cubicBezTo>
                  <a:pt x="12131" y="15183"/>
                  <a:pt x="12298" y="15065"/>
                  <a:pt x="12303" y="15180"/>
                </a:cubicBezTo>
                <a:cubicBezTo>
                  <a:pt x="12307" y="15277"/>
                  <a:pt x="12235" y="15338"/>
                  <a:pt x="12179" y="15404"/>
                </a:cubicBezTo>
                <a:cubicBezTo>
                  <a:pt x="12233" y="15404"/>
                  <a:pt x="12325" y="15402"/>
                  <a:pt x="12328" y="15478"/>
                </a:cubicBezTo>
                <a:cubicBezTo>
                  <a:pt x="12332" y="15579"/>
                  <a:pt x="12240" y="15706"/>
                  <a:pt x="12129" y="15701"/>
                </a:cubicBezTo>
                <a:cubicBezTo>
                  <a:pt x="12113" y="15693"/>
                  <a:pt x="12096" y="15685"/>
                  <a:pt x="12080" y="15677"/>
                </a:cubicBezTo>
              </a:path>
              <a:path w="8186" h="5855">
                <a:moveTo>
                  <a:pt x="12551" y="15180"/>
                </a:moveTo>
                <a:cubicBezTo>
                  <a:pt x="12610" y="15227"/>
                  <a:pt x="12674" y="15341"/>
                  <a:pt x="12700" y="15429"/>
                </a:cubicBezTo>
                <a:cubicBezTo>
                  <a:pt x="12700" y="15453"/>
                  <a:pt x="12700" y="15462"/>
                  <a:pt x="12700" y="15478"/>
                </a:cubicBezTo>
              </a:path>
              <a:path w="8186" h="5855">
                <a:moveTo>
                  <a:pt x="12725" y="15156"/>
                </a:moveTo>
                <a:cubicBezTo>
                  <a:pt x="12658" y="15273"/>
                  <a:pt x="12626" y="15376"/>
                  <a:pt x="12601" y="15503"/>
                </a:cubicBezTo>
                <a:cubicBezTo>
                  <a:pt x="12601" y="15528"/>
                  <a:pt x="12601" y="15536"/>
                  <a:pt x="12626" y="15528"/>
                </a:cubicBezTo>
              </a:path>
              <a:path w="8186" h="5855">
                <a:moveTo>
                  <a:pt x="12923" y="15081"/>
                </a:moveTo>
                <a:cubicBezTo>
                  <a:pt x="12984" y="15081"/>
                  <a:pt x="13011" y="15073"/>
                  <a:pt x="13072" y="15056"/>
                </a:cubicBezTo>
                <a:cubicBezTo>
                  <a:pt x="13133" y="15138"/>
                  <a:pt x="13085" y="15217"/>
                  <a:pt x="13047" y="15304"/>
                </a:cubicBezTo>
                <a:cubicBezTo>
                  <a:pt x="13015" y="15376"/>
                  <a:pt x="12966" y="15457"/>
                  <a:pt x="12948" y="15528"/>
                </a:cubicBezTo>
                <a:cubicBezTo>
                  <a:pt x="13023" y="15515"/>
                  <a:pt x="13155" y="15489"/>
                  <a:pt x="13221" y="15453"/>
                </a:cubicBezTo>
                <a:cubicBezTo>
                  <a:pt x="13279" y="15396"/>
                  <a:pt x="13298" y="15369"/>
                  <a:pt x="13295" y="15304"/>
                </a:cubicBezTo>
              </a:path>
              <a:path w="8186" h="5855">
                <a:moveTo>
                  <a:pt x="12526" y="15999"/>
                </a:moveTo>
                <a:cubicBezTo>
                  <a:pt x="12526" y="16118"/>
                  <a:pt x="12523" y="16228"/>
                  <a:pt x="12502" y="16346"/>
                </a:cubicBezTo>
                <a:cubicBezTo>
                  <a:pt x="12480" y="16470"/>
                  <a:pt x="12460" y="16549"/>
                  <a:pt x="12477" y="16669"/>
                </a:cubicBezTo>
                <a:cubicBezTo>
                  <a:pt x="12572" y="16726"/>
                  <a:pt x="12637" y="16690"/>
                  <a:pt x="12725" y="16619"/>
                </a:cubicBezTo>
                <a:cubicBezTo>
                  <a:pt x="12817" y="16545"/>
                  <a:pt x="12877" y="16463"/>
                  <a:pt x="12898" y="16346"/>
                </a:cubicBezTo>
                <a:cubicBezTo>
                  <a:pt x="12898" y="16302"/>
                  <a:pt x="12901" y="16289"/>
                  <a:pt x="12874" y="16272"/>
                </a:cubicBezTo>
                <a:cubicBezTo>
                  <a:pt x="12779" y="16272"/>
                  <a:pt x="12718" y="16302"/>
                  <a:pt x="12675" y="16396"/>
                </a:cubicBezTo>
                <a:cubicBezTo>
                  <a:pt x="12627" y="16503"/>
                  <a:pt x="12649" y="16624"/>
                  <a:pt x="12675" y="16718"/>
                </a:cubicBezTo>
                <a:cubicBezTo>
                  <a:pt x="12675" y="16726"/>
                  <a:pt x="12675" y="16735"/>
                  <a:pt x="12675" y="16743"/>
                </a:cubicBezTo>
              </a:path>
              <a:path w="8186" h="5855">
                <a:moveTo>
                  <a:pt x="8533" y="12750"/>
                </a:moveTo>
                <a:cubicBezTo>
                  <a:pt x="8077" y="12819"/>
                  <a:pt x="7621" y="12873"/>
                  <a:pt x="7169" y="12973"/>
                </a:cubicBezTo>
                <a:cubicBezTo>
                  <a:pt x="7043" y="13001"/>
                  <a:pt x="6915" y="13039"/>
                  <a:pt x="6796" y="13072"/>
                </a:cubicBezTo>
                <a:cubicBezTo>
                  <a:pt x="6848" y="13215"/>
                  <a:pt x="6903" y="13368"/>
                  <a:pt x="6945" y="13519"/>
                </a:cubicBezTo>
                <a:cubicBezTo>
                  <a:pt x="7018" y="13782"/>
                  <a:pt x="7042" y="14040"/>
                  <a:pt x="7045" y="14312"/>
                </a:cubicBezTo>
                <a:cubicBezTo>
                  <a:pt x="7049" y="14653"/>
                  <a:pt x="7033" y="14990"/>
                  <a:pt x="7020" y="15329"/>
                </a:cubicBezTo>
                <a:cubicBezTo>
                  <a:pt x="7007" y="15669"/>
                  <a:pt x="6962" y="16007"/>
                  <a:pt x="6945" y="16346"/>
                </a:cubicBezTo>
                <a:cubicBezTo>
                  <a:pt x="6932" y="16594"/>
                  <a:pt x="6907" y="16842"/>
                  <a:pt x="6896" y="17090"/>
                </a:cubicBezTo>
                <a:cubicBezTo>
                  <a:pt x="6888" y="17274"/>
                  <a:pt x="6835" y="17605"/>
                  <a:pt x="6871" y="17785"/>
                </a:cubicBezTo>
                <a:cubicBezTo>
                  <a:pt x="6893" y="17893"/>
                  <a:pt x="6891" y="17807"/>
                  <a:pt x="6921" y="17859"/>
                </a:cubicBezTo>
                <a:cubicBezTo>
                  <a:pt x="6941" y="17893"/>
                  <a:pt x="6991" y="17954"/>
                  <a:pt x="7020" y="17959"/>
                </a:cubicBezTo>
                <a:cubicBezTo>
                  <a:pt x="7136" y="17979"/>
                  <a:pt x="7274" y="17936"/>
                  <a:pt x="7392" y="17934"/>
                </a:cubicBezTo>
                <a:cubicBezTo>
                  <a:pt x="7810" y="17927"/>
                  <a:pt x="8219" y="17973"/>
                  <a:pt x="8632" y="18008"/>
                </a:cubicBezTo>
                <a:cubicBezTo>
                  <a:pt x="8834" y="18025"/>
                  <a:pt x="9117" y="18032"/>
                  <a:pt x="9277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56160" y="4419720"/>
            <a:ext cx="465120" cy="2384280"/>
          </a:xfrm>
          <a:custGeom>
            <a:avLst/>
            <a:gdLst/>
            <a:ahLst/>
            <a:rect l="l" t="t" r="r" b="b"/>
            <a:pathLst>
              <a:path w="1291" h="6624">
                <a:moveTo>
                  <a:pt x="15478" y="12278"/>
                </a:moveTo>
                <a:cubicBezTo>
                  <a:pt x="15452" y="12469"/>
                  <a:pt x="15391" y="12635"/>
                  <a:pt x="15329" y="12824"/>
                </a:cubicBezTo>
                <a:cubicBezTo>
                  <a:pt x="15244" y="13083"/>
                  <a:pt x="15128" y="13343"/>
                  <a:pt x="15304" y="13593"/>
                </a:cubicBezTo>
                <a:cubicBezTo>
                  <a:pt x="15457" y="13811"/>
                  <a:pt x="15727" y="13891"/>
                  <a:pt x="15751" y="14188"/>
                </a:cubicBezTo>
                <a:cubicBezTo>
                  <a:pt x="15783" y="14573"/>
                  <a:pt x="15641" y="14966"/>
                  <a:pt x="15652" y="15354"/>
                </a:cubicBezTo>
                <a:cubicBezTo>
                  <a:pt x="15665" y="15819"/>
                  <a:pt x="15785" y="16284"/>
                  <a:pt x="15850" y="16743"/>
                </a:cubicBezTo>
                <a:cubicBezTo>
                  <a:pt x="15913" y="17189"/>
                  <a:pt x="15729" y="17629"/>
                  <a:pt x="15776" y="18058"/>
                </a:cubicBezTo>
                <a:cubicBezTo>
                  <a:pt x="15803" y="18304"/>
                  <a:pt x="16044" y="18206"/>
                  <a:pt x="16123" y="18355"/>
                </a:cubicBezTo>
                <a:cubicBezTo>
                  <a:pt x="16203" y="18504"/>
                  <a:pt x="16045" y="18704"/>
                  <a:pt x="15974" y="18827"/>
                </a:cubicBezTo>
                <a:cubicBezTo>
                  <a:pt x="15958" y="18852"/>
                  <a:pt x="15941" y="18876"/>
                  <a:pt x="15925" y="18901"/>
                </a:cubicBezTo>
              </a:path>
              <a:path w="1291" h="6624">
                <a:moveTo>
                  <a:pt x="15156" y="17214"/>
                </a:moveTo>
                <a:cubicBezTo>
                  <a:pt x="15170" y="17286"/>
                  <a:pt x="15188" y="17374"/>
                  <a:pt x="15230" y="17438"/>
                </a:cubicBezTo>
                <a:cubicBezTo>
                  <a:pt x="15255" y="17462"/>
                  <a:pt x="15264" y="17470"/>
                  <a:pt x="15280" y="17487"/>
                </a:cubicBezTo>
                <a:cubicBezTo>
                  <a:pt x="15516" y="17217"/>
                  <a:pt x="15659" y="16921"/>
                  <a:pt x="15925" y="16669"/>
                </a:cubicBezTo>
                <a:cubicBezTo>
                  <a:pt x="15992" y="16606"/>
                  <a:pt x="16372" y="16225"/>
                  <a:pt x="16446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45160" y="5249880"/>
            <a:ext cx="519120" cy="635040"/>
          </a:xfrm>
          <a:custGeom>
            <a:avLst/>
            <a:gdLst/>
            <a:ahLst/>
            <a:rect l="l" t="t" r="r" b="b"/>
            <a:pathLst>
              <a:path w="1440" h="1762">
                <a:moveTo>
                  <a:pt x="18281" y="14660"/>
                </a:moveTo>
                <a:cubicBezTo>
                  <a:pt x="18343" y="14618"/>
                  <a:pt x="18538" y="14525"/>
                  <a:pt x="18604" y="14610"/>
                </a:cubicBezTo>
                <a:cubicBezTo>
                  <a:pt x="18680" y="14708"/>
                  <a:pt x="18498" y="14859"/>
                  <a:pt x="18455" y="14908"/>
                </a:cubicBezTo>
                <a:cubicBezTo>
                  <a:pt x="18438" y="14924"/>
                  <a:pt x="18422" y="14941"/>
                  <a:pt x="18405" y="14957"/>
                </a:cubicBezTo>
                <a:cubicBezTo>
                  <a:pt x="18498" y="14920"/>
                  <a:pt x="18600" y="14842"/>
                  <a:pt x="18678" y="14982"/>
                </a:cubicBezTo>
                <a:cubicBezTo>
                  <a:pt x="18795" y="15190"/>
                  <a:pt x="18547" y="15344"/>
                  <a:pt x="18380" y="15379"/>
                </a:cubicBezTo>
                <a:cubicBezTo>
                  <a:pt x="18189" y="15419"/>
                  <a:pt x="18146" y="15316"/>
                  <a:pt x="18256" y="15205"/>
                </a:cubicBezTo>
              </a:path>
              <a:path w="1440" h="1762">
                <a:moveTo>
                  <a:pt x="19496" y="15751"/>
                </a:moveTo>
                <a:cubicBezTo>
                  <a:pt x="19485" y="15661"/>
                  <a:pt x="19433" y="15577"/>
                  <a:pt x="19323" y="15577"/>
                </a:cubicBezTo>
                <a:cubicBezTo>
                  <a:pt x="19133" y="15577"/>
                  <a:pt x="19039" y="15784"/>
                  <a:pt x="19075" y="15949"/>
                </a:cubicBezTo>
                <a:cubicBezTo>
                  <a:pt x="19091" y="15974"/>
                  <a:pt x="19108" y="15999"/>
                  <a:pt x="19124" y="16024"/>
                </a:cubicBezTo>
                <a:cubicBezTo>
                  <a:pt x="19337" y="15974"/>
                  <a:pt x="19435" y="15833"/>
                  <a:pt x="19571" y="15652"/>
                </a:cubicBezTo>
                <a:cubicBezTo>
                  <a:pt x="19588" y="15627"/>
                  <a:pt x="19604" y="15602"/>
                  <a:pt x="19621" y="15577"/>
                </a:cubicBezTo>
                <a:cubicBezTo>
                  <a:pt x="19591" y="15729"/>
                  <a:pt x="19569" y="15891"/>
                  <a:pt x="19546" y="16049"/>
                </a:cubicBezTo>
                <a:cubicBezTo>
                  <a:pt x="19542" y="16075"/>
                  <a:pt x="19496" y="16369"/>
                  <a:pt x="19496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84960" y="4776840"/>
            <a:ext cx="206280" cy="287280"/>
          </a:xfrm>
          <a:custGeom>
            <a:avLst/>
            <a:gdLst/>
            <a:ahLst/>
            <a:rect l="l" t="t" r="r" b="b"/>
            <a:pathLst>
              <a:path w="572" h="794">
                <a:moveTo>
                  <a:pt x="17810" y="13320"/>
                </a:moveTo>
                <a:cubicBezTo>
                  <a:pt x="17919" y="13302"/>
                  <a:pt x="18020" y="13277"/>
                  <a:pt x="18132" y="13271"/>
                </a:cubicBezTo>
                <a:cubicBezTo>
                  <a:pt x="18161" y="13413"/>
                  <a:pt x="18087" y="13495"/>
                  <a:pt x="18008" y="13618"/>
                </a:cubicBezTo>
                <a:cubicBezTo>
                  <a:pt x="18113" y="13618"/>
                  <a:pt x="18302" y="13610"/>
                  <a:pt x="18306" y="13767"/>
                </a:cubicBezTo>
                <a:cubicBezTo>
                  <a:pt x="18311" y="13954"/>
                  <a:pt x="17981" y="14080"/>
                  <a:pt x="17835" y="14064"/>
                </a:cubicBezTo>
                <a:cubicBezTo>
                  <a:pt x="17802" y="14048"/>
                  <a:pt x="17768" y="14031"/>
                  <a:pt x="17735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96080" y="4768920"/>
            <a:ext cx="588960" cy="615960"/>
          </a:xfrm>
          <a:custGeom>
            <a:avLst/>
            <a:gdLst/>
            <a:ahLst/>
            <a:rect l="l" t="t" r="r" b="b"/>
            <a:pathLst>
              <a:path w="1638" h="1712">
                <a:moveTo>
                  <a:pt x="19199" y="13246"/>
                </a:moveTo>
                <a:cubicBezTo>
                  <a:pt x="19150" y="13279"/>
                  <a:pt x="19096" y="13288"/>
                  <a:pt x="19050" y="13320"/>
                </a:cubicBezTo>
                <a:cubicBezTo>
                  <a:pt x="18984" y="13365"/>
                  <a:pt x="18894" y="13472"/>
                  <a:pt x="18926" y="13568"/>
                </a:cubicBezTo>
                <a:cubicBezTo>
                  <a:pt x="18934" y="13576"/>
                  <a:pt x="18943" y="13585"/>
                  <a:pt x="18951" y="13593"/>
                </a:cubicBezTo>
                <a:cubicBezTo>
                  <a:pt x="19023" y="13544"/>
                  <a:pt x="19156" y="13488"/>
                  <a:pt x="19248" y="13519"/>
                </a:cubicBezTo>
                <a:cubicBezTo>
                  <a:pt x="19433" y="13582"/>
                  <a:pt x="19246" y="13811"/>
                  <a:pt x="19174" y="13866"/>
                </a:cubicBezTo>
                <a:cubicBezTo>
                  <a:pt x="19074" y="13942"/>
                  <a:pt x="18986" y="13931"/>
                  <a:pt x="18876" y="13915"/>
                </a:cubicBezTo>
              </a:path>
              <a:path w="1638" h="1712">
                <a:moveTo>
                  <a:pt x="19993" y="13320"/>
                </a:moveTo>
                <a:cubicBezTo>
                  <a:pt x="20068" y="13259"/>
                  <a:pt x="20165" y="13231"/>
                  <a:pt x="20265" y="13246"/>
                </a:cubicBezTo>
                <a:cubicBezTo>
                  <a:pt x="20282" y="13254"/>
                  <a:pt x="20298" y="13263"/>
                  <a:pt x="20315" y="13271"/>
                </a:cubicBezTo>
                <a:cubicBezTo>
                  <a:pt x="20329" y="13436"/>
                  <a:pt x="20232" y="13502"/>
                  <a:pt x="20141" y="13643"/>
                </a:cubicBezTo>
                <a:cubicBezTo>
                  <a:pt x="20103" y="13720"/>
                  <a:pt x="20104" y="13735"/>
                  <a:pt x="20067" y="13767"/>
                </a:cubicBezTo>
                <a:cubicBezTo>
                  <a:pt x="20180" y="13767"/>
                  <a:pt x="20279" y="13731"/>
                  <a:pt x="20389" y="13717"/>
                </a:cubicBezTo>
                <a:cubicBezTo>
                  <a:pt x="20462" y="13717"/>
                  <a:pt x="20486" y="13718"/>
                  <a:pt x="20513" y="13667"/>
                </a:cubicBezTo>
              </a:path>
              <a:path w="1638" h="1712">
                <a:moveTo>
                  <a:pt x="19472" y="14312"/>
                </a:moveTo>
                <a:cubicBezTo>
                  <a:pt x="19435" y="14294"/>
                  <a:pt x="19551" y="14258"/>
                  <a:pt x="19596" y="14238"/>
                </a:cubicBezTo>
                <a:cubicBezTo>
                  <a:pt x="19713" y="14186"/>
                  <a:pt x="19969" y="14111"/>
                  <a:pt x="19943" y="14337"/>
                </a:cubicBezTo>
                <a:cubicBezTo>
                  <a:pt x="19936" y="14397"/>
                  <a:pt x="19791" y="14635"/>
                  <a:pt x="19745" y="14635"/>
                </a:cubicBezTo>
                <a:cubicBezTo>
                  <a:pt x="19745" y="14627"/>
                  <a:pt x="19745" y="14618"/>
                  <a:pt x="19745" y="14610"/>
                </a:cubicBezTo>
                <a:cubicBezTo>
                  <a:pt x="19787" y="14582"/>
                  <a:pt x="19930" y="14521"/>
                  <a:pt x="19943" y="14635"/>
                </a:cubicBezTo>
                <a:cubicBezTo>
                  <a:pt x="19961" y="14798"/>
                  <a:pt x="19751" y="14934"/>
                  <a:pt x="19621" y="14957"/>
                </a:cubicBezTo>
                <a:cubicBezTo>
                  <a:pt x="19487" y="14957"/>
                  <a:pt x="19452" y="14961"/>
                  <a:pt x="19372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73680" y="4840200"/>
            <a:ext cx="241200" cy="250920"/>
          </a:xfrm>
          <a:custGeom>
            <a:avLst/>
            <a:gdLst/>
            <a:ahLst/>
            <a:rect l="l" t="t" r="r" b="b"/>
            <a:pathLst>
              <a:path w="671" h="696">
                <a:moveTo>
                  <a:pt x="11137" y="14064"/>
                </a:moveTo>
                <a:cubicBezTo>
                  <a:pt x="11181" y="14075"/>
                  <a:pt x="11212" y="14102"/>
                  <a:pt x="11261" y="14114"/>
                </a:cubicBezTo>
                <a:cubicBezTo>
                  <a:pt x="11305" y="14125"/>
                  <a:pt x="11356" y="14160"/>
                  <a:pt x="11410" y="14139"/>
                </a:cubicBezTo>
                <a:cubicBezTo>
                  <a:pt x="11450" y="14123"/>
                  <a:pt x="11476" y="14107"/>
                  <a:pt x="11509" y="14089"/>
                </a:cubicBezTo>
                <a:cubicBezTo>
                  <a:pt x="11567" y="14057"/>
                  <a:pt x="11588" y="13975"/>
                  <a:pt x="11633" y="13940"/>
                </a:cubicBezTo>
                <a:cubicBezTo>
                  <a:pt x="11677" y="13905"/>
                  <a:pt x="11663" y="13921"/>
                  <a:pt x="11683" y="13866"/>
                </a:cubicBezTo>
                <a:cubicBezTo>
                  <a:pt x="11702" y="13812"/>
                  <a:pt x="11708" y="13797"/>
                  <a:pt x="11708" y="13742"/>
                </a:cubicBezTo>
                <a:cubicBezTo>
                  <a:pt x="11708" y="13686"/>
                  <a:pt x="11702" y="13663"/>
                  <a:pt x="11683" y="13618"/>
                </a:cubicBezTo>
                <a:cubicBezTo>
                  <a:pt x="11669" y="13586"/>
                  <a:pt x="11649" y="13541"/>
                  <a:pt x="11633" y="13519"/>
                </a:cubicBezTo>
                <a:cubicBezTo>
                  <a:pt x="11572" y="13433"/>
                  <a:pt x="11577" y="13493"/>
                  <a:pt x="11509" y="13469"/>
                </a:cubicBezTo>
                <a:cubicBezTo>
                  <a:pt x="11444" y="13445"/>
                  <a:pt x="11408" y="13444"/>
                  <a:pt x="11336" y="13444"/>
                </a:cubicBezTo>
                <a:cubicBezTo>
                  <a:pt x="11314" y="13444"/>
                  <a:pt x="11232" y="13459"/>
                  <a:pt x="11212" y="13469"/>
                </a:cubicBezTo>
                <a:cubicBezTo>
                  <a:pt x="11174" y="13488"/>
                  <a:pt x="11129" y="13531"/>
                  <a:pt x="11112" y="13543"/>
                </a:cubicBezTo>
                <a:cubicBezTo>
                  <a:pt x="11057" y="13583"/>
                  <a:pt x="11042" y="13607"/>
                  <a:pt x="11038" y="13667"/>
                </a:cubicBezTo>
                <a:cubicBezTo>
                  <a:pt x="11032" y="13766"/>
                  <a:pt x="11040" y="13849"/>
                  <a:pt x="11063" y="13940"/>
                </a:cubicBezTo>
                <a:cubicBezTo>
                  <a:pt x="11071" y="13971"/>
                  <a:pt x="11066" y="14004"/>
                  <a:pt x="11088" y="14015"/>
                </a:cubicBezTo>
                <a:cubicBezTo>
                  <a:pt x="11119" y="14031"/>
                  <a:pt x="11114" y="14039"/>
                  <a:pt x="11162" y="14039"/>
                </a:cubicBezTo>
                <a:cubicBezTo>
                  <a:pt x="11224" y="14039"/>
                  <a:pt x="11214" y="14064"/>
                  <a:pt x="11286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5464080"/>
            <a:ext cx="125280" cy="46080"/>
          </a:xfrm>
          <a:custGeom>
            <a:avLst/>
            <a:gdLst/>
            <a:ahLst/>
            <a:rect l="l" t="t" r="r" b="b"/>
            <a:pathLst>
              <a:path w="348" h="125">
                <a:moveTo>
                  <a:pt x="10790" y="15304"/>
                </a:moveTo>
                <a:cubicBezTo>
                  <a:pt x="10856" y="15266"/>
                  <a:pt x="10944" y="15283"/>
                  <a:pt x="11013" y="15255"/>
                </a:cubicBezTo>
                <a:cubicBezTo>
                  <a:pt x="11071" y="15231"/>
                  <a:pt x="11137" y="15164"/>
                  <a:pt x="11137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75040" y="595620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0765" y="16570"/>
                </a:moveTo>
                <a:cubicBezTo>
                  <a:pt x="10839" y="16570"/>
                  <a:pt x="10893" y="16551"/>
                  <a:pt x="10964" y="16545"/>
                </a:cubicBezTo>
                <a:cubicBezTo>
                  <a:pt x="10999" y="16542"/>
                  <a:pt x="10986" y="16570"/>
                  <a:pt x="11038" y="165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48040" y="6296040"/>
            <a:ext cx="144360" cy="312840"/>
          </a:xfrm>
          <a:custGeom>
            <a:avLst/>
            <a:gdLst/>
            <a:ahLst/>
            <a:rect l="l" t="t" r="r" b="b"/>
            <a:pathLst>
              <a:path w="398" h="869">
                <a:moveTo>
                  <a:pt x="11063" y="17661"/>
                </a:moveTo>
                <a:cubicBezTo>
                  <a:pt x="11102" y="17648"/>
                  <a:pt x="11079" y="17588"/>
                  <a:pt x="11038" y="17562"/>
                </a:cubicBezTo>
                <a:cubicBezTo>
                  <a:pt x="10935" y="17497"/>
                  <a:pt x="10874" y="17489"/>
                  <a:pt x="10765" y="17512"/>
                </a:cubicBezTo>
                <a:cubicBezTo>
                  <a:pt x="10691" y="17528"/>
                  <a:pt x="10693" y="17697"/>
                  <a:pt x="10691" y="17760"/>
                </a:cubicBezTo>
                <a:cubicBezTo>
                  <a:pt x="10688" y="17874"/>
                  <a:pt x="10697" y="17879"/>
                  <a:pt x="10765" y="17959"/>
                </a:cubicBezTo>
                <a:cubicBezTo>
                  <a:pt x="10852" y="17910"/>
                  <a:pt x="10961" y="17849"/>
                  <a:pt x="11013" y="17760"/>
                </a:cubicBezTo>
                <a:cubicBezTo>
                  <a:pt x="11035" y="17695"/>
                  <a:pt x="11043" y="17680"/>
                  <a:pt x="11038" y="17636"/>
                </a:cubicBezTo>
                <a:cubicBezTo>
                  <a:pt x="11038" y="17764"/>
                  <a:pt x="11026" y="17906"/>
                  <a:pt x="11013" y="18033"/>
                </a:cubicBezTo>
                <a:cubicBezTo>
                  <a:pt x="11001" y="18147"/>
                  <a:pt x="10980" y="18257"/>
                  <a:pt x="11013" y="18331"/>
                </a:cubicBezTo>
                <a:cubicBezTo>
                  <a:pt x="11013" y="18339"/>
                  <a:pt x="11013" y="18347"/>
                  <a:pt x="11013" y="183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Ex 1.)  4(8 + 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Ex 2.)  6(12 + 1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Ex 3.)  3 x (17 + 8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562880" y="2544840"/>
            <a:ext cx="795240" cy="330120"/>
          </a:xfrm>
          <a:custGeom>
            <a:avLst/>
            <a:gdLst/>
            <a:ahLst/>
            <a:rect l="l" t="t" r="r" b="b"/>
            <a:pathLst>
              <a:path w="2208" h="919">
                <a:moveTo>
                  <a:pt x="21010" y="7317"/>
                </a:moveTo>
                <a:cubicBezTo>
                  <a:pt x="21507" y="7267"/>
                  <a:pt x="22002" y="7210"/>
                  <a:pt x="22498" y="7144"/>
                </a:cubicBezTo>
                <a:cubicBezTo>
                  <a:pt x="22740" y="7112"/>
                  <a:pt x="22978" y="7098"/>
                  <a:pt x="23217" y="7069"/>
                </a:cubicBezTo>
              </a:path>
              <a:path w="2208" h="919">
                <a:moveTo>
                  <a:pt x="23168" y="7367"/>
                </a:moveTo>
                <a:cubicBezTo>
                  <a:pt x="23060" y="7367"/>
                  <a:pt x="22922" y="7373"/>
                  <a:pt x="22845" y="7466"/>
                </a:cubicBezTo>
                <a:cubicBezTo>
                  <a:pt x="22837" y="7491"/>
                  <a:pt x="22828" y="7516"/>
                  <a:pt x="22820" y="7541"/>
                </a:cubicBezTo>
                <a:cubicBezTo>
                  <a:pt x="22890" y="7630"/>
                  <a:pt x="23022" y="7681"/>
                  <a:pt x="23068" y="7789"/>
                </a:cubicBezTo>
                <a:cubicBezTo>
                  <a:pt x="23117" y="7904"/>
                  <a:pt x="22945" y="7899"/>
                  <a:pt x="22895" y="7888"/>
                </a:cubicBezTo>
                <a:cubicBezTo>
                  <a:pt x="22919" y="7672"/>
                  <a:pt x="23005" y="7592"/>
                  <a:pt x="23118" y="7417"/>
                </a:cubicBezTo>
                <a:cubicBezTo>
                  <a:pt x="23143" y="7379"/>
                  <a:pt x="23081" y="7392"/>
                  <a:pt x="23068" y="7392"/>
                </a:cubicBezTo>
              </a:path>
              <a:path w="2208" h="919">
                <a:moveTo>
                  <a:pt x="22399" y="7441"/>
                </a:moveTo>
                <a:cubicBezTo>
                  <a:pt x="22399" y="7369"/>
                  <a:pt x="22350" y="7659"/>
                  <a:pt x="22349" y="7665"/>
                </a:cubicBezTo>
                <a:cubicBezTo>
                  <a:pt x="22340" y="7711"/>
                  <a:pt x="22251" y="7927"/>
                  <a:pt x="22324" y="7962"/>
                </a:cubicBezTo>
                <a:cubicBezTo>
                  <a:pt x="22442" y="8018"/>
                  <a:pt x="22636" y="7998"/>
                  <a:pt x="22721" y="7888"/>
                </a:cubicBezTo>
                <a:cubicBezTo>
                  <a:pt x="22745" y="7815"/>
                  <a:pt x="22754" y="7791"/>
                  <a:pt x="22746" y="7739"/>
                </a:cubicBezTo>
                <a:cubicBezTo>
                  <a:pt x="22669" y="7693"/>
                  <a:pt x="22599" y="7705"/>
                  <a:pt x="22523" y="7764"/>
                </a:cubicBezTo>
                <a:cubicBezTo>
                  <a:pt x="22439" y="7829"/>
                  <a:pt x="22434" y="7868"/>
                  <a:pt x="22423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9760" y="3205080"/>
            <a:ext cx="804600" cy="1027080"/>
          </a:xfrm>
          <a:custGeom>
            <a:avLst/>
            <a:gdLst/>
            <a:ahLst/>
            <a:rect l="l" t="t" r="r" b="b"/>
            <a:pathLst>
              <a:path w="2234" h="2853">
                <a:moveTo>
                  <a:pt x="21158" y="9525"/>
                </a:moveTo>
                <a:cubicBezTo>
                  <a:pt x="21258" y="9463"/>
                  <a:pt x="21364" y="9393"/>
                  <a:pt x="21406" y="9575"/>
                </a:cubicBezTo>
                <a:cubicBezTo>
                  <a:pt x="21454" y="9782"/>
                  <a:pt x="21280" y="9939"/>
                  <a:pt x="21109" y="9996"/>
                </a:cubicBezTo>
                <a:cubicBezTo>
                  <a:pt x="21076" y="9996"/>
                  <a:pt x="21068" y="9988"/>
                  <a:pt x="21084" y="9947"/>
                </a:cubicBezTo>
                <a:cubicBezTo>
                  <a:pt x="21168" y="9875"/>
                  <a:pt x="21284" y="9881"/>
                  <a:pt x="21406" y="9922"/>
                </a:cubicBezTo>
                <a:cubicBezTo>
                  <a:pt x="21423" y="9930"/>
                  <a:pt x="21439" y="9939"/>
                  <a:pt x="21456" y="9947"/>
                </a:cubicBezTo>
              </a:path>
              <a:path w="2234" h="2853">
                <a:moveTo>
                  <a:pt x="21654" y="9426"/>
                </a:moveTo>
                <a:cubicBezTo>
                  <a:pt x="21726" y="9414"/>
                  <a:pt x="21837" y="9374"/>
                  <a:pt x="21878" y="9475"/>
                </a:cubicBezTo>
                <a:cubicBezTo>
                  <a:pt x="21930" y="9603"/>
                  <a:pt x="21760" y="9665"/>
                  <a:pt x="21679" y="9699"/>
                </a:cubicBezTo>
                <a:cubicBezTo>
                  <a:pt x="21744" y="9692"/>
                  <a:pt x="21909" y="9640"/>
                  <a:pt x="21952" y="9723"/>
                </a:cubicBezTo>
                <a:cubicBezTo>
                  <a:pt x="22028" y="9869"/>
                  <a:pt x="21786" y="9939"/>
                  <a:pt x="21704" y="9947"/>
                </a:cubicBezTo>
                <a:cubicBezTo>
                  <a:pt x="21643" y="9947"/>
                  <a:pt x="21609" y="9956"/>
                  <a:pt x="21654" y="9922"/>
                </a:cubicBezTo>
              </a:path>
              <a:path w="2234" h="2853">
                <a:moveTo>
                  <a:pt x="21704" y="10120"/>
                </a:moveTo>
                <a:cubicBezTo>
                  <a:pt x="21681" y="10200"/>
                  <a:pt x="21587" y="10340"/>
                  <a:pt x="21580" y="10418"/>
                </a:cubicBezTo>
                <a:cubicBezTo>
                  <a:pt x="21588" y="10435"/>
                  <a:pt x="21597" y="10451"/>
                  <a:pt x="21605" y="10468"/>
                </a:cubicBezTo>
                <a:cubicBezTo>
                  <a:pt x="21696" y="10512"/>
                  <a:pt x="21825" y="10473"/>
                  <a:pt x="21878" y="10368"/>
                </a:cubicBezTo>
                <a:cubicBezTo>
                  <a:pt x="21878" y="10343"/>
                  <a:pt x="21878" y="10319"/>
                  <a:pt x="21878" y="10294"/>
                </a:cubicBezTo>
                <a:cubicBezTo>
                  <a:pt x="21772" y="10294"/>
                  <a:pt x="21712" y="10345"/>
                  <a:pt x="21654" y="10443"/>
                </a:cubicBezTo>
                <a:cubicBezTo>
                  <a:pt x="21623" y="10496"/>
                  <a:pt x="21603" y="10552"/>
                  <a:pt x="21654" y="10517"/>
                </a:cubicBezTo>
              </a:path>
              <a:path w="2234" h="2853">
                <a:moveTo>
                  <a:pt x="20166" y="10864"/>
                </a:moveTo>
                <a:cubicBezTo>
                  <a:pt x="20876" y="10864"/>
                  <a:pt x="21676" y="10752"/>
                  <a:pt x="22374" y="10889"/>
                </a:cubicBezTo>
                <a:cubicBezTo>
                  <a:pt x="22480" y="10910"/>
                  <a:pt x="22256" y="10866"/>
                  <a:pt x="22250" y="10864"/>
                </a:cubicBezTo>
              </a:path>
              <a:path w="2234" h="2853">
                <a:moveTo>
                  <a:pt x="20265" y="10269"/>
                </a:moveTo>
                <a:cubicBezTo>
                  <a:pt x="20281" y="10348"/>
                  <a:pt x="20326" y="10445"/>
                  <a:pt x="20365" y="10517"/>
                </a:cubicBezTo>
                <a:cubicBezTo>
                  <a:pt x="20373" y="10525"/>
                  <a:pt x="20381" y="10534"/>
                  <a:pt x="20389" y="10542"/>
                </a:cubicBezTo>
              </a:path>
              <a:path w="2234" h="2853">
                <a:moveTo>
                  <a:pt x="20464" y="10294"/>
                </a:moveTo>
                <a:cubicBezTo>
                  <a:pt x="20432" y="10331"/>
                  <a:pt x="20201" y="10540"/>
                  <a:pt x="20216" y="10592"/>
                </a:cubicBezTo>
                <a:cubicBezTo>
                  <a:pt x="20232" y="10592"/>
                  <a:pt x="20249" y="10592"/>
                  <a:pt x="20265" y="10592"/>
                </a:cubicBezTo>
              </a:path>
              <a:path w="2234" h="2853">
                <a:moveTo>
                  <a:pt x="21779" y="11286"/>
                </a:moveTo>
                <a:cubicBezTo>
                  <a:pt x="21834" y="11300"/>
                  <a:pt x="21838" y="11306"/>
                  <a:pt x="21779" y="11286"/>
                </a:cubicBezTo>
                <a:cubicBezTo>
                  <a:pt x="21655" y="11244"/>
                  <a:pt x="21612" y="11278"/>
                  <a:pt x="21506" y="11336"/>
                </a:cubicBezTo>
                <a:cubicBezTo>
                  <a:pt x="21580" y="11471"/>
                  <a:pt x="21688" y="11472"/>
                  <a:pt x="21779" y="11584"/>
                </a:cubicBezTo>
                <a:cubicBezTo>
                  <a:pt x="21867" y="11693"/>
                  <a:pt x="21728" y="11741"/>
                  <a:pt x="21654" y="11757"/>
                </a:cubicBezTo>
                <a:cubicBezTo>
                  <a:pt x="21583" y="11628"/>
                  <a:pt x="21664" y="11574"/>
                  <a:pt x="21729" y="11435"/>
                </a:cubicBezTo>
                <a:cubicBezTo>
                  <a:pt x="21795" y="11295"/>
                  <a:pt x="21784" y="11245"/>
                  <a:pt x="21729" y="11112"/>
                </a:cubicBezTo>
                <a:cubicBezTo>
                  <a:pt x="21712" y="11071"/>
                  <a:pt x="21696" y="11029"/>
                  <a:pt x="21679" y="10988"/>
                </a:cubicBezTo>
              </a:path>
              <a:path w="2234" h="2853">
                <a:moveTo>
                  <a:pt x="21183" y="8905"/>
                </a:moveTo>
                <a:cubicBezTo>
                  <a:pt x="21183" y="9008"/>
                  <a:pt x="21162" y="9101"/>
                  <a:pt x="21158" y="9203"/>
                </a:cubicBezTo>
                <a:cubicBezTo>
                  <a:pt x="21158" y="9219"/>
                  <a:pt x="21158" y="9236"/>
                  <a:pt x="21158" y="9252"/>
                </a:cubicBezTo>
              </a:path>
              <a:path w="2234" h="2853">
                <a:moveTo>
                  <a:pt x="20762" y="11038"/>
                </a:moveTo>
                <a:cubicBezTo>
                  <a:pt x="20784" y="11222"/>
                  <a:pt x="20786" y="11399"/>
                  <a:pt x="20786" y="11584"/>
                </a:cubicBezTo>
                <a:cubicBezTo>
                  <a:pt x="20786" y="11600"/>
                  <a:pt x="20786" y="11617"/>
                  <a:pt x="20786" y="11633"/>
                </a:cubicBezTo>
              </a:path>
              <a:path w="2234" h="2853">
                <a:moveTo>
                  <a:pt x="21084" y="11137"/>
                </a:moveTo>
                <a:cubicBezTo>
                  <a:pt x="21129" y="11077"/>
                  <a:pt x="21188" y="11078"/>
                  <a:pt x="21258" y="11112"/>
                </a:cubicBezTo>
                <a:cubicBezTo>
                  <a:pt x="21202" y="11223"/>
                  <a:pt x="21147" y="11297"/>
                  <a:pt x="21059" y="11385"/>
                </a:cubicBezTo>
                <a:cubicBezTo>
                  <a:pt x="21135" y="11367"/>
                  <a:pt x="21189" y="11298"/>
                  <a:pt x="21282" y="11361"/>
                </a:cubicBezTo>
                <a:cubicBezTo>
                  <a:pt x="21422" y="11456"/>
                  <a:pt x="21251" y="11617"/>
                  <a:pt x="21158" y="11658"/>
                </a:cubicBezTo>
                <a:cubicBezTo>
                  <a:pt x="21056" y="11684"/>
                  <a:pt x="21021" y="11691"/>
                  <a:pt x="20960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0280" y="5510160"/>
            <a:ext cx="223920" cy="160560"/>
          </a:xfrm>
          <a:custGeom>
            <a:avLst/>
            <a:gdLst/>
            <a:ahLst/>
            <a:rect l="l" t="t" r="r" b="b"/>
            <a:pathLst>
              <a:path w="622" h="448">
                <a:moveTo>
                  <a:pt x="9773" y="15354"/>
                </a:moveTo>
                <a:cubicBezTo>
                  <a:pt x="9834" y="15339"/>
                  <a:pt x="9859" y="15308"/>
                  <a:pt x="9922" y="15329"/>
                </a:cubicBezTo>
                <a:cubicBezTo>
                  <a:pt x="9909" y="15445"/>
                  <a:pt x="9837" y="15472"/>
                  <a:pt x="9798" y="15553"/>
                </a:cubicBezTo>
                <a:cubicBezTo>
                  <a:pt x="9806" y="15553"/>
                  <a:pt x="9815" y="15553"/>
                  <a:pt x="9823" y="15553"/>
                </a:cubicBezTo>
                <a:cubicBezTo>
                  <a:pt x="9891" y="15542"/>
                  <a:pt x="10082" y="15539"/>
                  <a:pt x="9971" y="15677"/>
                </a:cubicBezTo>
                <a:cubicBezTo>
                  <a:pt x="9896" y="15770"/>
                  <a:pt x="9760" y="15776"/>
                  <a:pt x="9723" y="15701"/>
                </a:cubicBezTo>
              </a:path>
              <a:path w="622" h="448">
                <a:moveTo>
                  <a:pt x="10195" y="15453"/>
                </a:moveTo>
                <a:cubicBezTo>
                  <a:pt x="10207" y="15475"/>
                  <a:pt x="10322" y="15688"/>
                  <a:pt x="10344" y="15677"/>
                </a:cubicBezTo>
                <a:cubicBezTo>
                  <a:pt x="10344" y="15669"/>
                  <a:pt x="10344" y="15660"/>
                  <a:pt x="10344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71800" y="2394000"/>
            <a:ext cx="5742000" cy="3402000"/>
          </a:xfrm>
          <a:custGeom>
            <a:avLst/>
            <a:gdLst/>
            <a:ahLst/>
            <a:rect l="l" t="t" r="r" b="b"/>
            <a:pathLst>
              <a:path w="15950" h="9451">
                <a:moveTo>
                  <a:pt x="21481" y="6672"/>
                </a:moveTo>
                <a:cubicBezTo>
                  <a:pt x="21576" y="6776"/>
                  <a:pt x="21641" y="6869"/>
                  <a:pt x="21704" y="6995"/>
                </a:cubicBezTo>
              </a:path>
              <a:path w="15950" h="9451">
                <a:moveTo>
                  <a:pt x="21704" y="6648"/>
                </a:moveTo>
                <a:cubicBezTo>
                  <a:pt x="21638" y="6768"/>
                  <a:pt x="21557" y="6900"/>
                  <a:pt x="21506" y="7020"/>
                </a:cubicBezTo>
              </a:path>
              <a:path w="15950" h="9451">
                <a:moveTo>
                  <a:pt x="19000" y="9401"/>
                </a:moveTo>
                <a:cubicBezTo>
                  <a:pt x="19176" y="9621"/>
                  <a:pt x="19441" y="9879"/>
                  <a:pt x="19372" y="10195"/>
                </a:cubicBezTo>
                <a:cubicBezTo>
                  <a:pt x="19346" y="10316"/>
                  <a:pt x="19204" y="10408"/>
                  <a:pt x="19100" y="10443"/>
                </a:cubicBezTo>
              </a:path>
              <a:path w="15950" h="9451">
                <a:moveTo>
                  <a:pt x="17487" y="10815"/>
                </a:moveTo>
                <a:cubicBezTo>
                  <a:pt x="17386" y="10992"/>
                  <a:pt x="17348" y="11152"/>
                  <a:pt x="17363" y="11361"/>
                </a:cubicBezTo>
                <a:cubicBezTo>
                  <a:pt x="17379" y="11584"/>
                  <a:pt x="17586" y="11722"/>
                  <a:pt x="17810" y="11708"/>
                </a:cubicBezTo>
                <a:cubicBezTo>
                  <a:pt x="17876" y="11691"/>
                  <a:pt x="17942" y="11675"/>
                  <a:pt x="18008" y="11658"/>
                </a:cubicBezTo>
              </a:path>
              <a:path w="15950" h="9451">
                <a:moveTo>
                  <a:pt x="18703" y="10864"/>
                </a:moveTo>
                <a:cubicBezTo>
                  <a:pt x="18814" y="10951"/>
                  <a:pt x="18943" y="11116"/>
                  <a:pt x="18976" y="11261"/>
                </a:cubicBezTo>
                <a:cubicBezTo>
                  <a:pt x="19024" y="11472"/>
                  <a:pt x="18915" y="11691"/>
                  <a:pt x="18703" y="11757"/>
                </a:cubicBezTo>
                <a:cubicBezTo>
                  <a:pt x="18578" y="11757"/>
                  <a:pt x="18536" y="11757"/>
                  <a:pt x="18455" y="11733"/>
                </a:cubicBezTo>
              </a:path>
              <a:path w="15950" h="9451">
                <a:moveTo>
                  <a:pt x="7689" y="15081"/>
                </a:moveTo>
                <a:cubicBezTo>
                  <a:pt x="7839" y="15277"/>
                  <a:pt x="7974" y="15435"/>
                  <a:pt x="7888" y="15701"/>
                </a:cubicBezTo>
                <a:cubicBezTo>
                  <a:pt x="7814" y="15824"/>
                  <a:pt x="7790" y="15864"/>
                  <a:pt x="7714" y="15925"/>
                </a:cubicBezTo>
              </a:path>
              <a:path w="15950" h="9451">
                <a:moveTo>
                  <a:pt x="5879" y="15280"/>
                </a:moveTo>
                <a:cubicBezTo>
                  <a:pt x="5818" y="15476"/>
                  <a:pt x="5692" y="15765"/>
                  <a:pt x="5755" y="15974"/>
                </a:cubicBezTo>
                <a:cubicBezTo>
                  <a:pt x="5809" y="16151"/>
                  <a:pt x="5938" y="16079"/>
                  <a:pt x="6052" y="16049"/>
                </a:cubicBezTo>
              </a:path>
              <a:path w="15950" h="9451">
                <a:moveTo>
                  <a:pt x="10815" y="15131"/>
                </a:moveTo>
                <a:cubicBezTo>
                  <a:pt x="10959" y="15160"/>
                  <a:pt x="10998" y="15379"/>
                  <a:pt x="11013" y="15503"/>
                </a:cubicBezTo>
                <a:cubicBezTo>
                  <a:pt x="11044" y="15762"/>
                  <a:pt x="10974" y="15831"/>
                  <a:pt x="10815" y="15999"/>
                </a:cubicBezTo>
              </a:path>
              <a:path w="15950" h="9451">
                <a:moveTo>
                  <a:pt x="16371" y="14114"/>
                </a:moveTo>
                <a:cubicBezTo>
                  <a:pt x="16319" y="14229"/>
                  <a:pt x="16267" y="14281"/>
                  <a:pt x="16297" y="14387"/>
                </a:cubicBezTo>
              </a:path>
              <a:path w="15950" h="9451">
                <a:moveTo>
                  <a:pt x="17140" y="13717"/>
                </a:moveTo>
                <a:cubicBezTo>
                  <a:pt x="17070" y="13940"/>
                  <a:pt x="16991" y="14176"/>
                  <a:pt x="16991" y="14412"/>
                </a:cubicBezTo>
                <a:cubicBezTo>
                  <a:pt x="16991" y="14558"/>
                  <a:pt x="17016" y="14572"/>
                  <a:pt x="17115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92840" y="3384720"/>
            <a:ext cx="957240" cy="785520"/>
          </a:xfrm>
          <a:custGeom>
            <a:avLst/>
            <a:gdLst/>
            <a:ahLst/>
            <a:rect l="l" t="t" r="r" b="b"/>
            <a:pathLst>
              <a:path w="2655" h="2184">
                <a:moveTo>
                  <a:pt x="16446" y="9624"/>
                </a:moveTo>
                <a:cubicBezTo>
                  <a:pt x="16410" y="9776"/>
                  <a:pt x="16376" y="9916"/>
                  <a:pt x="16371" y="10071"/>
                </a:cubicBezTo>
                <a:cubicBezTo>
                  <a:pt x="16368" y="10182"/>
                  <a:pt x="16438" y="10245"/>
                  <a:pt x="16545" y="10195"/>
                </a:cubicBezTo>
                <a:cubicBezTo>
                  <a:pt x="16613" y="10163"/>
                  <a:pt x="16698" y="10105"/>
                  <a:pt x="16669" y="10046"/>
                </a:cubicBezTo>
                <a:cubicBezTo>
                  <a:pt x="16606" y="10060"/>
                  <a:pt x="16446" y="10101"/>
                  <a:pt x="16470" y="10195"/>
                </a:cubicBezTo>
                <a:cubicBezTo>
                  <a:pt x="16521" y="10195"/>
                  <a:pt x="16554" y="10189"/>
                  <a:pt x="16594" y="10170"/>
                </a:cubicBezTo>
              </a:path>
              <a:path w="2655" h="2184">
                <a:moveTo>
                  <a:pt x="17190" y="9401"/>
                </a:moveTo>
                <a:cubicBezTo>
                  <a:pt x="17040" y="9476"/>
                  <a:pt x="17014" y="9638"/>
                  <a:pt x="16966" y="9798"/>
                </a:cubicBezTo>
                <a:cubicBezTo>
                  <a:pt x="16918" y="9960"/>
                  <a:pt x="16828" y="10199"/>
                  <a:pt x="16966" y="10344"/>
                </a:cubicBezTo>
                <a:cubicBezTo>
                  <a:pt x="17033" y="10376"/>
                  <a:pt x="17066" y="10376"/>
                  <a:pt x="17115" y="10319"/>
                </a:cubicBezTo>
              </a:path>
              <a:path w="2655" h="2184">
                <a:moveTo>
                  <a:pt x="17338" y="9674"/>
                </a:moveTo>
                <a:cubicBezTo>
                  <a:pt x="17317" y="9825"/>
                  <a:pt x="17281" y="10018"/>
                  <a:pt x="17314" y="10170"/>
                </a:cubicBezTo>
                <a:cubicBezTo>
                  <a:pt x="17322" y="10178"/>
                  <a:pt x="17330" y="10187"/>
                  <a:pt x="17338" y="10195"/>
                </a:cubicBezTo>
              </a:path>
              <a:path w="2655" h="2184">
                <a:moveTo>
                  <a:pt x="17537" y="9748"/>
                </a:moveTo>
                <a:cubicBezTo>
                  <a:pt x="17651" y="9762"/>
                  <a:pt x="17813" y="9774"/>
                  <a:pt x="17835" y="9922"/>
                </a:cubicBezTo>
                <a:cubicBezTo>
                  <a:pt x="17860" y="10093"/>
                  <a:pt x="17618" y="10188"/>
                  <a:pt x="17487" y="10170"/>
                </a:cubicBezTo>
                <a:cubicBezTo>
                  <a:pt x="17464" y="10147"/>
                  <a:pt x="17456" y="10143"/>
                  <a:pt x="17462" y="10120"/>
                </a:cubicBezTo>
                <a:cubicBezTo>
                  <a:pt x="17567" y="10068"/>
                  <a:pt x="17668" y="10034"/>
                  <a:pt x="17760" y="10145"/>
                </a:cubicBezTo>
                <a:cubicBezTo>
                  <a:pt x="17760" y="10185"/>
                  <a:pt x="17771" y="10204"/>
                  <a:pt x="17810" y="10220"/>
                </a:cubicBezTo>
              </a:path>
              <a:path w="2655" h="2184">
                <a:moveTo>
                  <a:pt x="18207" y="9872"/>
                </a:moveTo>
                <a:cubicBezTo>
                  <a:pt x="18225" y="9977"/>
                  <a:pt x="18212" y="10107"/>
                  <a:pt x="18256" y="10195"/>
                </a:cubicBezTo>
              </a:path>
              <a:path w="2655" h="2184">
                <a:moveTo>
                  <a:pt x="18132" y="10021"/>
                </a:moveTo>
                <a:cubicBezTo>
                  <a:pt x="18243" y="10033"/>
                  <a:pt x="18346" y="10038"/>
                  <a:pt x="18455" y="10046"/>
                </a:cubicBezTo>
                <a:cubicBezTo>
                  <a:pt x="18480" y="10046"/>
                  <a:pt x="18504" y="10046"/>
                  <a:pt x="18529" y="10046"/>
                </a:cubicBezTo>
              </a:path>
              <a:path w="2655" h="2184">
                <a:moveTo>
                  <a:pt x="18728" y="9872"/>
                </a:moveTo>
                <a:cubicBezTo>
                  <a:pt x="18728" y="9993"/>
                  <a:pt x="18739" y="10102"/>
                  <a:pt x="18752" y="10220"/>
                </a:cubicBezTo>
                <a:cubicBezTo>
                  <a:pt x="18752" y="10261"/>
                  <a:pt x="18752" y="10285"/>
                  <a:pt x="18752" y="10244"/>
                </a:cubicBezTo>
              </a:path>
              <a:path w="2655" h="2184">
                <a:moveTo>
                  <a:pt x="18976" y="9872"/>
                </a:moveTo>
                <a:cubicBezTo>
                  <a:pt x="18976" y="9986"/>
                  <a:pt x="18969" y="10134"/>
                  <a:pt x="19000" y="10244"/>
                </a:cubicBezTo>
                <a:cubicBezTo>
                  <a:pt x="19023" y="10267"/>
                  <a:pt x="19031" y="10278"/>
                  <a:pt x="19025" y="10244"/>
                </a:cubicBezTo>
              </a:path>
              <a:path w="2655" h="2184">
                <a:moveTo>
                  <a:pt x="17611" y="10393"/>
                </a:moveTo>
                <a:cubicBezTo>
                  <a:pt x="17611" y="10476"/>
                  <a:pt x="17611" y="10558"/>
                  <a:pt x="17611" y="10641"/>
                </a:cubicBezTo>
                <a:cubicBezTo>
                  <a:pt x="17785" y="10658"/>
                  <a:pt x="17955" y="10661"/>
                  <a:pt x="18132" y="10666"/>
                </a:cubicBezTo>
                <a:cubicBezTo>
                  <a:pt x="18310" y="10671"/>
                  <a:pt x="18480" y="10694"/>
                  <a:pt x="18653" y="10716"/>
                </a:cubicBezTo>
                <a:cubicBezTo>
                  <a:pt x="18714" y="10724"/>
                  <a:pt x="18763" y="10740"/>
                  <a:pt x="18827" y="10740"/>
                </a:cubicBezTo>
                <a:cubicBezTo>
                  <a:pt x="18833" y="10683"/>
                  <a:pt x="18859" y="10641"/>
                  <a:pt x="18876" y="10592"/>
                </a:cubicBezTo>
                <a:cubicBezTo>
                  <a:pt x="18876" y="10584"/>
                  <a:pt x="18876" y="10575"/>
                  <a:pt x="18876" y="10567"/>
                </a:cubicBezTo>
              </a:path>
              <a:path w="2655" h="2184">
                <a:moveTo>
                  <a:pt x="17810" y="11112"/>
                </a:moveTo>
                <a:cubicBezTo>
                  <a:pt x="17844" y="11085"/>
                  <a:pt x="17959" y="10994"/>
                  <a:pt x="18008" y="11038"/>
                </a:cubicBezTo>
                <a:cubicBezTo>
                  <a:pt x="18144" y="11160"/>
                  <a:pt x="18032" y="11406"/>
                  <a:pt x="17909" y="11485"/>
                </a:cubicBezTo>
                <a:cubicBezTo>
                  <a:pt x="17832" y="11535"/>
                  <a:pt x="17787" y="11514"/>
                  <a:pt x="17760" y="11460"/>
                </a:cubicBezTo>
                <a:cubicBezTo>
                  <a:pt x="17809" y="11362"/>
                  <a:pt x="17861" y="11312"/>
                  <a:pt x="17983" y="11361"/>
                </a:cubicBezTo>
                <a:cubicBezTo>
                  <a:pt x="18013" y="11390"/>
                  <a:pt x="18025" y="11404"/>
                  <a:pt x="18033" y="11435"/>
                </a:cubicBezTo>
              </a:path>
              <a:path w="2655" h="2184">
                <a:moveTo>
                  <a:pt x="18207" y="11063"/>
                </a:moveTo>
                <a:cubicBezTo>
                  <a:pt x="18227" y="11032"/>
                  <a:pt x="18300" y="11027"/>
                  <a:pt x="18355" y="11038"/>
                </a:cubicBezTo>
                <a:cubicBezTo>
                  <a:pt x="18488" y="11065"/>
                  <a:pt x="18426" y="11121"/>
                  <a:pt x="18355" y="11162"/>
                </a:cubicBezTo>
                <a:cubicBezTo>
                  <a:pt x="18425" y="11180"/>
                  <a:pt x="18496" y="11172"/>
                  <a:pt x="18529" y="11261"/>
                </a:cubicBezTo>
                <a:cubicBezTo>
                  <a:pt x="18572" y="11375"/>
                  <a:pt x="18423" y="11471"/>
                  <a:pt x="18331" y="11485"/>
                </a:cubicBezTo>
                <a:cubicBezTo>
                  <a:pt x="18227" y="11485"/>
                  <a:pt x="18191" y="11483"/>
                  <a:pt x="18132" y="11435"/>
                </a:cubicBezTo>
              </a:path>
              <a:path w="2655" h="2184">
                <a:moveTo>
                  <a:pt x="16867" y="11038"/>
                </a:moveTo>
                <a:cubicBezTo>
                  <a:pt x="16824" y="11016"/>
                  <a:pt x="16743" y="11206"/>
                  <a:pt x="16718" y="11286"/>
                </a:cubicBezTo>
                <a:cubicBezTo>
                  <a:pt x="16678" y="11415"/>
                  <a:pt x="16656" y="11584"/>
                  <a:pt x="16842" y="11584"/>
                </a:cubicBezTo>
                <a:cubicBezTo>
                  <a:pt x="17012" y="11584"/>
                  <a:pt x="17079" y="11453"/>
                  <a:pt x="17115" y="11311"/>
                </a:cubicBezTo>
                <a:cubicBezTo>
                  <a:pt x="17115" y="11268"/>
                  <a:pt x="17098" y="11254"/>
                  <a:pt x="17041" y="11261"/>
                </a:cubicBezTo>
                <a:cubicBezTo>
                  <a:pt x="16956" y="11346"/>
                  <a:pt x="16861" y="11422"/>
                  <a:pt x="16892" y="11559"/>
                </a:cubicBezTo>
                <a:cubicBezTo>
                  <a:pt x="16926" y="11593"/>
                  <a:pt x="16947" y="11601"/>
                  <a:pt x="16991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54920" y="2589120"/>
            <a:ext cx="106200" cy="339840"/>
          </a:xfrm>
          <a:custGeom>
            <a:avLst/>
            <a:gdLst/>
            <a:ahLst/>
            <a:rect l="l" t="t" r="r" b="b"/>
            <a:pathLst>
              <a:path w="298" h="944">
                <a:moveTo>
                  <a:pt x="19596" y="7218"/>
                </a:moveTo>
                <a:cubicBezTo>
                  <a:pt x="19623" y="7137"/>
                  <a:pt x="19793" y="7416"/>
                  <a:pt x="19794" y="7417"/>
                </a:cubicBezTo>
                <a:cubicBezTo>
                  <a:pt x="19914" y="7626"/>
                  <a:pt x="19931" y="7869"/>
                  <a:pt x="19769" y="8062"/>
                </a:cubicBezTo>
                <a:cubicBezTo>
                  <a:pt x="19736" y="8087"/>
                  <a:pt x="19703" y="8111"/>
                  <a:pt x="19670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83360" y="1758960"/>
            <a:ext cx="330480" cy="741240"/>
          </a:xfrm>
          <a:custGeom>
            <a:avLst/>
            <a:gdLst/>
            <a:ahLst/>
            <a:rect l="l" t="t" r="r" b="b"/>
            <a:pathLst>
              <a:path w="919" h="2059">
                <a:moveTo>
                  <a:pt x="22374" y="5680"/>
                </a:moveTo>
                <a:cubicBezTo>
                  <a:pt x="22400" y="5835"/>
                  <a:pt x="22401" y="5967"/>
                  <a:pt x="22374" y="6127"/>
                </a:cubicBezTo>
                <a:cubicBezTo>
                  <a:pt x="22373" y="6131"/>
                  <a:pt x="22288" y="6413"/>
                  <a:pt x="22349" y="6201"/>
                </a:cubicBezTo>
              </a:path>
              <a:path w="919" h="2059">
                <a:moveTo>
                  <a:pt x="22622" y="5556"/>
                </a:moveTo>
                <a:cubicBezTo>
                  <a:pt x="22728" y="5577"/>
                  <a:pt x="22777" y="5585"/>
                  <a:pt x="22895" y="5556"/>
                </a:cubicBezTo>
                <a:cubicBezTo>
                  <a:pt x="22962" y="5533"/>
                  <a:pt x="22980" y="5528"/>
                  <a:pt x="23019" y="5507"/>
                </a:cubicBezTo>
                <a:cubicBezTo>
                  <a:pt x="23019" y="5625"/>
                  <a:pt x="22964" y="5761"/>
                  <a:pt x="22944" y="5879"/>
                </a:cubicBezTo>
                <a:cubicBezTo>
                  <a:pt x="22925" y="5989"/>
                  <a:pt x="22905" y="6058"/>
                  <a:pt x="22944" y="6152"/>
                </a:cubicBezTo>
              </a:path>
              <a:path w="919" h="2059">
                <a:moveTo>
                  <a:pt x="22771" y="6548"/>
                </a:moveTo>
                <a:cubicBezTo>
                  <a:pt x="22749" y="6615"/>
                  <a:pt x="22744" y="6633"/>
                  <a:pt x="22721" y="6672"/>
                </a:cubicBezTo>
                <a:cubicBezTo>
                  <a:pt x="22803" y="6727"/>
                  <a:pt x="22896" y="6721"/>
                  <a:pt x="22994" y="6697"/>
                </a:cubicBezTo>
                <a:cubicBezTo>
                  <a:pt x="23043" y="6685"/>
                  <a:pt x="23076" y="6657"/>
                  <a:pt x="23093" y="6623"/>
                </a:cubicBezTo>
              </a:path>
              <a:path w="919" h="2059">
                <a:moveTo>
                  <a:pt x="23068" y="6375"/>
                </a:moveTo>
                <a:cubicBezTo>
                  <a:pt x="23003" y="6487"/>
                  <a:pt x="23036" y="6643"/>
                  <a:pt x="23019" y="6772"/>
                </a:cubicBezTo>
                <a:cubicBezTo>
                  <a:pt x="23010" y="6842"/>
                  <a:pt x="22994" y="6879"/>
                  <a:pt x="22994" y="6945"/>
                </a:cubicBezTo>
              </a:path>
              <a:path w="919" h="2059">
                <a:moveTo>
                  <a:pt x="22448" y="4986"/>
                </a:moveTo>
                <a:cubicBezTo>
                  <a:pt x="22423" y="4986"/>
                  <a:pt x="22415" y="4986"/>
                  <a:pt x="22423" y="5011"/>
                </a:cubicBezTo>
                <a:cubicBezTo>
                  <a:pt x="22434" y="4967"/>
                  <a:pt x="22478" y="4910"/>
                  <a:pt x="22523" y="4887"/>
                </a:cubicBezTo>
                <a:cubicBezTo>
                  <a:pt x="22593" y="4852"/>
                  <a:pt x="22497" y="5180"/>
                  <a:pt x="22473" y="5209"/>
                </a:cubicBezTo>
                <a:cubicBezTo>
                  <a:pt x="22415" y="5280"/>
                  <a:pt x="22261" y="5358"/>
                  <a:pt x="22175" y="5283"/>
                </a:cubicBezTo>
                <a:cubicBezTo>
                  <a:pt x="22175" y="5275"/>
                  <a:pt x="22175" y="5267"/>
                  <a:pt x="22175" y="5259"/>
                </a:cubicBezTo>
                <a:cubicBezTo>
                  <a:pt x="22276" y="5191"/>
                  <a:pt x="22328" y="5210"/>
                  <a:pt x="22448" y="5234"/>
                </a:cubicBezTo>
                <a:cubicBezTo>
                  <a:pt x="22473" y="5234"/>
                  <a:pt x="22481" y="5234"/>
                  <a:pt x="22498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33640" y="1241280"/>
            <a:ext cx="7037280" cy="5357880"/>
          </a:xfrm>
          <a:custGeom>
            <a:avLst/>
            <a:gdLst/>
            <a:ahLst/>
            <a:rect l="l" t="t" r="r" b="b"/>
            <a:pathLst>
              <a:path w="19547" h="14884">
                <a:moveTo>
                  <a:pt x="3150" y="3572"/>
                </a:moveTo>
                <a:cubicBezTo>
                  <a:pt x="3282" y="3569"/>
                  <a:pt x="3396" y="3565"/>
                  <a:pt x="3522" y="3572"/>
                </a:cubicBezTo>
                <a:cubicBezTo>
                  <a:pt x="3647" y="3579"/>
                  <a:pt x="3767" y="3592"/>
                  <a:pt x="3894" y="3597"/>
                </a:cubicBezTo>
                <a:cubicBezTo>
                  <a:pt x="4050" y="3604"/>
                  <a:pt x="4211" y="3624"/>
                  <a:pt x="4366" y="3621"/>
                </a:cubicBezTo>
                <a:cubicBezTo>
                  <a:pt x="4485" y="3619"/>
                  <a:pt x="4596" y="3599"/>
                  <a:pt x="4713" y="3597"/>
                </a:cubicBezTo>
                <a:cubicBezTo>
                  <a:pt x="4955" y="3592"/>
                  <a:pt x="5191" y="3586"/>
                  <a:pt x="5432" y="3572"/>
                </a:cubicBezTo>
                <a:cubicBezTo>
                  <a:pt x="5567" y="3564"/>
                  <a:pt x="5696" y="3558"/>
                  <a:pt x="5829" y="3547"/>
                </a:cubicBezTo>
                <a:cubicBezTo>
                  <a:pt x="6037" y="3531"/>
                  <a:pt x="6240" y="3524"/>
                  <a:pt x="6449" y="3522"/>
                </a:cubicBezTo>
                <a:cubicBezTo>
                  <a:pt x="6638" y="3520"/>
                  <a:pt x="6836" y="3532"/>
                  <a:pt x="7020" y="3522"/>
                </a:cubicBezTo>
                <a:cubicBezTo>
                  <a:pt x="7198" y="3513"/>
                  <a:pt x="7364" y="3518"/>
                  <a:pt x="7541" y="3522"/>
                </a:cubicBezTo>
                <a:cubicBezTo>
                  <a:pt x="7729" y="3526"/>
                  <a:pt x="7929" y="3530"/>
                  <a:pt x="8111" y="3522"/>
                </a:cubicBezTo>
                <a:cubicBezTo>
                  <a:pt x="8408" y="3509"/>
                  <a:pt x="8707" y="3482"/>
                  <a:pt x="9004" y="3473"/>
                </a:cubicBezTo>
                <a:cubicBezTo>
                  <a:pt x="9194" y="3467"/>
                  <a:pt x="9390" y="3482"/>
                  <a:pt x="9575" y="3473"/>
                </a:cubicBezTo>
                <a:cubicBezTo>
                  <a:pt x="9859" y="3459"/>
                  <a:pt x="10134" y="3464"/>
                  <a:pt x="10418" y="3473"/>
                </a:cubicBezTo>
                <a:cubicBezTo>
                  <a:pt x="10823" y="3485"/>
                  <a:pt x="11229" y="3494"/>
                  <a:pt x="11633" y="3497"/>
                </a:cubicBezTo>
                <a:cubicBezTo>
                  <a:pt x="12164" y="3501"/>
                  <a:pt x="12692" y="3497"/>
                  <a:pt x="13221" y="3522"/>
                </a:cubicBezTo>
                <a:cubicBezTo>
                  <a:pt x="13518" y="3536"/>
                  <a:pt x="13815" y="3559"/>
                  <a:pt x="14114" y="3547"/>
                </a:cubicBezTo>
                <a:cubicBezTo>
                  <a:pt x="14687" y="3525"/>
                  <a:pt x="15252" y="3529"/>
                  <a:pt x="15825" y="3547"/>
                </a:cubicBezTo>
                <a:cubicBezTo>
                  <a:pt x="16172" y="3558"/>
                  <a:pt x="16520" y="3589"/>
                  <a:pt x="16867" y="3597"/>
                </a:cubicBezTo>
                <a:cubicBezTo>
                  <a:pt x="17206" y="3605"/>
                  <a:pt x="17547" y="3607"/>
                  <a:pt x="17884" y="3621"/>
                </a:cubicBezTo>
                <a:cubicBezTo>
                  <a:pt x="17958" y="3624"/>
                  <a:pt x="17950" y="3617"/>
                  <a:pt x="18008" y="3621"/>
                </a:cubicBezTo>
              </a:path>
              <a:path w="19547" h="14884">
                <a:moveTo>
                  <a:pt x="15503" y="5432"/>
                </a:moveTo>
                <a:cubicBezTo>
                  <a:pt x="15640" y="5432"/>
                  <a:pt x="15802" y="5425"/>
                  <a:pt x="15949" y="5432"/>
                </a:cubicBezTo>
                <a:cubicBezTo>
                  <a:pt x="16419" y="5454"/>
                  <a:pt x="16892" y="5495"/>
                  <a:pt x="17363" y="5507"/>
                </a:cubicBezTo>
                <a:cubicBezTo>
                  <a:pt x="17974" y="5523"/>
                  <a:pt x="18588" y="5527"/>
                  <a:pt x="19199" y="5531"/>
                </a:cubicBezTo>
                <a:cubicBezTo>
                  <a:pt x="19712" y="5534"/>
                  <a:pt x="20223" y="5507"/>
                  <a:pt x="20737" y="5507"/>
                </a:cubicBezTo>
                <a:cubicBezTo>
                  <a:pt x="21169" y="5507"/>
                  <a:pt x="21597" y="5490"/>
                  <a:pt x="22027" y="5482"/>
                </a:cubicBezTo>
                <a:cubicBezTo>
                  <a:pt x="22223" y="5478"/>
                  <a:pt x="22484" y="5445"/>
                  <a:pt x="22671" y="5457"/>
                </a:cubicBezTo>
                <a:cubicBezTo>
                  <a:pt x="22679" y="5465"/>
                  <a:pt x="22688" y="5474"/>
                  <a:pt x="22696" y="5482"/>
                </a:cubicBezTo>
              </a:path>
              <a:path w="19547" h="14884">
                <a:moveTo>
                  <a:pt x="13072" y="12179"/>
                </a:moveTo>
                <a:cubicBezTo>
                  <a:pt x="13127" y="12256"/>
                  <a:pt x="13174" y="12343"/>
                  <a:pt x="13221" y="12427"/>
                </a:cubicBezTo>
                <a:cubicBezTo>
                  <a:pt x="13365" y="12271"/>
                  <a:pt x="13445" y="12050"/>
                  <a:pt x="13593" y="11906"/>
                </a:cubicBezTo>
                <a:cubicBezTo>
                  <a:pt x="13626" y="11890"/>
                  <a:pt x="13659" y="11873"/>
                  <a:pt x="13692" y="11857"/>
                </a:cubicBezTo>
              </a:path>
              <a:path w="19547" h="14884">
                <a:moveTo>
                  <a:pt x="13965" y="4539"/>
                </a:moveTo>
                <a:cubicBezTo>
                  <a:pt x="13951" y="4595"/>
                  <a:pt x="13929" y="4648"/>
                  <a:pt x="13915" y="4713"/>
                </a:cubicBezTo>
                <a:cubicBezTo>
                  <a:pt x="13895" y="4807"/>
                  <a:pt x="13869" y="4889"/>
                  <a:pt x="13866" y="4986"/>
                </a:cubicBezTo>
                <a:cubicBezTo>
                  <a:pt x="13863" y="5078"/>
                  <a:pt x="13889" y="5174"/>
                  <a:pt x="13915" y="5259"/>
                </a:cubicBezTo>
                <a:cubicBezTo>
                  <a:pt x="13951" y="5374"/>
                  <a:pt x="14028" y="5485"/>
                  <a:pt x="14064" y="5606"/>
                </a:cubicBezTo>
                <a:cubicBezTo>
                  <a:pt x="14169" y="5958"/>
                  <a:pt x="14205" y="6312"/>
                  <a:pt x="14238" y="6672"/>
                </a:cubicBezTo>
                <a:cubicBezTo>
                  <a:pt x="14258" y="6888"/>
                  <a:pt x="14255" y="7078"/>
                  <a:pt x="14238" y="7293"/>
                </a:cubicBezTo>
                <a:cubicBezTo>
                  <a:pt x="14221" y="7500"/>
                  <a:pt x="14204" y="7706"/>
                  <a:pt x="14188" y="7913"/>
                </a:cubicBezTo>
                <a:cubicBezTo>
                  <a:pt x="14171" y="8136"/>
                  <a:pt x="14162" y="8361"/>
                  <a:pt x="14114" y="8582"/>
                </a:cubicBezTo>
                <a:cubicBezTo>
                  <a:pt x="14019" y="9023"/>
                  <a:pt x="13864" y="9417"/>
                  <a:pt x="13841" y="9872"/>
                </a:cubicBezTo>
                <a:cubicBezTo>
                  <a:pt x="13832" y="10048"/>
                  <a:pt x="13860" y="10218"/>
                  <a:pt x="13866" y="10393"/>
                </a:cubicBezTo>
                <a:cubicBezTo>
                  <a:pt x="13871" y="10558"/>
                  <a:pt x="13866" y="10719"/>
                  <a:pt x="13866" y="10889"/>
                </a:cubicBezTo>
                <a:cubicBezTo>
                  <a:pt x="13866" y="11245"/>
                  <a:pt x="13824" y="11601"/>
                  <a:pt x="13841" y="11956"/>
                </a:cubicBezTo>
                <a:cubicBezTo>
                  <a:pt x="13848" y="12099"/>
                  <a:pt x="13862" y="12234"/>
                  <a:pt x="13866" y="12378"/>
                </a:cubicBezTo>
                <a:cubicBezTo>
                  <a:pt x="13870" y="12508"/>
                  <a:pt x="13876" y="12638"/>
                  <a:pt x="13866" y="12774"/>
                </a:cubicBezTo>
                <a:cubicBezTo>
                  <a:pt x="13848" y="13022"/>
                  <a:pt x="13844" y="13301"/>
                  <a:pt x="13791" y="13543"/>
                </a:cubicBezTo>
                <a:cubicBezTo>
                  <a:pt x="13696" y="13974"/>
                  <a:pt x="13568" y="14383"/>
                  <a:pt x="13568" y="14833"/>
                </a:cubicBezTo>
                <a:cubicBezTo>
                  <a:pt x="13568" y="15101"/>
                  <a:pt x="13652" y="15361"/>
                  <a:pt x="13667" y="15627"/>
                </a:cubicBezTo>
                <a:cubicBezTo>
                  <a:pt x="13680" y="15855"/>
                  <a:pt x="13685" y="16074"/>
                  <a:pt x="13717" y="16297"/>
                </a:cubicBezTo>
                <a:cubicBezTo>
                  <a:pt x="13736" y="16430"/>
                  <a:pt x="13776" y="16558"/>
                  <a:pt x="13791" y="16694"/>
                </a:cubicBezTo>
                <a:cubicBezTo>
                  <a:pt x="13809" y="16851"/>
                  <a:pt x="13834" y="17006"/>
                  <a:pt x="13841" y="17165"/>
                </a:cubicBezTo>
                <a:cubicBezTo>
                  <a:pt x="13856" y="17499"/>
                  <a:pt x="13865" y="17835"/>
                  <a:pt x="13891" y="18157"/>
                </a:cubicBezTo>
                <a:cubicBezTo>
                  <a:pt x="13896" y="18215"/>
                  <a:pt x="13885" y="18274"/>
                  <a:pt x="13891" y="18331"/>
                </a:cubicBezTo>
              </a:path>
              <a:path w="19547" h="14884">
                <a:moveTo>
                  <a:pt x="13320" y="17239"/>
                </a:moveTo>
                <a:cubicBezTo>
                  <a:pt x="13343" y="17262"/>
                  <a:pt x="13351" y="17266"/>
                  <a:pt x="13345" y="17289"/>
                </a:cubicBezTo>
                <a:cubicBezTo>
                  <a:pt x="13464" y="17259"/>
                  <a:pt x="13550" y="16910"/>
                  <a:pt x="13593" y="16842"/>
                </a:cubicBezTo>
                <a:cubicBezTo>
                  <a:pt x="13651" y="16768"/>
                  <a:pt x="13709" y="16693"/>
                  <a:pt x="13767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90840" y="1714680"/>
            <a:ext cx="4349520" cy="866520"/>
          </a:xfrm>
          <a:custGeom>
            <a:avLst/>
            <a:gdLst/>
            <a:ahLst/>
            <a:rect l="l" t="t" r="r" b="b"/>
            <a:pathLst>
              <a:path w="12080" h="2408">
                <a:moveTo>
                  <a:pt x="6970" y="6400"/>
                </a:moveTo>
                <a:cubicBezTo>
                  <a:pt x="7093" y="6552"/>
                  <a:pt x="7183" y="6711"/>
                  <a:pt x="7144" y="6921"/>
                </a:cubicBezTo>
                <a:cubicBezTo>
                  <a:pt x="7117" y="7068"/>
                  <a:pt x="7034" y="7101"/>
                  <a:pt x="6921" y="7169"/>
                </a:cubicBezTo>
              </a:path>
              <a:path w="12080" h="2408">
                <a:moveTo>
                  <a:pt x="18604" y="4812"/>
                </a:moveTo>
                <a:cubicBezTo>
                  <a:pt x="18777" y="4787"/>
                  <a:pt x="18835" y="4779"/>
                  <a:pt x="18951" y="4762"/>
                </a:cubicBezTo>
              </a:path>
              <a:path w="12080" h="2408">
                <a:moveTo>
                  <a:pt x="18951" y="4762"/>
                </a:moveTo>
                <a:lnTo>
                  <a:pt x="18951" y="4762"/>
                </a:lnTo>
              </a:path>
              <a:path w="12080" h="2408">
                <a:moveTo>
                  <a:pt x="18604" y="6226"/>
                </a:moveTo>
                <a:cubicBezTo>
                  <a:pt x="18737" y="6209"/>
                  <a:pt x="18867" y="6194"/>
                  <a:pt x="19000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93960" y="1758960"/>
            <a:ext cx="552240" cy="1081080"/>
          </a:xfrm>
          <a:custGeom>
            <a:avLst/>
            <a:gdLst/>
            <a:ahLst/>
            <a:rect l="l" t="t" r="r" b="b"/>
            <a:pathLst>
              <a:path w="1538" h="3002">
                <a:moveTo>
                  <a:pt x="5779" y="5283"/>
                </a:moveTo>
                <a:cubicBezTo>
                  <a:pt x="5763" y="5236"/>
                  <a:pt x="5767" y="5244"/>
                  <a:pt x="5779" y="5184"/>
                </a:cubicBezTo>
                <a:cubicBezTo>
                  <a:pt x="5792" y="5118"/>
                  <a:pt x="5835" y="5092"/>
                  <a:pt x="5854" y="5035"/>
                </a:cubicBezTo>
                <a:cubicBezTo>
                  <a:pt x="5874" y="4976"/>
                  <a:pt x="5920" y="4965"/>
                  <a:pt x="5978" y="4936"/>
                </a:cubicBezTo>
                <a:cubicBezTo>
                  <a:pt x="6029" y="4910"/>
                  <a:pt x="6096" y="4901"/>
                  <a:pt x="6152" y="4887"/>
                </a:cubicBezTo>
                <a:cubicBezTo>
                  <a:pt x="6182" y="4880"/>
                  <a:pt x="6284" y="4899"/>
                  <a:pt x="6300" y="4911"/>
                </a:cubicBezTo>
                <a:cubicBezTo>
                  <a:pt x="6335" y="4937"/>
                  <a:pt x="6345" y="4990"/>
                  <a:pt x="6375" y="5035"/>
                </a:cubicBezTo>
                <a:cubicBezTo>
                  <a:pt x="6403" y="5076"/>
                  <a:pt x="6404" y="5124"/>
                  <a:pt x="6424" y="5159"/>
                </a:cubicBezTo>
                <a:cubicBezTo>
                  <a:pt x="6427" y="5165"/>
                  <a:pt x="6489" y="5300"/>
                  <a:pt x="6424" y="5259"/>
                </a:cubicBezTo>
                <a:cubicBezTo>
                  <a:pt x="6392" y="5239"/>
                  <a:pt x="6354" y="5188"/>
                  <a:pt x="6325" y="5159"/>
                </a:cubicBezTo>
                <a:cubicBezTo>
                  <a:pt x="6354" y="5188"/>
                  <a:pt x="6416" y="5243"/>
                  <a:pt x="6424" y="5259"/>
                </a:cubicBezTo>
                <a:cubicBezTo>
                  <a:pt x="6424" y="5267"/>
                  <a:pt x="6424" y="5275"/>
                  <a:pt x="6424" y="5283"/>
                </a:cubicBezTo>
                <a:cubicBezTo>
                  <a:pt x="6480" y="5215"/>
                  <a:pt x="6534" y="5149"/>
                  <a:pt x="6598" y="5085"/>
                </a:cubicBezTo>
                <a:cubicBezTo>
                  <a:pt x="6606" y="5077"/>
                  <a:pt x="6615" y="5068"/>
                  <a:pt x="6623" y="5060"/>
                </a:cubicBezTo>
              </a:path>
              <a:path w="1538" h="3002">
                <a:moveTo>
                  <a:pt x="5482" y="6499"/>
                </a:moveTo>
                <a:cubicBezTo>
                  <a:pt x="5434" y="6671"/>
                  <a:pt x="5331" y="6837"/>
                  <a:pt x="5283" y="7020"/>
                </a:cubicBezTo>
                <a:cubicBezTo>
                  <a:pt x="5247" y="7158"/>
                  <a:pt x="5225" y="7212"/>
                  <a:pt x="5358" y="7243"/>
                </a:cubicBezTo>
                <a:cubicBezTo>
                  <a:pt x="5393" y="7243"/>
                  <a:pt x="5406" y="7234"/>
                  <a:pt x="5407" y="7193"/>
                </a:cubicBezTo>
              </a:path>
              <a:path w="1538" h="3002">
                <a:moveTo>
                  <a:pt x="5606" y="6747"/>
                </a:moveTo>
                <a:cubicBezTo>
                  <a:pt x="5579" y="6833"/>
                  <a:pt x="5570" y="6906"/>
                  <a:pt x="5507" y="6970"/>
                </a:cubicBezTo>
                <a:cubicBezTo>
                  <a:pt x="5603" y="6970"/>
                  <a:pt x="5690" y="6982"/>
                  <a:pt x="5779" y="6995"/>
                </a:cubicBezTo>
                <a:cubicBezTo>
                  <a:pt x="5831" y="6995"/>
                  <a:pt x="5849" y="6993"/>
                  <a:pt x="5854" y="6945"/>
                </a:cubicBezTo>
              </a:path>
              <a:path w="1538" h="3002">
                <a:moveTo>
                  <a:pt x="5854" y="6598"/>
                </a:moveTo>
                <a:cubicBezTo>
                  <a:pt x="5834" y="6719"/>
                  <a:pt x="5813" y="6846"/>
                  <a:pt x="5804" y="6970"/>
                </a:cubicBezTo>
                <a:cubicBezTo>
                  <a:pt x="5800" y="7026"/>
                  <a:pt x="5759" y="7154"/>
                  <a:pt x="5804" y="7169"/>
                </a:cubicBezTo>
              </a:path>
              <a:path w="1538" h="3002">
                <a:moveTo>
                  <a:pt x="6052" y="6722"/>
                </a:moveTo>
                <a:cubicBezTo>
                  <a:pt x="6086" y="6790"/>
                  <a:pt x="6182" y="6868"/>
                  <a:pt x="6226" y="6945"/>
                </a:cubicBezTo>
                <a:cubicBezTo>
                  <a:pt x="6246" y="7006"/>
                  <a:pt x="6244" y="7041"/>
                  <a:pt x="6276" y="6995"/>
                </a:cubicBezTo>
              </a:path>
              <a:path w="1538" h="3002">
                <a:moveTo>
                  <a:pt x="6375" y="6672"/>
                </a:moveTo>
                <a:cubicBezTo>
                  <a:pt x="6274" y="6732"/>
                  <a:pt x="6209" y="6887"/>
                  <a:pt x="6152" y="6995"/>
                </a:cubicBezTo>
                <a:cubicBezTo>
                  <a:pt x="6116" y="7064"/>
                  <a:pt x="6071" y="7103"/>
                  <a:pt x="6102" y="7119"/>
                </a:cubicBezTo>
              </a:path>
              <a:path w="1538" h="3002">
                <a:moveTo>
                  <a:pt x="6796" y="6573"/>
                </a:moveTo>
                <a:cubicBezTo>
                  <a:pt x="6693" y="6591"/>
                  <a:pt x="6626" y="6628"/>
                  <a:pt x="6573" y="6722"/>
                </a:cubicBezTo>
                <a:cubicBezTo>
                  <a:pt x="6573" y="6747"/>
                  <a:pt x="6573" y="6755"/>
                  <a:pt x="6573" y="6772"/>
                </a:cubicBezTo>
                <a:cubicBezTo>
                  <a:pt x="6609" y="6787"/>
                  <a:pt x="6816" y="6853"/>
                  <a:pt x="6796" y="6921"/>
                </a:cubicBezTo>
                <a:cubicBezTo>
                  <a:pt x="6778" y="6984"/>
                  <a:pt x="6695" y="7008"/>
                  <a:pt x="6648" y="7020"/>
                </a:cubicBezTo>
                <a:cubicBezTo>
                  <a:pt x="6661" y="6896"/>
                  <a:pt x="6724" y="6811"/>
                  <a:pt x="6772" y="6697"/>
                </a:cubicBezTo>
                <a:cubicBezTo>
                  <a:pt x="6798" y="6634"/>
                  <a:pt x="6816" y="6613"/>
                  <a:pt x="6772" y="6598"/>
                </a:cubicBezTo>
              </a:path>
              <a:path w="1538" h="3002">
                <a:moveTo>
                  <a:pt x="5730" y="7491"/>
                </a:moveTo>
                <a:cubicBezTo>
                  <a:pt x="5768" y="7466"/>
                  <a:pt x="5940" y="7373"/>
                  <a:pt x="5879" y="7516"/>
                </a:cubicBezTo>
                <a:cubicBezTo>
                  <a:pt x="5829" y="7565"/>
                  <a:pt x="5812" y="7582"/>
                  <a:pt x="5779" y="7615"/>
                </a:cubicBezTo>
                <a:cubicBezTo>
                  <a:pt x="5779" y="7623"/>
                  <a:pt x="5779" y="7632"/>
                  <a:pt x="5779" y="7640"/>
                </a:cubicBezTo>
                <a:cubicBezTo>
                  <a:pt x="5825" y="7625"/>
                  <a:pt x="5975" y="7629"/>
                  <a:pt x="5953" y="7739"/>
                </a:cubicBezTo>
                <a:cubicBezTo>
                  <a:pt x="5938" y="7817"/>
                  <a:pt x="5704" y="7904"/>
                  <a:pt x="5705" y="7888"/>
                </a:cubicBezTo>
                <a:cubicBezTo>
                  <a:pt x="5722" y="7855"/>
                  <a:pt x="5738" y="7822"/>
                  <a:pt x="5755" y="7789"/>
                </a:cubicBezTo>
              </a:path>
              <a:path w="1538" h="3002">
                <a:moveTo>
                  <a:pt x="6102" y="7466"/>
                </a:moveTo>
                <a:cubicBezTo>
                  <a:pt x="6195" y="7450"/>
                  <a:pt x="6278" y="7441"/>
                  <a:pt x="6375" y="7441"/>
                </a:cubicBezTo>
                <a:cubicBezTo>
                  <a:pt x="6375" y="7556"/>
                  <a:pt x="6344" y="7574"/>
                  <a:pt x="6276" y="7665"/>
                </a:cubicBezTo>
                <a:cubicBezTo>
                  <a:pt x="6242" y="7711"/>
                  <a:pt x="6196" y="7765"/>
                  <a:pt x="6176" y="7813"/>
                </a:cubicBezTo>
                <a:cubicBezTo>
                  <a:pt x="6278" y="7813"/>
                  <a:pt x="6333" y="7778"/>
                  <a:pt x="6424" y="7739"/>
                </a:cubicBezTo>
                <a:cubicBezTo>
                  <a:pt x="6482" y="7720"/>
                  <a:pt x="6489" y="7711"/>
                  <a:pt x="6524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9720" y="1633680"/>
            <a:ext cx="714240" cy="277560"/>
          </a:xfrm>
          <a:custGeom>
            <a:avLst/>
            <a:gdLst/>
            <a:ahLst/>
            <a:rect l="l" t="t" r="r" b="b"/>
            <a:pathLst>
              <a:path w="1985" h="770">
                <a:moveTo>
                  <a:pt x="16024" y="4862"/>
                </a:moveTo>
                <a:cubicBezTo>
                  <a:pt x="16024" y="4758"/>
                  <a:pt x="16033" y="4723"/>
                  <a:pt x="15949" y="4663"/>
                </a:cubicBezTo>
                <a:cubicBezTo>
                  <a:pt x="15744" y="4698"/>
                  <a:pt x="15661" y="4873"/>
                  <a:pt x="15577" y="5060"/>
                </a:cubicBezTo>
                <a:cubicBezTo>
                  <a:pt x="15535" y="5187"/>
                  <a:pt x="15506" y="5218"/>
                  <a:pt x="15577" y="5283"/>
                </a:cubicBezTo>
                <a:cubicBezTo>
                  <a:pt x="15789" y="5272"/>
                  <a:pt x="15964" y="5193"/>
                  <a:pt x="15974" y="4936"/>
                </a:cubicBezTo>
                <a:cubicBezTo>
                  <a:pt x="15982" y="4726"/>
                  <a:pt x="15893" y="4691"/>
                  <a:pt x="15726" y="4713"/>
                </a:cubicBezTo>
                <a:cubicBezTo>
                  <a:pt x="15661" y="4877"/>
                  <a:pt x="15637" y="5021"/>
                  <a:pt x="15825" y="5110"/>
                </a:cubicBezTo>
                <a:cubicBezTo>
                  <a:pt x="15996" y="5191"/>
                  <a:pt x="16085" y="5025"/>
                  <a:pt x="16123" y="4887"/>
                </a:cubicBezTo>
                <a:cubicBezTo>
                  <a:pt x="16134" y="4848"/>
                  <a:pt x="16163" y="5026"/>
                  <a:pt x="16173" y="5060"/>
                </a:cubicBezTo>
                <a:cubicBezTo>
                  <a:pt x="16181" y="5085"/>
                  <a:pt x="16189" y="5110"/>
                  <a:pt x="16197" y="5135"/>
                </a:cubicBezTo>
                <a:cubicBezTo>
                  <a:pt x="16197" y="5199"/>
                  <a:pt x="16170" y="4999"/>
                  <a:pt x="16173" y="4986"/>
                </a:cubicBezTo>
                <a:cubicBezTo>
                  <a:pt x="16215" y="4824"/>
                  <a:pt x="16288" y="4834"/>
                  <a:pt x="16421" y="4812"/>
                </a:cubicBezTo>
              </a:path>
              <a:path w="1985" h="770">
                <a:moveTo>
                  <a:pt x="16718" y="4887"/>
                </a:moveTo>
                <a:cubicBezTo>
                  <a:pt x="16661" y="4839"/>
                  <a:pt x="16638" y="4759"/>
                  <a:pt x="16545" y="4862"/>
                </a:cubicBezTo>
                <a:cubicBezTo>
                  <a:pt x="16436" y="4983"/>
                  <a:pt x="16434" y="5058"/>
                  <a:pt x="16470" y="5184"/>
                </a:cubicBezTo>
                <a:cubicBezTo>
                  <a:pt x="16695" y="5156"/>
                  <a:pt x="16752" y="5077"/>
                  <a:pt x="16743" y="4837"/>
                </a:cubicBezTo>
                <a:cubicBezTo>
                  <a:pt x="16739" y="4741"/>
                  <a:pt x="16714" y="4643"/>
                  <a:pt x="16669" y="4564"/>
                </a:cubicBezTo>
                <a:cubicBezTo>
                  <a:pt x="16680" y="4697"/>
                  <a:pt x="16681" y="4782"/>
                  <a:pt x="16718" y="4911"/>
                </a:cubicBezTo>
                <a:cubicBezTo>
                  <a:pt x="16763" y="5069"/>
                  <a:pt x="16893" y="5167"/>
                  <a:pt x="17016" y="5011"/>
                </a:cubicBezTo>
                <a:cubicBezTo>
                  <a:pt x="17065" y="4914"/>
                  <a:pt x="17080" y="4884"/>
                  <a:pt x="17090" y="4812"/>
                </a:cubicBezTo>
                <a:cubicBezTo>
                  <a:pt x="17053" y="4907"/>
                  <a:pt x="17013" y="4962"/>
                  <a:pt x="17041" y="5060"/>
                </a:cubicBezTo>
                <a:cubicBezTo>
                  <a:pt x="17096" y="5253"/>
                  <a:pt x="17224" y="5037"/>
                  <a:pt x="17289" y="4986"/>
                </a:cubicBezTo>
                <a:cubicBezTo>
                  <a:pt x="17305" y="4978"/>
                  <a:pt x="17322" y="4969"/>
                  <a:pt x="17338" y="4961"/>
                </a:cubicBezTo>
                <a:cubicBezTo>
                  <a:pt x="17338" y="4969"/>
                  <a:pt x="17338" y="4978"/>
                  <a:pt x="17338" y="4986"/>
                </a:cubicBezTo>
                <a:cubicBezTo>
                  <a:pt x="17326" y="5068"/>
                  <a:pt x="17273" y="5074"/>
                  <a:pt x="17289" y="4986"/>
                </a:cubicBezTo>
                <a:cubicBezTo>
                  <a:pt x="17312" y="4861"/>
                  <a:pt x="17415" y="4778"/>
                  <a:pt x="17512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91160" y="1616040"/>
            <a:ext cx="304920" cy="250920"/>
          </a:xfrm>
          <a:custGeom>
            <a:avLst/>
            <a:gdLst/>
            <a:ahLst/>
            <a:rect l="l" t="t" r="r" b="b"/>
            <a:pathLst>
              <a:path w="844" h="695">
                <a:moveTo>
                  <a:pt x="18107" y="4862"/>
                </a:moveTo>
                <a:cubicBezTo>
                  <a:pt x="18061" y="4955"/>
                  <a:pt x="17958" y="5140"/>
                  <a:pt x="18132" y="5184"/>
                </a:cubicBezTo>
                <a:cubicBezTo>
                  <a:pt x="18281" y="5222"/>
                  <a:pt x="18450" y="5123"/>
                  <a:pt x="18380" y="4961"/>
                </a:cubicBezTo>
                <a:cubicBezTo>
                  <a:pt x="18353" y="4900"/>
                  <a:pt x="18166" y="4946"/>
                  <a:pt x="18231" y="4961"/>
                </a:cubicBezTo>
                <a:cubicBezTo>
                  <a:pt x="18264" y="4961"/>
                  <a:pt x="18298" y="4961"/>
                  <a:pt x="18331" y="4961"/>
                </a:cubicBezTo>
              </a:path>
              <a:path w="844" h="695">
                <a:moveTo>
                  <a:pt x="18876" y="4490"/>
                </a:moveTo>
                <a:cubicBezTo>
                  <a:pt x="18705" y="4546"/>
                  <a:pt x="18657" y="4593"/>
                  <a:pt x="18728" y="4787"/>
                </a:cubicBezTo>
                <a:cubicBezTo>
                  <a:pt x="18763" y="4882"/>
                  <a:pt x="18879" y="5033"/>
                  <a:pt x="18802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34120" y="1571760"/>
            <a:ext cx="679680" cy="339480"/>
          </a:xfrm>
          <a:custGeom>
            <a:avLst/>
            <a:gdLst/>
            <a:ahLst/>
            <a:rect l="l" t="t" r="r" b="b"/>
            <a:pathLst>
              <a:path w="1886" h="943">
                <a:moveTo>
                  <a:pt x="20141" y="4415"/>
                </a:moveTo>
                <a:cubicBezTo>
                  <a:pt x="20009" y="4334"/>
                  <a:pt x="19946" y="4484"/>
                  <a:pt x="19893" y="4589"/>
                </a:cubicBezTo>
                <a:cubicBezTo>
                  <a:pt x="19809" y="4754"/>
                  <a:pt x="19752" y="5046"/>
                  <a:pt x="20042" y="5035"/>
                </a:cubicBezTo>
                <a:cubicBezTo>
                  <a:pt x="20326" y="5025"/>
                  <a:pt x="20433" y="4820"/>
                  <a:pt x="20365" y="4564"/>
                </a:cubicBezTo>
                <a:cubicBezTo>
                  <a:pt x="20295" y="4425"/>
                  <a:pt x="20280" y="4379"/>
                  <a:pt x="20166" y="4366"/>
                </a:cubicBezTo>
                <a:cubicBezTo>
                  <a:pt x="19994" y="4480"/>
                  <a:pt x="19900" y="4699"/>
                  <a:pt x="20067" y="4911"/>
                </a:cubicBezTo>
                <a:cubicBezTo>
                  <a:pt x="20235" y="5125"/>
                  <a:pt x="20470" y="4919"/>
                  <a:pt x="20613" y="4812"/>
                </a:cubicBezTo>
              </a:path>
              <a:path w="1886" h="943">
                <a:moveTo>
                  <a:pt x="20662" y="4762"/>
                </a:moveTo>
                <a:cubicBezTo>
                  <a:pt x="20670" y="4888"/>
                  <a:pt x="20702" y="5010"/>
                  <a:pt x="20712" y="5135"/>
                </a:cubicBezTo>
                <a:cubicBezTo>
                  <a:pt x="20712" y="5234"/>
                  <a:pt x="20712" y="5250"/>
                  <a:pt x="20712" y="5308"/>
                </a:cubicBezTo>
                <a:cubicBezTo>
                  <a:pt x="20695" y="5192"/>
                  <a:pt x="20613" y="5094"/>
                  <a:pt x="20613" y="4961"/>
                </a:cubicBezTo>
                <a:cubicBezTo>
                  <a:pt x="20613" y="4733"/>
                  <a:pt x="20695" y="4730"/>
                  <a:pt x="20861" y="4713"/>
                </a:cubicBezTo>
                <a:cubicBezTo>
                  <a:pt x="20931" y="4814"/>
                  <a:pt x="20996" y="4961"/>
                  <a:pt x="20786" y="4961"/>
                </a:cubicBezTo>
                <a:cubicBezTo>
                  <a:pt x="20653" y="4939"/>
                  <a:pt x="20619" y="4934"/>
                  <a:pt x="20538" y="4911"/>
                </a:cubicBezTo>
                <a:cubicBezTo>
                  <a:pt x="20453" y="4827"/>
                  <a:pt x="20567" y="4927"/>
                  <a:pt x="20687" y="4936"/>
                </a:cubicBezTo>
                <a:cubicBezTo>
                  <a:pt x="20882" y="4950"/>
                  <a:pt x="21053" y="4911"/>
                  <a:pt x="21109" y="4713"/>
                </a:cubicBezTo>
                <a:cubicBezTo>
                  <a:pt x="21109" y="4668"/>
                  <a:pt x="21112" y="4655"/>
                  <a:pt x="21084" y="4638"/>
                </a:cubicBezTo>
                <a:cubicBezTo>
                  <a:pt x="21048" y="4704"/>
                  <a:pt x="20972" y="4925"/>
                  <a:pt x="21134" y="4936"/>
                </a:cubicBezTo>
                <a:cubicBezTo>
                  <a:pt x="21305" y="4948"/>
                  <a:pt x="21332" y="4772"/>
                  <a:pt x="21382" y="4663"/>
                </a:cubicBezTo>
                <a:cubicBezTo>
                  <a:pt x="21356" y="4741"/>
                  <a:pt x="21340" y="4784"/>
                  <a:pt x="21357" y="4862"/>
                </a:cubicBezTo>
                <a:cubicBezTo>
                  <a:pt x="21365" y="4763"/>
                  <a:pt x="21370" y="4675"/>
                  <a:pt x="21431" y="4589"/>
                </a:cubicBezTo>
                <a:cubicBezTo>
                  <a:pt x="21468" y="4537"/>
                  <a:pt x="21681" y="4438"/>
                  <a:pt x="21704" y="4564"/>
                </a:cubicBezTo>
                <a:cubicBezTo>
                  <a:pt x="21679" y="4614"/>
                  <a:pt x="21671" y="4630"/>
                  <a:pt x="21654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71880" y="5081760"/>
            <a:ext cx="3714840" cy="561960"/>
          </a:xfrm>
          <a:custGeom>
            <a:avLst/>
            <a:gdLst/>
            <a:ahLst/>
            <a:rect l="l" t="t" r="r" b="b"/>
            <a:pathLst>
              <a:path w="10320" h="1564">
                <a:moveTo>
                  <a:pt x="10344" y="15379"/>
                </a:moveTo>
                <a:cubicBezTo>
                  <a:pt x="10283" y="15476"/>
                  <a:pt x="10248" y="15583"/>
                  <a:pt x="10195" y="15677"/>
                </a:cubicBezTo>
              </a:path>
              <a:path w="10320" h="1564">
                <a:moveTo>
                  <a:pt x="8607" y="15280"/>
                </a:moveTo>
                <a:cubicBezTo>
                  <a:pt x="8578" y="15395"/>
                  <a:pt x="8550" y="15515"/>
                  <a:pt x="8533" y="15627"/>
                </a:cubicBezTo>
                <a:cubicBezTo>
                  <a:pt x="8533" y="15644"/>
                  <a:pt x="8533" y="15660"/>
                  <a:pt x="8533" y="15677"/>
                </a:cubicBezTo>
              </a:path>
              <a:path w="10320" h="1564">
                <a:moveTo>
                  <a:pt x="18579" y="14139"/>
                </a:moveTo>
                <a:cubicBezTo>
                  <a:pt x="18712" y="14139"/>
                  <a:pt x="18762" y="14138"/>
                  <a:pt x="18852" y="14114"/>
                </a:cubicBezTo>
              </a:path>
              <a:path w="10320" h="1564">
                <a:moveTo>
                  <a:pt x="18852" y="14114"/>
                </a:moveTo>
                <a:lnTo>
                  <a:pt x="18852" y="14114"/>
                </a:lnTo>
              </a:path>
              <a:path w="10320" h="1564">
                <a:moveTo>
                  <a:pt x="17338" y="15156"/>
                </a:moveTo>
                <a:cubicBezTo>
                  <a:pt x="17296" y="15278"/>
                  <a:pt x="17258" y="15454"/>
                  <a:pt x="17165" y="15528"/>
                </a:cubicBezTo>
              </a:path>
              <a:path w="10320" h="1564">
                <a:moveTo>
                  <a:pt x="17165" y="15528"/>
                </a:moveTo>
                <a:lnTo>
                  <a:pt x="17165" y="155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57680" y="5581800"/>
            <a:ext cx="304560" cy="847440"/>
          </a:xfrm>
          <a:custGeom>
            <a:avLst/>
            <a:gdLst/>
            <a:ahLst/>
            <a:rect l="l" t="t" r="r" b="b"/>
            <a:pathLst>
              <a:path w="844" h="2357">
                <a:moveTo>
                  <a:pt x="8359" y="15528"/>
                </a:moveTo>
                <a:cubicBezTo>
                  <a:pt x="8469" y="15503"/>
                  <a:pt x="8569" y="15503"/>
                  <a:pt x="8682" y="15503"/>
                </a:cubicBezTo>
                <a:cubicBezTo>
                  <a:pt x="8733" y="15503"/>
                  <a:pt x="8752" y="15504"/>
                  <a:pt x="8781" y="15528"/>
                </a:cubicBezTo>
              </a:path>
              <a:path w="844" h="2357">
                <a:moveTo>
                  <a:pt x="8260" y="16371"/>
                </a:moveTo>
                <a:cubicBezTo>
                  <a:pt x="8260" y="16437"/>
                  <a:pt x="8260" y="16643"/>
                  <a:pt x="8260" y="16619"/>
                </a:cubicBezTo>
              </a:path>
              <a:path w="844" h="2357">
                <a:moveTo>
                  <a:pt x="8086" y="16520"/>
                </a:moveTo>
                <a:cubicBezTo>
                  <a:pt x="8200" y="16494"/>
                  <a:pt x="8316" y="16475"/>
                  <a:pt x="8434" y="16470"/>
                </a:cubicBezTo>
                <a:cubicBezTo>
                  <a:pt x="8467" y="16469"/>
                  <a:pt x="8500" y="16470"/>
                  <a:pt x="8533" y="16470"/>
                </a:cubicBezTo>
              </a:path>
              <a:path w="844" h="2357">
                <a:moveTo>
                  <a:pt x="7938" y="17338"/>
                </a:moveTo>
                <a:cubicBezTo>
                  <a:pt x="8015" y="17354"/>
                  <a:pt x="8078" y="17363"/>
                  <a:pt x="8161" y="17363"/>
                </a:cubicBezTo>
                <a:cubicBezTo>
                  <a:pt x="8219" y="17363"/>
                  <a:pt x="8227" y="17363"/>
                  <a:pt x="8260" y="17363"/>
                </a:cubicBezTo>
                <a:cubicBezTo>
                  <a:pt x="8222" y="17515"/>
                  <a:pt x="8143" y="17658"/>
                  <a:pt x="8111" y="17810"/>
                </a:cubicBezTo>
                <a:cubicBezTo>
                  <a:pt x="8084" y="17939"/>
                  <a:pt x="8256" y="17666"/>
                  <a:pt x="8260" y="17661"/>
                </a:cubicBezTo>
              </a:path>
              <a:path w="844" h="2357">
                <a:moveTo>
                  <a:pt x="8632" y="17289"/>
                </a:moveTo>
                <a:cubicBezTo>
                  <a:pt x="8580" y="17289"/>
                  <a:pt x="8550" y="17301"/>
                  <a:pt x="8508" y="17314"/>
                </a:cubicBezTo>
                <a:cubicBezTo>
                  <a:pt x="8473" y="17324"/>
                  <a:pt x="8469" y="17438"/>
                  <a:pt x="8458" y="17487"/>
                </a:cubicBezTo>
                <a:cubicBezTo>
                  <a:pt x="8458" y="17495"/>
                  <a:pt x="8458" y="17504"/>
                  <a:pt x="8458" y="17512"/>
                </a:cubicBezTo>
                <a:cubicBezTo>
                  <a:pt x="8530" y="17502"/>
                  <a:pt x="8640" y="17451"/>
                  <a:pt x="8706" y="17512"/>
                </a:cubicBezTo>
                <a:cubicBezTo>
                  <a:pt x="8787" y="17588"/>
                  <a:pt x="8685" y="17690"/>
                  <a:pt x="8632" y="17735"/>
                </a:cubicBezTo>
                <a:cubicBezTo>
                  <a:pt x="8559" y="17797"/>
                  <a:pt x="8471" y="17792"/>
                  <a:pt x="8384" y="1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37000" y="5786280"/>
            <a:ext cx="293760" cy="214560"/>
          </a:xfrm>
          <a:custGeom>
            <a:avLst/>
            <a:gdLst/>
            <a:ahLst/>
            <a:rect l="l" t="t" r="r" b="b"/>
            <a:pathLst>
              <a:path w="819" h="597">
                <a:moveTo>
                  <a:pt x="9922" y="16197"/>
                </a:moveTo>
                <a:cubicBezTo>
                  <a:pt x="9950" y="16181"/>
                  <a:pt x="10043" y="16143"/>
                  <a:pt x="10071" y="16197"/>
                </a:cubicBezTo>
                <a:cubicBezTo>
                  <a:pt x="10129" y="16308"/>
                  <a:pt x="10115" y="16464"/>
                  <a:pt x="9996" y="16520"/>
                </a:cubicBezTo>
                <a:cubicBezTo>
                  <a:pt x="9926" y="16553"/>
                  <a:pt x="9859" y="16556"/>
                  <a:pt x="9823" y="16520"/>
                </a:cubicBezTo>
                <a:cubicBezTo>
                  <a:pt x="9873" y="16452"/>
                  <a:pt x="9992" y="16344"/>
                  <a:pt x="10096" y="16396"/>
                </a:cubicBezTo>
                <a:cubicBezTo>
                  <a:pt x="10113" y="16405"/>
                  <a:pt x="10140" y="16476"/>
                  <a:pt x="10145" y="16495"/>
                </a:cubicBezTo>
              </a:path>
              <a:path w="819" h="597">
                <a:moveTo>
                  <a:pt x="10344" y="16098"/>
                </a:moveTo>
                <a:cubicBezTo>
                  <a:pt x="10331" y="16173"/>
                  <a:pt x="10302" y="16255"/>
                  <a:pt x="10368" y="16321"/>
                </a:cubicBezTo>
                <a:cubicBezTo>
                  <a:pt x="10455" y="16408"/>
                  <a:pt x="10584" y="16307"/>
                  <a:pt x="10616" y="16222"/>
                </a:cubicBezTo>
                <a:cubicBezTo>
                  <a:pt x="10624" y="16172"/>
                  <a:pt x="10633" y="16123"/>
                  <a:pt x="10641" y="16073"/>
                </a:cubicBezTo>
              </a:path>
              <a:path w="819" h="597">
                <a:moveTo>
                  <a:pt x="10517" y="16123"/>
                </a:moveTo>
                <a:cubicBezTo>
                  <a:pt x="10508" y="16266"/>
                  <a:pt x="10465" y="16426"/>
                  <a:pt x="10492" y="16570"/>
                </a:cubicBezTo>
                <a:cubicBezTo>
                  <a:pt x="10516" y="16618"/>
                  <a:pt x="10525" y="16632"/>
                  <a:pt x="10517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5010120"/>
            <a:ext cx="1420920" cy="928800"/>
          </a:xfrm>
          <a:custGeom>
            <a:avLst/>
            <a:gdLst/>
            <a:ahLst/>
            <a:rect l="l" t="t" r="r" b="b"/>
            <a:pathLst>
              <a:path w="3945" h="2581">
                <a:moveTo>
                  <a:pt x="15528" y="14064"/>
                </a:moveTo>
                <a:cubicBezTo>
                  <a:pt x="15549" y="13981"/>
                  <a:pt x="15651" y="13969"/>
                  <a:pt x="15726" y="13940"/>
                </a:cubicBezTo>
                <a:cubicBezTo>
                  <a:pt x="15766" y="14060"/>
                  <a:pt x="15738" y="14095"/>
                  <a:pt x="15652" y="14188"/>
                </a:cubicBezTo>
                <a:cubicBezTo>
                  <a:pt x="15644" y="14196"/>
                  <a:pt x="15635" y="14205"/>
                  <a:pt x="15627" y="14213"/>
                </a:cubicBezTo>
                <a:cubicBezTo>
                  <a:pt x="15711" y="14213"/>
                  <a:pt x="15944" y="14181"/>
                  <a:pt x="15925" y="14337"/>
                </a:cubicBezTo>
                <a:cubicBezTo>
                  <a:pt x="15907" y="14485"/>
                  <a:pt x="15629" y="14604"/>
                  <a:pt x="15503" y="14585"/>
                </a:cubicBezTo>
                <a:cubicBezTo>
                  <a:pt x="15465" y="14547"/>
                  <a:pt x="15467" y="14524"/>
                  <a:pt x="15528" y="14486"/>
                </a:cubicBezTo>
              </a:path>
              <a:path w="3945" h="2581">
                <a:moveTo>
                  <a:pt x="16321" y="14064"/>
                </a:moveTo>
                <a:cubicBezTo>
                  <a:pt x="16410" y="14108"/>
                  <a:pt x="16456" y="14252"/>
                  <a:pt x="16520" y="14337"/>
                </a:cubicBezTo>
                <a:cubicBezTo>
                  <a:pt x="16537" y="14354"/>
                  <a:pt x="16553" y="14370"/>
                  <a:pt x="16570" y="14387"/>
                </a:cubicBezTo>
              </a:path>
              <a:path w="3945" h="2581">
                <a:moveTo>
                  <a:pt x="19323" y="13915"/>
                </a:moveTo>
                <a:cubicBezTo>
                  <a:pt x="19218" y="13945"/>
                  <a:pt x="19111" y="13954"/>
                  <a:pt x="19174" y="14089"/>
                </a:cubicBezTo>
                <a:cubicBezTo>
                  <a:pt x="19220" y="14188"/>
                  <a:pt x="19334" y="14218"/>
                  <a:pt x="19372" y="14312"/>
                </a:cubicBezTo>
                <a:cubicBezTo>
                  <a:pt x="19265" y="14312"/>
                  <a:pt x="19248" y="14243"/>
                  <a:pt x="19298" y="14139"/>
                </a:cubicBezTo>
                <a:cubicBezTo>
                  <a:pt x="19331" y="14070"/>
                  <a:pt x="19390" y="14014"/>
                  <a:pt x="19422" y="13940"/>
                </a:cubicBezTo>
              </a:path>
              <a:path w="3945" h="2581">
                <a:moveTo>
                  <a:pt x="18231" y="15106"/>
                </a:moveTo>
                <a:cubicBezTo>
                  <a:pt x="18327" y="15079"/>
                  <a:pt x="18457" y="15141"/>
                  <a:pt x="18504" y="15255"/>
                </a:cubicBezTo>
                <a:cubicBezTo>
                  <a:pt x="18585" y="15451"/>
                  <a:pt x="18267" y="15488"/>
                  <a:pt x="18157" y="15478"/>
                </a:cubicBezTo>
                <a:cubicBezTo>
                  <a:pt x="18107" y="15453"/>
                  <a:pt x="18091" y="15445"/>
                  <a:pt x="18083" y="15404"/>
                </a:cubicBezTo>
                <a:cubicBezTo>
                  <a:pt x="18215" y="15360"/>
                  <a:pt x="18370" y="15298"/>
                  <a:pt x="18479" y="15429"/>
                </a:cubicBezTo>
                <a:cubicBezTo>
                  <a:pt x="18479" y="15437"/>
                  <a:pt x="18479" y="15445"/>
                  <a:pt x="18479" y="15453"/>
                </a:cubicBezTo>
              </a:path>
              <a:path w="3945" h="2581">
                <a:moveTo>
                  <a:pt x="18976" y="14982"/>
                </a:moveTo>
                <a:cubicBezTo>
                  <a:pt x="18927" y="14994"/>
                  <a:pt x="18870" y="15022"/>
                  <a:pt x="18827" y="15056"/>
                </a:cubicBezTo>
                <a:cubicBezTo>
                  <a:pt x="18798" y="15079"/>
                  <a:pt x="18792" y="15122"/>
                  <a:pt x="18777" y="15156"/>
                </a:cubicBezTo>
                <a:cubicBezTo>
                  <a:pt x="18884" y="15207"/>
                  <a:pt x="18966" y="15120"/>
                  <a:pt x="19075" y="15205"/>
                </a:cubicBezTo>
                <a:cubicBezTo>
                  <a:pt x="19199" y="15301"/>
                  <a:pt x="19065" y="15480"/>
                  <a:pt x="18951" y="15503"/>
                </a:cubicBezTo>
                <a:cubicBezTo>
                  <a:pt x="18901" y="15503"/>
                  <a:pt x="18852" y="15503"/>
                  <a:pt x="18802" y="15503"/>
                </a:cubicBezTo>
              </a:path>
              <a:path w="3945" h="2581">
                <a:moveTo>
                  <a:pt x="17190" y="15205"/>
                </a:moveTo>
                <a:cubicBezTo>
                  <a:pt x="17127" y="15142"/>
                  <a:pt x="17274" y="15369"/>
                  <a:pt x="17289" y="15404"/>
                </a:cubicBezTo>
                <a:cubicBezTo>
                  <a:pt x="17297" y="15429"/>
                  <a:pt x="17306" y="15453"/>
                  <a:pt x="17314" y="15478"/>
                </a:cubicBezTo>
              </a:path>
              <a:path w="3945" h="2581">
                <a:moveTo>
                  <a:pt x="16594" y="15180"/>
                </a:moveTo>
                <a:cubicBezTo>
                  <a:pt x="16696" y="15138"/>
                  <a:pt x="16716" y="15122"/>
                  <a:pt x="16818" y="15131"/>
                </a:cubicBezTo>
                <a:cubicBezTo>
                  <a:pt x="16784" y="15232"/>
                  <a:pt x="16725" y="15287"/>
                  <a:pt x="16644" y="15354"/>
                </a:cubicBezTo>
                <a:cubicBezTo>
                  <a:pt x="16721" y="15367"/>
                  <a:pt x="16769" y="15395"/>
                  <a:pt x="16842" y="15429"/>
                </a:cubicBezTo>
                <a:cubicBezTo>
                  <a:pt x="16805" y="15578"/>
                  <a:pt x="16717" y="15645"/>
                  <a:pt x="16545" y="15627"/>
                </a:cubicBezTo>
                <a:cubicBezTo>
                  <a:pt x="16528" y="15619"/>
                  <a:pt x="16512" y="15610"/>
                  <a:pt x="16495" y="15602"/>
                </a:cubicBezTo>
              </a:path>
              <a:path w="3945" h="2581">
                <a:moveTo>
                  <a:pt x="17338" y="15974"/>
                </a:moveTo>
                <a:cubicBezTo>
                  <a:pt x="17455" y="16013"/>
                  <a:pt x="17561" y="15978"/>
                  <a:pt x="17686" y="15974"/>
                </a:cubicBezTo>
                <a:cubicBezTo>
                  <a:pt x="17711" y="15974"/>
                  <a:pt x="17735" y="15974"/>
                  <a:pt x="17760" y="15974"/>
                </a:cubicBezTo>
                <a:cubicBezTo>
                  <a:pt x="17760" y="16121"/>
                  <a:pt x="17747" y="16235"/>
                  <a:pt x="17686" y="16371"/>
                </a:cubicBezTo>
                <a:cubicBezTo>
                  <a:pt x="17647" y="16448"/>
                  <a:pt x="17648" y="16463"/>
                  <a:pt x="17611" y="16495"/>
                </a:cubicBezTo>
              </a:path>
              <a:path w="3945" h="2581">
                <a:moveTo>
                  <a:pt x="17983" y="15999"/>
                </a:moveTo>
                <a:cubicBezTo>
                  <a:pt x="18021" y="16076"/>
                  <a:pt x="18154" y="16095"/>
                  <a:pt x="18231" y="16148"/>
                </a:cubicBezTo>
                <a:cubicBezTo>
                  <a:pt x="18290" y="16188"/>
                  <a:pt x="18362" y="16321"/>
                  <a:pt x="18256" y="16346"/>
                </a:cubicBezTo>
                <a:cubicBezTo>
                  <a:pt x="18166" y="16367"/>
                  <a:pt x="18152" y="16355"/>
                  <a:pt x="18132" y="16297"/>
                </a:cubicBezTo>
              </a:path>
              <a:path w="3945" h="2581">
                <a:moveTo>
                  <a:pt x="18107" y="15925"/>
                </a:moveTo>
                <a:cubicBezTo>
                  <a:pt x="18274" y="15878"/>
                  <a:pt x="18437" y="15822"/>
                  <a:pt x="18604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81880" y="2035080"/>
            <a:ext cx="633240" cy="822600"/>
          </a:xfrm>
          <a:custGeom>
            <a:avLst/>
            <a:gdLst/>
            <a:ahLst/>
            <a:rect l="l" t="t" r="r" b="b"/>
            <a:pathLst>
              <a:path w="1762" h="2284">
                <a:moveTo>
                  <a:pt x="19472" y="6077"/>
                </a:moveTo>
                <a:cubicBezTo>
                  <a:pt x="19490" y="6003"/>
                  <a:pt x="19501" y="5978"/>
                  <a:pt x="19422" y="5928"/>
                </a:cubicBezTo>
                <a:cubicBezTo>
                  <a:pt x="19292" y="5845"/>
                  <a:pt x="19199" y="6048"/>
                  <a:pt x="19199" y="6152"/>
                </a:cubicBezTo>
                <a:cubicBezTo>
                  <a:pt x="19207" y="6168"/>
                  <a:pt x="19216" y="6185"/>
                  <a:pt x="19224" y="6201"/>
                </a:cubicBezTo>
                <a:cubicBezTo>
                  <a:pt x="19366" y="6201"/>
                  <a:pt x="19387" y="6166"/>
                  <a:pt x="19472" y="6052"/>
                </a:cubicBezTo>
                <a:cubicBezTo>
                  <a:pt x="19520" y="6069"/>
                  <a:pt x="19496" y="6172"/>
                  <a:pt x="19496" y="6226"/>
                </a:cubicBezTo>
                <a:cubicBezTo>
                  <a:pt x="19496" y="6347"/>
                  <a:pt x="19494" y="6459"/>
                  <a:pt x="19472" y="6573"/>
                </a:cubicBezTo>
              </a:path>
              <a:path w="1762" h="2284">
                <a:moveTo>
                  <a:pt x="19670" y="5655"/>
                </a:moveTo>
                <a:cubicBezTo>
                  <a:pt x="19847" y="5764"/>
                  <a:pt x="19963" y="5941"/>
                  <a:pt x="20017" y="6152"/>
                </a:cubicBezTo>
                <a:cubicBezTo>
                  <a:pt x="20082" y="6404"/>
                  <a:pt x="19991" y="6491"/>
                  <a:pt x="19893" y="6697"/>
                </a:cubicBezTo>
                <a:cubicBezTo>
                  <a:pt x="19893" y="6705"/>
                  <a:pt x="19893" y="6714"/>
                  <a:pt x="19893" y="6722"/>
                </a:cubicBezTo>
              </a:path>
              <a:path w="1762" h="2284">
                <a:moveTo>
                  <a:pt x="18281" y="6747"/>
                </a:moveTo>
                <a:cubicBezTo>
                  <a:pt x="18281" y="6797"/>
                  <a:pt x="18281" y="6846"/>
                  <a:pt x="18281" y="6896"/>
                </a:cubicBezTo>
                <a:cubicBezTo>
                  <a:pt x="18434" y="6896"/>
                  <a:pt x="18576" y="6855"/>
                  <a:pt x="18728" y="6846"/>
                </a:cubicBezTo>
                <a:cubicBezTo>
                  <a:pt x="18854" y="6838"/>
                  <a:pt x="18990" y="6837"/>
                  <a:pt x="19100" y="6871"/>
                </a:cubicBezTo>
                <a:cubicBezTo>
                  <a:pt x="19151" y="6887"/>
                  <a:pt x="19188" y="6843"/>
                  <a:pt x="19199" y="6796"/>
                </a:cubicBezTo>
                <a:cubicBezTo>
                  <a:pt x="19213" y="6738"/>
                  <a:pt x="19187" y="6692"/>
                  <a:pt x="19174" y="6648"/>
                </a:cubicBezTo>
                <a:cubicBezTo>
                  <a:pt x="19174" y="6623"/>
                  <a:pt x="19174" y="6615"/>
                  <a:pt x="19174" y="6598"/>
                </a:cubicBezTo>
              </a:path>
              <a:path w="1762" h="2284">
                <a:moveTo>
                  <a:pt x="18604" y="7417"/>
                </a:moveTo>
                <a:cubicBezTo>
                  <a:pt x="18604" y="7550"/>
                  <a:pt x="18583" y="7680"/>
                  <a:pt x="18579" y="7813"/>
                </a:cubicBezTo>
                <a:cubicBezTo>
                  <a:pt x="18579" y="7880"/>
                  <a:pt x="18579" y="7896"/>
                  <a:pt x="18579" y="7938"/>
                </a:cubicBezTo>
              </a:path>
              <a:path w="1762" h="2284">
                <a:moveTo>
                  <a:pt x="18852" y="7441"/>
                </a:moveTo>
                <a:cubicBezTo>
                  <a:pt x="18948" y="7441"/>
                  <a:pt x="19030" y="7402"/>
                  <a:pt x="19124" y="7392"/>
                </a:cubicBezTo>
                <a:cubicBezTo>
                  <a:pt x="19294" y="7373"/>
                  <a:pt x="19264" y="7533"/>
                  <a:pt x="19248" y="7665"/>
                </a:cubicBezTo>
                <a:cubicBezTo>
                  <a:pt x="19238" y="7746"/>
                  <a:pt x="19224" y="7805"/>
                  <a:pt x="19224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88040" y="2652840"/>
            <a:ext cx="125280" cy="20484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17214" y="7441"/>
                </a:moveTo>
                <a:cubicBezTo>
                  <a:pt x="17204" y="7501"/>
                  <a:pt x="17190" y="7553"/>
                  <a:pt x="17190" y="7615"/>
                </a:cubicBezTo>
                <a:cubicBezTo>
                  <a:pt x="17288" y="7615"/>
                  <a:pt x="17449" y="7599"/>
                  <a:pt x="17537" y="7640"/>
                </a:cubicBezTo>
                <a:cubicBezTo>
                  <a:pt x="17537" y="7648"/>
                  <a:pt x="17537" y="7657"/>
                  <a:pt x="17537" y="7665"/>
                </a:cubicBezTo>
              </a:path>
              <a:path w="348" h="572">
                <a:moveTo>
                  <a:pt x="17487" y="7367"/>
                </a:moveTo>
                <a:cubicBezTo>
                  <a:pt x="17510" y="7524"/>
                  <a:pt x="17512" y="7677"/>
                  <a:pt x="17512" y="7838"/>
                </a:cubicBezTo>
                <a:cubicBezTo>
                  <a:pt x="17512" y="7871"/>
                  <a:pt x="17512" y="7905"/>
                  <a:pt x="17512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59200" y="2678040"/>
            <a:ext cx="250920" cy="260280"/>
          </a:xfrm>
          <a:custGeom>
            <a:avLst/>
            <a:gdLst/>
            <a:ahLst/>
            <a:rect l="l" t="t" r="r" b="b"/>
            <a:pathLst>
              <a:path w="695" h="721">
                <a:moveTo>
                  <a:pt x="13221" y="7987"/>
                </a:moveTo>
                <a:cubicBezTo>
                  <a:pt x="13261" y="8047"/>
                  <a:pt x="13299" y="8106"/>
                  <a:pt x="13345" y="8161"/>
                </a:cubicBezTo>
                <a:cubicBezTo>
                  <a:pt x="13499" y="7917"/>
                  <a:pt x="13677" y="7727"/>
                  <a:pt x="13866" y="7516"/>
                </a:cubicBezTo>
                <a:cubicBezTo>
                  <a:pt x="13903" y="7459"/>
                  <a:pt x="13920" y="7412"/>
                  <a:pt x="13915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3920" y="2357280"/>
            <a:ext cx="6545160" cy="2857680"/>
          </a:xfrm>
          <a:custGeom>
            <a:avLst/>
            <a:gdLst/>
            <a:ahLst/>
            <a:rect l="l" t="t" r="r" b="b"/>
            <a:pathLst>
              <a:path w="18183" h="7939">
                <a:moveTo>
                  <a:pt x="8632" y="6548"/>
                </a:moveTo>
                <a:cubicBezTo>
                  <a:pt x="8610" y="6722"/>
                  <a:pt x="8592" y="6894"/>
                  <a:pt x="8582" y="7069"/>
                </a:cubicBezTo>
              </a:path>
              <a:path w="18183" h="7939">
                <a:moveTo>
                  <a:pt x="8806" y="6648"/>
                </a:moveTo>
                <a:cubicBezTo>
                  <a:pt x="8815" y="6755"/>
                  <a:pt x="8830" y="6813"/>
                  <a:pt x="8905" y="6896"/>
                </a:cubicBezTo>
                <a:cubicBezTo>
                  <a:pt x="8974" y="6972"/>
                  <a:pt x="8960" y="6867"/>
                  <a:pt x="8979" y="6796"/>
                </a:cubicBezTo>
              </a:path>
              <a:path w="18183" h="7939">
                <a:moveTo>
                  <a:pt x="18306" y="7119"/>
                </a:moveTo>
                <a:cubicBezTo>
                  <a:pt x="18200" y="7308"/>
                  <a:pt x="18173" y="7521"/>
                  <a:pt x="18182" y="7739"/>
                </a:cubicBezTo>
                <a:cubicBezTo>
                  <a:pt x="18193" y="7985"/>
                  <a:pt x="18303" y="8101"/>
                  <a:pt x="18529" y="8161"/>
                </a:cubicBezTo>
                <a:cubicBezTo>
                  <a:pt x="18661" y="8188"/>
                  <a:pt x="18710" y="8195"/>
                  <a:pt x="18802" y="8161"/>
                </a:cubicBezTo>
              </a:path>
              <a:path w="18183" h="7939">
                <a:moveTo>
                  <a:pt x="620" y="14486"/>
                </a:moveTo>
                <a:cubicBezTo>
                  <a:pt x="871" y="14340"/>
                  <a:pt x="1116" y="14214"/>
                  <a:pt x="1389" y="14114"/>
                </a:cubicBezTo>
                <a:cubicBezTo>
                  <a:pt x="1491" y="14077"/>
                  <a:pt x="1573" y="14038"/>
                  <a:pt x="1662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71800" y="1677960"/>
            <a:ext cx="1330200" cy="1706760"/>
          </a:xfrm>
          <a:custGeom>
            <a:avLst/>
            <a:gdLst/>
            <a:ahLst/>
            <a:rect l="l" t="t" r="r" b="b"/>
            <a:pathLst>
              <a:path w="3697" h="4739">
                <a:moveTo>
                  <a:pt x="5755" y="5333"/>
                </a:moveTo>
                <a:cubicBezTo>
                  <a:pt x="5760" y="5283"/>
                  <a:pt x="5746" y="5256"/>
                  <a:pt x="5779" y="5209"/>
                </a:cubicBezTo>
                <a:cubicBezTo>
                  <a:pt x="5848" y="5112"/>
                  <a:pt x="5905" y="5040"/>
                  <a:pt x="6003" y="4961"/>
                </a:cubicBezTo>
                <a:cubicBezTo>
                  <a:pt x="6137" y="4852"/>
                  <a:pt x="6290" y="4818"/>
                  <a:pt x="6449" y="4762"/>
                </a:cubicBezTo>
                <a:cubicBezTo>
                  <a:pt x="6594" y="4710"/>
                  <a:pt x="6742" y="4702"/>
                  <a:pt x="6896" y="4688"/>
                </a:cubicBezTo>
                <a:cubicBezTo>
                  <a:pt x="7036" y="4676"/>
                  <a:pt x="7177" y="4676"/>
                  <a:pt x="7317" y="4663"/>
                </a:cubicBezTo>
                <a:cubicBezTo>
                  <a:pt x="7407" y="4655"/>
                  <a:pt x="7505" y="4667"/>
                  <a:pt x="7590" y="4688"/>
                </a:cubicBezTo>
                <a:cubicBezTo>
                  <a:pt x="7645" y="4702"/>
                  <a:pt x="7773" y="4743"/>
                  <a:pt x="7813" y="4787"/>
                </a:cubicBezTo>
                <a:cubicBezTo>
                  <a:pt x="7858" y="4836"/>
                  <a:pt x="7935" y="4903"/>
                  <a:pt x="7962" y="4961"/>
                </a:cubicBezTo>
                <a:cubicBezTo>
                  <a:pt x="7995" y="5033"/>
                  <a:pt x="8017" y="5095"/>
                  <a:pt x="8062" y="5159"/>
                </a:cubicBezTo>
                <a:cubicBezTo>
                  <a:pt x="8078" y="5182"/>
                  <a:pt x="8071" y="5185"/>
                  <a:pt x="8086" y="5209"/>
                </a:cubicBezTo>
                <a:cubicBezTo>
                  <a:pt x="8070" y="5134"/>
                  <a:pt x="8042" y="5061"/>
                  <a:pt x="8012" y="4986"/>
                </a:cubicBezTo>
                <a:cubicBezTo>
                  <a:pt x="7990" y="4932"/>
                  <a:pt x="7993" y="4936"/>
                  <a:pt x="7987" y="4887"/>
                </a:cubicBezTo>
                <a:cubicBezTo>
                  <a:pt x="8023" y="4966"/>
                  <a:pt x="8022" y="5008"/>
                  <a:pt x="8062" y="5085"/>
                </a:cubicBezTo>
                <a:cubicBezTo>
                  <a:pt x="8070" y="5093"/>
                  <a:pt x="8078" y="5102"/>
                  <a:pt x="8086" y="5110"/>
                </a:cubicBezTo>
                <a:cubicBezTo>
                  <a:pt x="8078" y="5105"/>
                  <a:pt x="7935" y="5008"/>
                  <a:pt x="7863" y="5011"/>
                </a:cubicBezTo>
                <a:cubicBezTo>
                  <a:pt x="7846" y="5019"/>
                  <a:pt x="7830" y="5027"/>
                  <a:pt x="7813" y="5035"/>
                </a:cubicBezTo>
              </a:path>
              <a:path w="3697" h="4739">
                <a:moveTo>
                  <a:pt x="8210" y="6474"/>
                </a:moveTo>
                <a:cubicBezTo>
                  <a:pt x="8158" y="6564"/>
                  <a:pt x="8104" y="6737"/>
                  <a:pt x="8086" y="6846"/>
                </a:cubicBezTo>
                <a:cubicBezTo>
                  <a:pt x="8077" y="6903"/>
                  <a:pt x="8047" y="7168"/>
                  <a:pt x="8186" y="7119"/>
                </a:cubicBezTo>
                <a:cubicBezTo>
                  <a:pt x="8211" y="7102"/>
                  <a:pt x="8235" y="7086"/>
                  <a:pt x="8260" y="7069"/>
                </a:cubicBezTo>
              </a:path>
              <a:path w="3697" h="4739">
                <a:moveTo>
                  <a:pt x="8384" y="6697"/>
                </a:moveTo>
                <a:cubicBezTo>
                  <a:pt x="8375" y="6743"/>
                  <a:pt x="8356" y="6778"/>
                  <a:pt x="8334" y="6821"/>
                </a:cubicBezTo>
                <a:cubicBezTo>
                  <a:pt x="8410" y="6854"/>
                  <a:pt x="8520" y="6845"/>
                  <a:pt x="8607" y="6821"/>
                </a:cubicBezTo>
                <a:cubicBezTo>
                  <a:pt x="8655" y="6797"/>
                  <a:pt x="8672" y="6791"/>
                  <a:pt x="8657" y="6747"/>
                </a:cubicBezTo>
              </a:path>
              <a:path w="3697" h="4739">
                <a:moveTo>
                  <a:pt x="8855" y="6697"/>
                </a:moveTo>
                <a:cubicBezTo>
                  <a:pt x="8852" y="6714"/>
                  <a:pt x="8805" y="6964"/>
                  <a:pt x="8830" y="6945"/>
                </a:cubicBezTo>
                <a:cubicBezTo>
                  <a:pt x="8855" y="6920"/>
                  <a:pt x="8880" y="6896"/>
                  <a:pt x="8905" y="6871"/>
                </a:cubicBezTo>
              </a:path>
              <a:path w="3697" h="4739">
                <a:moveTo>
                  <a:pt x="9153" y="6548"/>
                </a:moveTo>
                <a:cubicBezTo>
                  <a:pt x="9071" y="6500"/>
                  <a:pt x="9007" y="6507"/>
                  <a:pt x="8954" y="6598"/>
                </a:cubicBezTo>
                <a:cubicBezTo>
                  <a:pt x="8917" y="6662"/>
                  <a:pt x="8924" y="6695"/>
                  <a:pt x="8954" y="6747"/>
                </a:cubicBezTo>
                <a:cubicBezTo>
                  <a:pt x="9039" y="6728"/>
                  <a:pt x="9127" y="6693"/>
                  <a:pt x="9153" y="6598"/>
                </a:cubicBezTo>
                <a:cubicBezTo>
                  <a:pt x="9153" y="6573"/>
                  <a:pt x="9153" y="6565"/>
                  <a:pt x="9153" y="6598"/>
                </a:cubicBezTo>
                <a:cubicBezTo>
                  <a:pt x="9163" y="6640"/>
                  <a:pt x="9165" y="6834"/>
                  <a:pt x="9203" y="6846"/>
                </a:cubicBezTo>
                <a:cubicBezTo>
                  <a:pt x="9203" y="6838"/>
                  <a:pt x="9203" y="6829"/>
                  <a:pt x="9203" y="6821"/>
                </a:cubicBezTo>
              </a:path>
              <a:path w="3697" h="4739">
                <a:moveTo>
                  <a:pt x="9302" y="6300"/>
                </a:moveTo>
                <a:cubicBezTo>
                  <a:pt x="9380" y="6467"/>
                  <a:pt x="9465" y="6631"/>
                  <a:pt x="9451" y="6821"/>
                </a:cubicBezTo>
                <a:cubicBezTo>
                  <a:pt x="9441" y="6955"/>
                  <a:pt x="9370" y="7017"/>
                  <a:pt x="9277" y="7094"/>
                </a:cubicBezTo>
              </a:path>
              <a:path w="3697" h="4739">
                <a:moveTo>
                  <a:pt x="8632" y="7293"/>
                </a:moveTo>
                <a:cubicBezTo>
                  <a:pt x="8624" y="7293"/>
                  <a:pt x="8615" y="7293"/>
                  <a:pt x="8607" y="7293"/>
                </a:cubicBezTo>
                <a:cubicBezTo>
                  <a:pt x="8641" y="7273"/>
                  <a:pt x="8722" y="7234"/>
                  <a:pt x="8731" y="7293"/>
                </a:cubicBezTo>
                <a:cubicBezTo>
                  <a:pt x="8741" y="7360"/>
                  <a:pt x="8686" y="7403"/>
                  <a:pt x="8632" y="7417"/>
                </a:cubicBezTo>
                <a:cubicBezTo>
                  <a:pt x="8690" y="7417"/>
                  <a:pt x="8732" y="7417"/>
                  <a:pt x="8781" y="7441"/>
                </a:cubicBezTo>
                <a:cubicBezTo>
                  <a:pt x="8768" y="7556"/>
                  <a:pt x="8733" y="7637"/>
                  <a:pt x="8607" y="7665"/>
                </a:cubicBezTo>
                <a:cubicBezTo>
                  <a:pt x="8481" y="7693"/>
                  <a:pt x="8520" y="7613"/>
                  <a:pt x="8533" y="7541"/>
                </a:cubicBezTo>
              </a:path>
              <a:path w="3697" h="4739">
                <a:moveTo>
                  <a:pt x="8905" y="7268"/>
                </a:moveTo>
                <a:cubicBezTo>
                  <a:pt x="8890" y="7356"/>
                  <a:pt x="8861" y="7448"/>
                  <a:pt x="8880" y="7541"/>
                </a:cubicBezTo>
                <a:cubicBezTo>
                  <a:pt x="8907" y="7594"/>
                  <a:pt x="8919" y="7614"/>
                  <a:pt x="8954" y="7640"/>
                </a:cubicBezTo>
                <a:cubicBezTo>
                  <a:pt x="9039" y="7598"/>
                  <a:pt x="9094" y="7562"/>
                  <a:pt x="9128" y="7466"/>
                </a:cubicBezTo>
                <a:cubicBezTo>
                  <a:pt x="9128" y="7438"/>
                  <a:pt x="9126" y="7427"/>
                  <a:pt x="9103" y="7417"/>
                </a:cubicBezTo>
                <a:cubicBezTo>
                  <a:pt x="8996" y="7430"/>
                  <a:pt x="8976" y="7423"/>
                  <a:pt x="8954" y="7541"/>
                </a:cubicBezTo>
                <a:cubicBezTo>
                  <a:pt x="8954" y="7590"/>
                  <a:pt x="8954" y="7607"/>
                  <a:pt x="8954" y="7640"/>
                </a:cubicBezTo>
              </a:path>
              <a:path w="3697" h="4739">
                <a:moveTo>
                  <a:pt x="7516" y="6672"/>
                </a:moveTo>
                <a:cubicBezTo>
                  <a:pt x="7550" y="6762"/>
                  <a:pt x="7535" y="6806"/>
                  <a:pt x="7516" y="6896"/>
                </a:cubicBezTo>
                <a:cubicBezTo>
                  <a:pt x="7516" y="6921"/>
                  <a:pt x="7516" y="6929"/>
                  <a:pt x="7541" y="6921"/>
                </a:cubicBezTo>
              </a:path>
              <a:path w="3697" h="4739">
                <a:moveTo>
                  <a:pt x="7441" y="6796"/>
                </a:moveTo>
                <a:cubicBezTo>
                  <a:pt x="7528" y="6796"/>
                  <a:pt x="7604" y="6779"/>
                  <a:pt x="7689" y="6772"/>
                </a:cubicBezTo>
              </a:path>
              <a:path w="3697" h="4739">
                <a:moveTo>
                  <a:pt x="7342" y="7491"/>
                </a:moveTo>
                <a:cubicBezTo>
                  <a:pt x="7342" y="7543"/>
                  <a:pt x="7342" y="7745"/>
                  <a:pt x="7342" y="7714"/>
                </a:cubicBezTo>
              </a:path>
              <a:path w="3697" h="4739">
                <a:moveTo>
                  <a:pt x="7218" y="7615"/>
                </a:moveTo>
                <a:cubicBezTo>
                  <a:pt x="7301" y="7615"/>
                  <a:pt x="7383" y="7615"/>
                  <a:pt x="7466" y="7615"/>
                </a:cubicBezTo>
              </a:path>
              <a:path w="3697" h="4739">
                <a:moveTo>
                  <a:pt x="7169" y="8260"/>
                </a:moveTo>
                <a:cubicBezTo>
                  <a:pt x="7137" y="8164"/>
                  <a:pt x="7071" y="8427"/>
                  <a:pt x="7069" y="8434"/>
                </a:cubicBezTo>
                <a:cubicBezTo>
                  <a:pt x="7035" y="8543"/>
                  <a:pt x="6983" y="8643"/>
                  <a:pt x="6970" y="8756"/>
                </a:cubicBezTo>
                <a:cubicBezTo>
                  <a:pt x="7064" y="8756"/>
                  <a:pt x="7113" y="8733"/>
                  <a:pt x="7193" y="8682"/>
                </a:cubicBezTo>
                <a:cubicBezTo>
                  <a:pt x="7269" y="8634"/>
                  <a:pt x="7357" y="8579"/>
                  <a:pt x="7367" y="8483"/>
                </a:cubicBezTo>
                <a:cubicBezTo>
                  <a:pt x="7367" y="8475"/>
                  <a:pt x="7367" y="8466"/>
                  <a:pt x="7367" y="8458"/>
                </a:cubicBezTo>
                <a:cubicBezTo>
                  <a:pt x="7324" y="8448"/>
                  <a:pt x="7243" y="8403"/>
                  <a:pt x="7193" y="8434"/>
                </a:cubicBezTo>
                <a:cubicBezTo>
                  <a:pt x="7133" y="8472"/>
                  <a:pt x="7098" y="8594"/>
                  <a:pt x="7069" y="8657"/>
                </a:cubicBezTo>
                <a:cubicBezTo>
                  <a:pt x="7036" y="8728"/>
                  <a:pt x="7026" y="8719"/>
                  <a:pt x="7094" y="8731"/>
                </a:cubicBezTo>
              </a:path>
              <a:path w="3697" h="4739">
                <a:moveTo>
                  <a:pt x="7714" y="8260"/>
                </a:moveTo>
                <a:cubicBezTo>
                  <a:pt x="7653" y="8260"/>
                  <a:pt x="7591" y="8273"/>
                  <a:pt x="7541" y="8310"/>
                </a:cubicBezTo>
                <a:cubicBezTo>
                  <a:pt x="7501" y="8340"/>
                  <a:pt x="7452" y="8440"/>
                  <a:pt x="7516" y="8483"/>
                </a:cubicBezTo>
                <a:cubicBezTo>
                  <a:pt x="7572" y="8521"/>
                  <a:pt x="7758" y="8559"/>
                  <a:pt x="7689" y="8682"/>
                </a:cubicBezTo>
                <a:cubicBezTo>
                  <a:pt x="7674" y="8709"/>
                  <a:pt x="7592" y="8726"/>
                  <a:pt x="7565" y="8731"/>
                </a:cubicBezTo>
                <a:cubicBezTo>
                  <a:pt x="7554" y="8628"/>
                  <a:pt x="7543" y="8581"/>
                  <a:pt x="7590" y="8483"/>
                </a:cubicBezTo>
                <a:cubicBezTo>
                  <a:pt x="7615" y="8430"/>
                  <a:pt x="7669" y="8366"/>
                  <a:pt x="7689" y="8334"/>
                </a:cubicBezTo>
                <a:cubicBezTo>
                  <a:pt x="7693" y="8328"/>
                  <a:pt x="7689" y="8214"/>
                  <a:pt x="7689" y="8285"/>
                </a:cubicBezTo>
              </a:path>
              <a:path w="3697" h="4739">
                <a:moveTo>
                  <a:pt x="5953" y="9401"/>
                </a:moveTo>
                <a:cubicBezTo>
                  <a:pt x="5991" y="9350"/>
                  <a:pt x="6039" y="9289"/>
                  <a:pt x="6102" y="9252"/>
                </a:cubicBezTo>
                <a:cubicBezTo>
                  <a:pt x="6192" y="9200"/>
                  <a:pt x="6319" y="9141"/>
                  <a:pt x="6424" y="9128"/>
                </a:cubicBezTo>
                <a:cubicBezTo>
                  <a:pt x="6495" y="9119"/>
                  <a:pt x="6624" y="9142"/>
                  <a:pt x="6672" y="9203"/>
                </a:cubicBezTo>
                <a:cubicBezTo>
                  <a:pt x="6715" y="9258"/>
                  <a:pt x="6738" y="9309"/>
                  <a:pt x="6747" y="9376"/>
                </a:cubicBezTo>
                <a:cubicBezTo>
                  <a:pt x="6767" y="9325"/>
                  <a:pt x="6747" y="9251"/>
                  <a:pt x="6747" y="9178"/>
                </a:cubicBezTo>
                <a:cubicBezTo>
                  <a:pt x="6747" y="9153"/>
                  <a:pt x="6747" y="9145"/>
                  <a:pt x="6747" y="9128"/>
                </a:cubicBezTo>
                <a:cubicBezTo>
                  <a:pt x="6786" y="9193"/>
                  <a:pt x="6754" y="9207"/>
                  <a:pt x="6747" y="9277"/>
                </a:cubicBezTo>
                <a:cubicBezTo>
                  <a:pt x="6744" y="9309"/>
                  <a:pt x="6744" y="9383"/>
                  <a:pt x="6722" y="9401"/>
                </a:cubicBezTo>
                <a:cubicBezTo>
                  <a:pt x="6679" y="9437"/>
                  <a:pt x="6607" y="9381"/>
                  <a:pt x="6598" y="9376"/>
                </a:cubicBezTo>
                <a:cubicBezTo>
                  <a:pt x="6573" y="9376"/>
                  <a:pt x="6565" y="9376"/>
                  <a:pt x="6573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24080" y="3813120"/>
            <a:ext cx="1303200" cy="1187640"/>
          </a:xfrm>
          <a:custGeom>
            <a:avLst/>
            <a:gdLst/>
            <a:ahLst/>
            <a:rect l="l" t="t" r="r" b="b"/>
            <a:pathLst>
              <a:path w="3623" h="3300">
                <a:moveTo>
                  <a:pt x="8483" y="10765"/>
                </a:moveTo>
                <a:cubicBezTo>
                  <a:pt x="8547" y="10723"/>
                  <a:pt x="8493" y="10822"/>
                  <a:pt x="8483" y="10864"/>
                </a:cubicBezTo>
                <a:cubicBezTo>
                  <a:pt x="8446" y="11025"/>
                  <a:pt x="8434" y="11172"/>
                  <a:pt x="8434" y="11336"/>
                </a:cubicBezTo>
                <a:cubicBezTo>
                  <a:pt x="8434" y="11344"/>
                  <a:pt x="8434" y="11353"/>
                  <a:pt x="8434" y="11361"/>
                </a:cubicBezTo>
                <a:cubicBezTo>
                  <a:pt x="8545" y="11305"/>
                  <a:pt x="8613" y="11265"/>
                  <a:pt x="8682" y="11162"/>
                </a:cubicBezTo>
                <a:cubicBezTo>
                  <a:pt x="8581" y="11162"/>
                  <a:pt x="8580" y="11136"/>
                  <a:pt x="8558" y="11261"/>
                </a:cubicBezTo>
                <a:cubicBezTo>
                  <a:pt x="8542" y="11350"/>
                  <a:pt x="8572" y="11330"/>
                  <a:pt x="8607" y="11286"/>
                </a:cubicBezTo>
              </a:path>
              <a:path w="3623" h="3300">
                <a:moveTo>
                  <a:pt x="8880" y="10840"/>
                </a:moveTo>
                <a:cubicBezTo>
                  <a:pt x="8905" y="10939"/>
                  <a:pt x="8925" y="11035"/>
                  <a:pt x="8930" y="11137"/>
                </a:cubicBezTo>
                <a:cubicBezTo>
                  <a:pt x="8930" y="11154"/>
                  <a:pt x="8930" y="11170"/>
                  <a:pt x="8930" y="11187"/>
                </a:cubicBezTo>
              </a:path>
              <a:path w="3623" h="3300">
                <a:moveTo>
                  <a:pt x="9004" y="10864"/>
                </a:moveTo>
                <a:cubicBezTo>
                  <a:pt x="8923" y="10913"/>
                  <a:pt x="8882" y="11025"/>
                  <a:pt x="8830" y="11112"/>
                </a:cubicBezTo>
                <a:cubicBezTo>
                  <a:pt x="8789" y="11180"/>
                  <a:pt x="8719" y="11262"/>
                  <a:pt x="8830" y="11187"/>
                </a:cubicBezTo>
              </a:path>
              <a:path w="3623" h="3300">
                <a:moveTo>
                  <a:pt x="9178" y="10815"/>
                </a:moveTo>
                <a:cubicBezTo>
                  <a:pt x="9193" y="10888"/>
                  <a:pt x="9231" y="10987"/>
                  <a:pt x="9227" y="11063"/>
                </a:cubicBezTo>
                <a:cubicBezTo>
                  <a:pt x="9207" y="11145"/>
                  <a:pt x="9199" y="11161"/>
                  <a:pt x="9203" y="11212"/>
                </a:cubicBezTo>
              </a:path>
              <a:path w="3623" h="3300">
                <a:moveTo>
                  <a:pt x="9451" y="10790"/>
                </a:moveTo>
                <a:cubicBezTo>
                  <a:pt x="9451" y="10897"/>
                  <a:pt x="9458" y="10984"/>
                  <a:pt x="9451" y="11088"/>
                </a:cubicBezTo>
                <a:cubicBezTo>
                  <a:pt x="9444" y="11205"/>
                  <a:pt x="9446" y="11248"/>
                  <a:pt x="9500" y="11112"/>
                </a:cubicBezTo>
              </a:path>
              <a:path w="3623" h="3300">
                <a:moveTo>
                  <a:pt x="9599" y="10641"/>
                </a:moveTo>
                <a:cubicBezTo>
                  <a:pt x="9730" y="10707"/>
                  <a:pt x="9781" y="10815"/>
                  <a:pt x="9798" y="10964"/>
                </a:cubicBezTo>
                <a:cubicBezTo>
                  <a:pt x="9800" y="10981"/>
                  <a:pt x="9823" y="11352"/>
                  <a:pt x="9748" y="11336"/>
                </a:cubicBezTo>
                <a:cubicBezTo>
                  <a:pt x="9723" y="11319"/>
                  <a:pt x="9699" y="11303"/>
                  <a:pt x="9674" y="11286"/>
                </a:cubicBezTo>
              </a:path>
              <a:path w="3623" h="3300">
                <a:moveTo>
                  <a:pt x="8706" y="10592"/>
                </a:moveTo>
                <a:cubicBezTo>
                  <a:pt x="8626" y="10612"/>
                  <a:pt x="8572" y="10657"/>
                  <a:pt x="8508" y="10716"/>
                </a:cubicBezTo>
                <a:cubicBezTo>
                  <a:pt x="8344" y="10868"/>
                  <a:pt x="8331" y="11000"/>
                  <a:pt x="8359" y="11212"/>
                </a:cubicBezTo>
                <a:cubicBezTo>
                  <a:pt x="8380" y="11373"/>
                  <a:pt x="8443" y="11584"/>
                  <a:pt x="8607" y="11658"/>
                </a:cubicBezTo>
                <a:cubicBezTo>
                  <a:pt x="8624" y="11658"/>
                  <a:pt x="8640" y="11658"/>
                  <a:pt x="8657" y="11658"/>
                </a:cubicBezTo>
              </a:path>
              <a:path w="3623" h="3300">
                <a:moveTo>
                  <a:pt x="8830" y="11460"/>
                </a:moveTo>
                <a:cubicBezTo>
                  <a:pt x="8830" y="11393"/>
                  <a:pt x="8811" y="11542"/>
                  <a:pt x="8806" y="11609"/>
                </a:cubicBezTo>
                <a:cubicBezTo>
                  <a:pt x="8801" y="11679"/>
                  <a:pt x="8764" y="11955"/>
                  <a:pt x="8830" y="12005"/>
                </a:cubicBezTo>
                <a:cubicBezTo>
                  <a:pt x="8913" y="12069"/>
                  <a:pt x="9032" y="11979"/>
                  <a:pt x="9079" y="11906"/>
                </a:cubicBezTo>
                <a:cubicBezTo>
                  <a:pt x="9099" y="11846"/>
                  <a:pt x="9117" y="11831"/>
                  <a:pt x="9079" y="11807"/>
                </a:cubicBezTo>
                <a:cubicBezTo>
                  <a:pt x="8986" y="11854"/>
                  <a:pt x="8960" y="11870"/>
                  <a:pt x="8954" y="11981"/>
                </a:cubicBezTo>
                <a:cubicBezTo>
                  <a:pt x="8954" y="12022"/>
                  <a:pt x="8946" y="12038"/>
                  <a:pt x="8979" y="12030"/>
                </a:cubicBezTo>
              </a:path>
              <a:path w="3623" h="3300">
                <a:moveTo>
                  <a:pt x="9252" y="11509"/>
                </a:moveTo>
                <a:cubicBezTo>
                  <a:pt x="9252" y="11637"/>
                  <a:pt x="9208" y="11844"/>
                  <a:pt x="9277" y="11956"/>
                </a:cubicBezTo>
                <a:cubicBezTo>
                  <a:pt x="9315" y="12018"/>
                  <a:pt x="9363" y="12014"/>
                  <a:pt x="9426" y="11981"/>
                </a:cubicBezTo>
                <a:cubicBezTo>
                  <a:pt x="9507" y="11939"/>
                  <a:pt x="9533" y="11882"/>
                  <a:pt x="9575" y="11807"/>
                </a:cubicBezTo>
                <a:cubicBezTo>
                  <a:pt x="9521" y="11774"/>
                  <a:pt x="9467" y="11760"/>
                  <a:pt x="9426" y="11832"/>
                </a:cubicBezTo>
                <a:cubicBezTo>
                  <a:pt x="9404" y="11897"/>
                  <a:pt x="9396" y="11912"/>
                  <a:pt x="9401" y="11956"/>
                </a:cubicBezTo>
              </a:path>
              <a:path w="3623" h="3300">
                <a:moveTo>
                  <a:pt x="7541" y="10889"/>
                </a:moveTo>
                <a:cubicBezTo>
                  <a:pt x="7541" y="10848"/>
                  <a:pt x="7549" y="10832"/>
                  <a:pt x="7516" y="10840"/>
                </a:cubicBezTo>
                <a:cubicBezTo>
                  <a:pt x="7516" y="10950"/>
                  <a:pt x="7497" y="11053"/>
                  <a:pt x="7491" y="11162"/>
                </a:cubicBezTo>
                <a:cubicBezTo>
                  <a:pt x="7491" y="11187"/>
                  <a:pt x="7491" y="11195"/>
                  <a:pt x="7491" y="11212"/>
                </a:cubicBezTo>
              </a:path>
              <a:path w="3623" h="3300">
                <a:moveTo>
                  <a:pt x="7342" y="11063"/>
                </a:moveTo>
                <a:cubicBezTo>
                  <a:pt x="7451" y="11081"/>
                  <a:pt x="7482" y="11063"/>
                  <a:pt x="7590" y="11038"/>
                </a:cubicBezTo>
                <a:cubicBezTo>
                  <a:pt x="7598" y="11038"/>
                  <a:pt x="7607" y="11038"/>
                  <a:pt x="7615" y="11038"/>
                </a:cubicBezTo>
              </a:path>
              <a:path w="3623" h="3300">
                <a:moveTo>
                  <a:pt x="7342" y="11782"/>
                </a:moveTo>
                <a:cubicBezTo>
                  <a:pt x="7342" y="11738"/>
                  <a:pt x="7335" y="11733"/>
                  <a:pt x="7317" y="11708"/>
                </a:cubicBezTo>
                <a:cubicBezTo>
                  <a:pt x="7309" y="11700"/>
                  <a:pt x="7301" y="11691"/>
                  <a:pt x="7293" y="11683"/>
                </a:cubicBezTo>
                <a:cubicBezTo>
                  <a:pt x="7293" y="11767"/>
                  <a:pt x="7324" y="11968"/>
                  <a:pt x="7268" y="12005"/>
                </a:cubicBezTo>
              </a:path>
              <a:path w="3623" h="3300">
                <a:moveTo>
                  <a:pt x="7069" y="11906"/>
                </a:moveTo>
                <a:cubicBezTo>
                  <a:pt x="7148" y="11906"/>
                  <a:pt x="7214" y="11884"/>
                  <a:pt x="7293" y="11881"/>
                </a:cubicBezTo>
                <a:cubicBezTo>
                  <a:pt x="7355" y="11879"/>
                  <a:pt x="7385" y="11868"/>
                  <a:pt x="7441" y="11857"/>
                </a:cubicBezTo>
              </a:path>
              <a:path w="3623" h="3300">
                <a:moveTo>
                  <a:pt x="7069" y="12303"/>
                </a:moveTo>
                <a:cubicBezTo>
                  <a:pt x="7045" y="12303"/>
                  <a:pt x="7037" y="12303"/>
                  <a:pt x="7045" y="12278"/>
                </a:cubicBezTo>
                <a:cubicBezTo>
                  <a:pt x="7066" y="12411"/>
                  <a:pt x="7069" y="12537"/>
                  <a:pt x="7069" y="12675"/>
                </a:cubicBezTo>
                <a:cubicBezTo>
                  <a:pt x="7069" y="12749"/>
                  <a:pt x="7069" y="12758"/>
                  <a:pt x="7069" y="12799"/>
                </a:cubicBezTo>
              </a:path>
              <a:path w="3623" h="3300">
                <a:moveTo>
                  <a:pt x="7342" y="12328"/>
                </a:moveTo>
                <a:cubicBezTo>
                  <a:pt x="7377" y="12281"/>
                  <a:pt x="7471" y="12238"/>
                  <a:pt x="7516" y="12328"/>
                </a:cubicBezTo>
                <a:cubicBezTo>
                  <a:pt x="7553" y="12403"/>
                  <a:pt x="7312" y="12551"/>
                  <a:pt x="7392" y="12526"/>
                </a:cubicBezTo>
                <a:cubicBezTo>
                  <a:pt x="7457" y="12506"/>
                  <a:pt x="7523" y="12476"/>
                  <a:pt x="7541" y="12576"/>
                </a:cubicBezTo>
                <a:cubicBezTo>
                  <a:pt x="7561" y="12687"/>
                  <a:pt x="7528" y="12748"/>
                  <a:pt x="7417" y="12774"/>
                </a:cubicBezTo>
                <a:cubicBezTo>
                  <a:pt x="7375" y="12774"/>
                  <a:pt x="7367" y="12774"/>
                  <a:pt x="7342" y="12774"/>
                </a:cubicBezTo>
              </a:path>
              <a:path w="3623" h="3300">
                <a:moveTo>
                  <a:pt x="7913" y="12254"/>
                </a:moveTo>
                <a:cubicBezTo>
                  <a:pt x="7787" y="12274"/>
                  <a:pt x="7777" y="12332"/>
                  <a:pt x="7689" y="12402"/>
                </a:cubicBezTo>
                <a:cubicBezTo>
                  <a:pt x="7656" y="12402"/>
                  <a:pt x="7648" y="12411"/>
                  <a:pt x="7665" y="12452"/>
                </a:cubicBezTo>
                <a:cubicBezTo>
                  <a:pt x="7775" y="12497"/>
                  <a:pt x="7857" y="12496"/>
                  <a:pt x="7888" y="12626"/>
                </a:cubicBezTo>
                <a:cubicBezTo>
                  <a:pt x="7908" y="12708"/>
                  <a:pt x="7820" y="12736"/>
                  <a:pt x="7764" y="12750"/>
                </a:cubicBezTo>
                <a:cubicBezTo>
                  <a:pt x="7716" y="12655"/>
                  <a:pt x="7741" y="12618"/>
                  <a:pt x="7789" y="12526"/>
                </a:cubicBezTo>
                <a:cubicBezTo>
                  <a:pt x="7814" y="12477"/>
                  <a:pt x="7853" y="12433"/>
                  <a:pt x="7863" y="12378"/>
                </a:cubicBezTo>
                <a:cubicBezTo>
                  <a:pt x="7877" y="12301"/>
                  <a:pt x="7879" y="12325"/>
                  <a:pt x="7863" y="12278"/>
                </a:cubicBezTo>
              </a:path>
              <a:path w="3623" h="3300">
                <a:moveTo>
                  <a:pt x="6226" y="13816"/>
                </a:moveTo>
                <a:cubicBezTo>
                  <a:pt x="6284" y="13768"/>
                  <a:pt x="6353" y="13734"/>
                  <a:pt x="6424" y="13692"/>
                </a:cubicBezTo>
                <a:cubicBezTo>
                  <a:pt x="6619" y="13577"/>
                  <a:pt x="6824" y="13508"/>
                  <a:pt x="7045" y="13469"/>
                </a:cubicBezTo>
                <a:cubicBezTo>
                  <a:pt x="7283" y="13427"/>
                  <a:pt x="7441" y="13461"/>
                  <a:pt x="7665" y="13543"/>
                </a:cubicBezTo>
                <a:cubicBezTo>
                  <a:pt x="7784" y="13587"/>
                  <a:pt x="7874" y="13628"/>
                  <a:pt x="7962" y="13717"/>
                </a:cubicBezTo>
                <a:cubicBezTo>
                  <a:pt x="7985" y="13740"/>
                  <a:pt x="7956" y="13780"/>
                  <a:pt x="7987" y="13791"/>
                </a:cubicBezTo>
                <a:cubicBezTo>
                  <a:pt x="8025" y="13804"/>
                  <a:pt x="8012" y="13565"/>
                  <a:pt x="8012" y="13543"/>
                </a:cubicBezTo>
                <a:cubicBezTo>
                  <a:pt x="8012" y="13519"/>
                  <a:pt x="8012" y="13510"/>
                  <a:pt x="8012" y="13494"/>
                </a:cubicBezTo>
                <a:cubicBezTo>
                  <a:pt x="8012" y="13533"/>
                  <a:pt x="8041" y="13730"/>
                  <a:pt x="7987" y="13742"/>
                </a:cubicBezTo>
                <a:cubicBezTo>
                  <a:pt x="7918" y="13757"/>
                  <a:pt x="7803" y="13754"/>
                  <a:pt x="7764" y="13767"/>
                </a:cubicBezTo>
              </a:path>
              <a:path w="3623" h="3300">
                <a:moveTo>
                  <a:pt x="6176" y="13891"/>
                </a:moveTo>
                <a:cubicBezTo>
                  <a:pt x="6180" y="13829"/>
                  <a:pt x="6173" y="13745"/>
                  <a:pt x="6201" y="13692"/>
                </a:cubicBezTo>
                <a:cubicBezTo>
                  <a:pt x="6262" y="13576"/>
                  <a:pt x="6351" y="13509"/>
                  <a:pt x="6449" y="13419"/>
                </a:cubicBezTo>
                <a:cubicBezTo>
                  <a:pt x="6631" y="13252"/>
                  <a:pt x="6855" y="13182"/>
                  <a:pt x="7094" y="13122"/>
                </a:cubicBezTo>
                <a:cubicBezTo>
                  <a:pt x="7261" y="13080"/>
                  <a:pt x="7420" y="13072"/>
                  <a:pt x="7590" y="13072"/>
                </a:cubicBezTo>
                <a:cubicBezTo>
                  <a:pt x="7738" y="13072"/>
                  <a:pt x="7891" y="13096"/>
                  <a:pt x="8037" y="13122"/>
                </a:cubicBezTo>
                <a:cubicBezTo>
                  <a:pt x="8246" y="13158"/>
                  <a:pt x="8449" y="13210"/>
                  <a:pt x="8657" y="13246"/>
                </a:cubicBezTo>
                <a:cubicBezTo>
                  <a:pt x="8894" y="13287"/>
                  <a:pt x="9119" y="13398"/>
                  <a:pt x="9327" y="13519"/>
                </a:cubicBezTo>
                <a:cubicBezTo>
                  <a:pt x="9413" y="13569"/>
                  <a:pt x="9500" y="13629"/>
                  <a:pt x="9575" y="13692"/>
                </a:cubicBezTo>
                <a:cubicBezTo>
                  <a:pt x="9602" y="13715"/>
                  <a:pt x="9609" y="13728"/>
                  <a:pt x="9624" y="13742"/>
                </a:cubicBezTo>
                <a:cubicBezTo>
                  <a:pt x="9624" y="13655"/>
                  <a:pt x="9641" y="13574"/>
                  <a:pt x="9649" y="13494"/>
                </a:cubicBezTo>
                <a:cubicBezTo>
                  <a:pt x="9649" y="13469"/>
                  <a:pt x="9649" y="13461"/>
                  <a:pt x="9649" y="13444"/>
                </a:cubicBezTo>
                <a:cubicBezTo>
                  <a:pt x="9657" y="13484"/>
                  <a:pt x="9672" y="13515"/>
                  <a:pt x="9674" y="13568"/>
                </a:cubicBezTo>
                <a:cubicBezTo>
                  <a:pt x="9676" y="13626"/>
                  <a:pt x="9681" y="13667"/>
                  <a:pt x="9649" y="13692"/>
                </a:cubicBezTo>
                <a:cubicBezTo>
                  <a:pt x="9589" y="13739"/>
                  <a:pt x="9472" y="13697"/>
                  <a:pt x="9401" y="13692"/>
                </a:cubicBezTo>
                <a:cubicBezTo>
                  <a:pt x="9376" y="13692"/>
                  <a:pt x="9368" y="13692"/>
                  <a:pt x="9401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5446800"/>
            <a:ext cx="1679400" cy="554040"/>
          </a:xfrm>
          <a:custGeom>
            <a:avLst/>
            <a:gdLst/>
            <a:ahLst/>
            <a:rect l="l" t="t" r="r" b="b"/>
            <a:pathLst>
              <a:path w="4664" h="1539">
                <a:moveTo>
                  <a:pt x="6127" y="15429"/>
                </a:moveTo>
                <a:cubicBezTo>
                  <a:pt x="6140" y="15389"/>
                  <a:pt x="6274" y="15352"/>
                  <a:pt x="6325" y="15354"/>
                </a:cubicBezTo>
                <a:cubicBezTo>
                  <a:pt x="6342" y="15362"/>
                  <a:pt x="6358" y="15371"/>
                  <a:pt x="6375" y="15379"/>
                </a:cubicBezTo>
                <a:cubicBezTo>
                  <a:pt x="6389" y="15504"/>
                  <a:pt x="6306" y="15548"/>
                  <a:pt x="6201" y="15627"/>
                </a:cubicBezTo>
                <a:cubicBezTo>
                  <a:pt x="6339" y="15607"/>
                  <a:pt x="6364" y="15614"/>
                  <a:pt x="6474" y="15701"/>
                </a:cubicBezTo>
                <a:cubicBezTo>
                  <a:pt x="6365" y="15854"/>
                  <a:pt x="6295" y="15866"/>
                  <a:pt x="6102" y="15875"/>
                </a:cubicBezTo>
                <a:cubicBezTo>
                  <a:pt x="6059" y="15875"/>
                  <a:pt x="6057" y="15858"/>
                  <a:pt x="6102" y="15801"/>
                </a:cubicBezTo>
              </a:path>
              <a:path w="4664" h="1539">
                <a:moveTo>
                  <a:pt x="6672" y="15429"/>
                </a:moveTo>
                <a:cubicBezTo>
                  <a:pt x="6705" y="15528"/>
                  <a:pt x="6798" y="15613"/>
                  <a:pt x="6871" y="15701"/>
                </a:cubicBezTo>
                <a:cubicBezTo>
                  <a:pt x="6879" y="15709"/>
                  <a:pt x="6888" y="15718"/>
                  <a:pt x="6896" y="15726"/>
                </a:cubicBezTo>
              </a:path>
              <a:path w="4664" h="1539">
                <a:moveTo>
                  <a:pt x="6896" y="15429"/>
                </a:moveTo>
                <a:cubicBezTo>
                  <a:pt x="6838" y="15542"/>
                  <a:pt x="6800" y="15664"/>
                  <a:pt x="6747" y="15776"/>
                </a:cubicBezTo>
                <a:cubicBezTo>
                  <a:pt x="6724" y="15799"/>
                  <a:pt x="6716" y="15810"/>
                  <a:pt x="6722" y="15776"/>
                </a:cubicBezTo>
              </a:path>
              <a:path w="4664" h="1539">
                <a:moveTo>
                  <a:pt x="7094" y="15429"/>
                </a:moveTo>
                <a:cubicBezTo>
                  <a:pt x="7094" y="15542"/>
                  <a:pt x="7087" y="15646"/>
                  <a:pt x="7119" y="15751"/>
                </a:cubicBezTo>
              </a:path>
              <a:path w="4664" h="1539">
                <a:moveTo>
                  <a:pt x="7193" y="15429"/>
                </a:moveTo>
                <a:cubicBezTo>
                  <a:pt x="7287" y="15420"/>
                  <a:pt x="7377" y="15398"/>
                  <a:pt x="7466" y="15379"/>
                </a:cubicBezTo>
                <a:cubicBezTo>
                  <a:pt x="7474" y="15379"/>
                  <a:pt x="7483" y="15379"/>
                  <a:pt x="7491" y="15379"/>
                </a:cubicBezTo>
                <a:cubicBezTo>
                  <a:pt x="7491" y="15528"/>
                  <a:pt x="7491" y="15676"/>
                  <a:pt x="7491" y="15825"/>
                </a:cubicBezTo>
              </a:path>
              <a:path w="4664" h="1539">
                <a:moveTo>
                  <a:pt x="6772" y="16272"/>
                </a:moveTo>
                <a:cubicBezTo>
                  <a:pt x="6730" y="16282"/>
                  <a:pt x="6662" y="16280"/>
                  <a:pt x="6623" y="16297"/>
                </a:cubicBezTo>
                <a:cubicBezTo>
                  <a:pt x="6585" y="16313"/>
                  <a:pt x="6576" y="16435"/>
                  <a:pt x="6573" y="16470"/>
                </a:cubicBezTo>
                <a:cubicBezTo>
                  <a:pt x="6573" y="16478"/>
                  <a:pt x="6573" y="16487"/>
                  <a:pt x="6573" y="16495"/>
                </a:cubicBezTo>
                <a:cubicBezTo>
                  <a:pt x="6644" y="16489"/>
                  <a:pt x="6746" y="16443"/>
                  <a:pt x="6796" y="16520"/>
                </a:cubicBezTo>
                <a:cubicBezTo>
                  <a:pt x="6861" y="16619"/>
                  <a:pt x="6664" y="16663"/>
                  <a:pt x="6623" y="16669"/>
                </a:cubicBezTo>
                <a:cubicBezTo>
                  <a:pt x="6565" y="16669"/>
                  <a:pt x="6557" y="16669"/>
                  <a:pt x="6524" y="16669"/>
                </a:cubicBezTo>
                <a:cubicBezTo>
                  <a:pt x="6560" y="16641"/>
                  <a:pt x="6624" y="16564"/>
                  <a:pt x="6672" y="16520"/>
                </a:cubicBezTo>
              </a:path>
              <a:path w="4664" h="1539">
                <a:moveTo>
                  <a:pt x="7020" y="16272"/>
                </a:moveTo>
                <a:cubicBezTo>
                  <a:pt x="7031" y="16363"/>
                  <a:pt x="7077" y="16504"/>
                  <a:pt x="7069" y="16594"/>
                </a:cubicBezTo>
                <a:cubicBezTo>
                  <a:pt x="7061" y="16611"/>
                  <a:pt x="7053" y="16627"/>
                  <a:pt x="7045" y="16644"/>
                </a:cubicBezTo>
              </a:path>
              <a:path w="4664" h="1539">
                <a:moveTo>
                  <a:pt x="9525" y="15131"/>
                </a:moveTo>
                <a:cubicBezTo>
                  <a:pt x="9476" y="15302"/>
                  <a:pt x="9393" y="15410"/>
                  <a:pt x="9401" y="15602"/>
                </a:cubicBezTo>
                <a:cubicBezTo>
                  <a:pt x="9406" y="15712"/>
                  <a:pt x="9480" y="15756"/>
                  <a:pt x="9550" y="15825"/>
                </a:cubicBezTo>
              </a:path>
              <a:path w="4664" h="1539">
                <a:moveTo>
                  <a:pt x="10666" y="15304"/>
                </a:moveTo>
                <a:cubicBezTo>
                  <a:pt x="10615" y="15338"/>
                  <a:pt x="10495" y="15397"/>
                  <a:pt x="10517" y="15478"/>
                </a:cubicBezTo>
                <a:cubicBezTo>
                  <a:pt x="10542" y="15572"/>
                  <a:pt x="10684" y="15568"/>
                  <a:pt x="10666" y="15677"/>
                </a:cubicBezTo>
                <a:cubicBezTo>
                  <a:pt x="10651" y="15766"/>
                  <a:pt x="10595" y="15739"/>
                  <a:pt x="10542" y="15726"/>
                </a:cubicBezTo>
                <a:cubicBezTo>
                  <a:pt x="10566" y="15612"/>
                  <a:pt x="10622" y="15466"/>
                  <a:pt x="10716" y="15379"/>
                </a:cubicBezTo>
                <a:cubicBezTo>
                  <a:pt x="10724" y="15379"/>
                  <a:pt x="10732" y="15379"/>
                  <a:pt x="10740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27840" y="2071800"/>
            <a:ext cx="563400" cy="374400"/>
          </a:xfrm>
          <a:custGeom>
            <a:avLst/>
            <a:gdLst/>
            <a:ahLst/>
            <a:rect l="l" t="t" r="r" b="b"/>
            <a:pathLst>
              <a:path w="1564" h="1042">
                <a:moveTo>
                  <a:pt x="16818" y="6052"/>
                </a:moveTo>
                <a:cubicBezTo>
                  <a:pt x="16792" y="6135"/>
                  <a:pt x="16769" y="6217"/>
                  <a:pt x="16743" y="6300"/>
                </a:cubicBezTo>
                <a:cubicBezTo>
                  <a:pt x="16879" y="6310"/>
                  <a:pt x="17005" y="6355"/>
                  <a:pt x="17140" y="6375"/>
                </a:cubicBezTo>
                <a:cubicBezTo>
                  <a:pt x="17157" y="6375"/>
                  <a:pt x="17173" y="6375"/>
                  <a:pt x="17190" y="6375"/>
                </a:cubicBezTo>
              </a:path>
              <a:path w="1564" h="1042">
                <a:moveTo>
                  <a:pt x="17140" y="5953"/>
                </a:moveTo>
                <a:cubicBezTo>
                  <a:pt x="17128" y="6147"/>
                  <a:pt x="17117" y="6356"/>
                  <a:pt x="17090" y="6548"/>
                </a:cubicBezTo>
                <a:cubicBezTo>
                  <a:pt x="17069" y="6614"/>
                  <a:pt x="17061" y="6629"/>
                  <a:pt x="17066" y="6672"/>
                </a:cubicBezTo>
              </a:path>
              <a:path w="1564" h="1042">
                <a:moveTo>
                  <a:pt x="17760" y="5755"/>
                </a:moveTo>
                <a:cubicBezTo>
                  <a:pt x="17611" y="5950"/>
                  <a:pt x="17445" y="6208"/>
                  <a:pt x="17462" y="6474"/>
                </a:cubicBezTo>
                <a:cubicBezTo>
                  <a:pt x="17468" y="6568"/>
                  <a:pt x="17603" y="6849"/>
                  <a:pt x="17686" y="6747"/>
                </a:cubicBezTo>
              </a:path>
              <a:path w="1564" h="1042">
                <a:moveTo>
                  <a:pt x="18306" y="6028"/>
                </a:moveTo>
                <a:cubicBezTo>
                  <a:pt x="18186" y="6000"/>
                  <a:pt x="18049" y="5987"/>
                  <a:pt x="17959" y="6102"/>
                </a:cubicBezTo>
                <a:cubicBezTo>
                  <a:pt x="17951" y="6127"/>
                  <a:pt x="17942" y="6151"/>
                  <a:pt x="17934" y="6176"/>
                </a:cubicBezTo>
                <a:cubicBezTo>
                  <a:pt x="18031" y="6266"/>
                  <a:pt x="18195" y="6349"/>
                  <a:pt x="18182" y="6499"/>
                </a:cubicBezTo>
                <a:cubicBezTo>
                  <a:pt x="18172" y="6618"/>
                  <a:pt x="18023" y="6557"/>
                  <a:pt x="17959" y="6548"/>
                </a:cubicBezTo>
                <a:cubicBezTo>
                  <a:pt x="17996" y="6385"/>
                  <a:pt x="18105" y="6332"/>
                  <a:pt x="18207" y="6201"/>
                </a:cubicBezTo>
                <a:cubicBezTo>
                  <a:pt x="18238" y="6161"/>
                  <a:pt x="18231" y="6123"/>
                  <a:pt x="18231" y="6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24800" y="2178000"/>
            <a:ext cx="27000" cy="144360"/>
          </a:xfrm>
          <a:custGeom>
            <a:avLst/>
            <a:gdLst/>
            <a:ahLst/>
            <a:rect l="l" t="t" r="r" b="b"/>
            <a:pathLst>
              <a:path w="75" h="398">
                <a:moveTo>
                  <a:pt x="18678" y="6052"/>
                </a:moveTo>
                <a:cubicBezTo>
                  <a:pt x="18713" y="6176"/>
                  <a:pt x="18745" y="6296"/>
                  <a:pt x="18752" y="6424"/>
                </a:cubicBezTo>
                <a:cubicBezTo>
                  <a:pt x="18752" y="6432"/>
                  <a:pt x="18752" y="6441"/>
                  <a:pt x="18752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47880" y="3224160"/>
            <a:ext cx="1332000" cy="1098720"/>
          </a:xfrm>
          <a:custGeom>
            <a:avLst/>
            <a:gdLst/>
            <a:ahLst/>
            <a:rect l="l" t="t" r="r" b="b"/>
            <a:pathLst>
              <a:path w="3696" h="3052">
                <a:moveTo>
                  <a:pt x="5383" y="10790"/>
                </a:moveTo>
                <a:cubicBezTo>
                  <a:pt x="5307" y="10790"/>
                  <a:pt x="5262" y="10921"/>
                  <a:pt x="5234" y="10988"/>
                </a:cubicBezTo>
                <a:cubicBezTo>
                  <a:pt x="5170" y="11143"/>
                  <a:pt x="5079" y="11368"/>
                  <a:pt x="5159" y="11534"/>
                </a:cubicBezTo>
                <a:cubicBezTo>
                  <a:pt x="5189" y="11598"/>
                  <a:pt x="5230" y="11584"/>
                  <a:pt x="5283" y="11584"/>
                </a:cubicBezTo>
              </a:path>
              <a:path w="3696" h="3052">
                <a:moveTo>
                  <a:pt x="5507" y="10939"/>
                </a:moveTo>
                <a:cubicBezTo>
                  <a:pt x="5483" y="11009"/>
                  <a:pt x="5439" y="11084"/>
                  <a:pt x="5432" y="11162"/>
                </a:cubicBezTo>
                <a:cubicBezTo>
                  <a:pt x="5423" y="11263"/>
                  <a:pt x="5424" y="11351"/>
                  <a:pt x="5482" y="11435"/>
                </a:cubicBezTo>
                <a:cubicBezTo>
                  <a:pt x="5544" y="11524"/>
                  <a:pt x="5675" y="11327"/>
                  <a:pt x="5705" y="11286"/>
                </a:cubicBezTo>
                <a:cubicBezTo>
                  <a:pt x="5741" y="11237"/>
                  <a:pt x="5744" y="11165"/>
                  <a:pt x="5680" y="11137"/>
                </a:cubicBezTo>
                <a:cubicBezTo>
                  <a:pt x="5625" y="11112"/>
                  <a:pt x="5594" y="11175"/>
                  <a:pt x="5581" y="11212"/>
                </a:cubicBezTo>
                <a:cubicBezTo>
                  <a:pt x="5554" y="11289"/>
                  <a:pt x="5547" y="11319"/>
                  <a:pt x="5581" y="11385"/>
                </a:cubicBezTo>
              </a:path>
              <a:path w="3696" h="3052">
                <a:moveTo>
                  <a:pt x="5854" y="11013"/>
                </a:moveTo>
                <a:cubicBezTo>
                  <a:pt x="5892" y="11069"/>
                  <a:pt x="5976" y="11152"/>
                  <a:pt x="6003" y="11212"/>
                </a:cubicBezTo>
                <a:cubicBezTo>
                  <a:pt x="6027" y="11266"/>
                  <a:pt x="6035" y="11398"/>
                  <a:pt x="6052" y="11237"/>
                </a:cubicBezTo>
              </a:path>
              <a:path w="3696" h="3052">
                <a:moveTo>
                  <a:pt x="6052" y="10914"/>
                </a:moveTo>
                <a:cubicBezTo>
                  <a:pt x="5967" y="11018"/>
                  <a:pt x="5978" y="11064"/>
                  <a:pt x="5953" y="11187"/>
                </a:cubicBezTo>
                <a:cubicBezTo>
                  <a:pt x="5942" y="11243"/>
                  <a:pt x="5877" y="11363"/>
                  <a:pt x="5928" y="11336"/>
                </a:cubicBezTo>
                <a:cubicBezTo>
                  <a:pt x="5928" y="11328"/>
                  <a:pt x="5928" y="11319"/>
                  <a:pt x="5928" y="11311"/>
                </a:cubicBezTo>
              </a:path>
              <a:path w="3696" h="3052">
                <a:moveTo>
                  <a:pt x="6300" y="10914"/>
                </a:moveTo>
                <a:cubicBezTo>
                  <a:pt x="6300" y="10994"/>
                  <a:pt x="6317" y="11061"/>
                  <a:pt x="6325" y="11137"/>
                </a:cubicBezTo>
                <a:cubicBezTo>
                  <a:pt x="6336" y="11238"/>
                  <a:pt x="6315" y="11218"/>
                  <a:pt x="6375" y="11088"/>
                </a:cubicBezTo>
              </a:path>
              <a:path w="3696" h="3052">
                <a:moveTo>
                  <a:pt x="6474" y="10864"/>
                </a:moveTo>
                <a:cubicBezTo>
                  <a:pt x="6517" y="10854"/>
                  <a:pt x="6551" y="10813"/>
                  <a:pt x="6598" y="10864"/>
                </a:cubicBezTo>
                <a:cubicBezTo>
                  <a:pt x="6671" y="10942"/>
                  <a:pt x="6587" y="11065"/>
                  <a:pt x="6548" y="11137"/>
                </a:cubicBezTo>
                <a:cubicBezTo>
                  <a:pt x="6532" y="11162"/>
                  <a:pt x="6515" y="11187"/>
                  <a:pt x="6499" y="11212"/>
                </a:cubicBezTo>
                <a:cubicBezTo>
                  <a:pt x="6540" y="11233"/>
                  <a:pt x="6580" y="11212"/>
                  <a:pt x="6648" y="11212"/>
                </a:cubicBezTo>
                <a:cubicBezTo>
                  <a:pt x="6736" y="11212"/>
                  <a:pt x="6711" y="11233"/>
                  <a:pt x="6722" y="11137"/>
                </a:cubicBezTo>
              </a:path>
              <a:path w="3696" h="3052">
                <a:moveTo>
                  <a:pt x="6747" y="10592"/>
                </a:moveTo>
                <a:cubicBezTo>
                  <a:pt x="6846" y="10658"/>
                  <a:pt x="6931" y="10791"/>
                  <a:pt x="6970" y="10914"/>
                </a:cubicBezTo>
                <a:cubicBezTo>
                  <a:pt x="7015" y="11055"/>
                  <a:pt x="7012" y="11227"/>
                  <a:pt x="6945" y="11361"/>
                </a:cubicBezTo>
                <a:cubicBezTo>
                  <a:pt x="6929" y="11393"/>
                  <a:pt x="6899" y="11403"/>
                  <a:pt x="6871" y="11410"/>
                </a:cubicBezTo>
              </a:path>
              <a:path w="3696" h="3052">
                <a:moveTo>
                  <a:pt x="5730" y="11633"/>
                </a:moveTo>
                <a:cubicBezTo>
                  <a:pt x="5806" y="11633"/>
                  <a:pt x="5914" y="11619"/>
                  <a:pt x="5953" y="11658"/>
                </a:cubicBezTo>
                <a:cubicBezTo>
                  <a:pt x="6010" y="11715"/>
                  <a:pt x="5917" y="11878"/>
                  <a:pt x="5904" y="11956"/>
                </a:cubicBezTo>
                <a:cubicBezTo>
                  <a:pt x="5904" y="11972"/>
                  <a:pt x="5904" y="11989"/>
                  <a:pt x="5904" y="12005"/>
                </a:cubicBezTo>
              </a:path>
              <a:path w="3696" h="3052">
                <a:moveTo>
                  <a:pt x="6077" y="11658"/>
                </a:moveTo>
                <a:cubicBezTo>
                  <a:pt x="6129" y="11613"/>
                  <a:pt x="6205" y="11535"/>
                  <a:pt x="6251" y="11609"/>
                </a:cubicBezTo>
                <a:cubicBezTo>
                  <a:pt x="6315" y="11711"/>
                  <a:pt x="6258" y="11777"/>
                  <a:pt x="6201" y="11857"/>
                </a:cubicBezTo>
                <a:cubicBezTo>
                  <a:pt x="6164" y="11913"/>
                  <a:pt x="6147" y="11917"/>
                  <a:pt x="6152" y="11956"/>
                </a:cubicBezTo>
                <a:cubicBezTo>
                  <a:pt x="6218" y="11942"/>
                  <a:pt x="6281" y="11919"/>
                  <a:pt x="6350" y="11906"/>
                </a:cubicBezTo>
                <a:cubicBezTo>
                  <a:pt x="6358" y="11906"/>
                  <a:pt x="6367" y="11906"/>
                  <a:pt x="6375" y="11906"/>
                </a:cubicBezTo>
              </a:path>
              <a:path w="3696" h="3052">
                <a:moveTo>
                  <a:pt x="5953" y="9376"/>
                </a:moveTo>
                <a:cubicBezTo>
                  <a:pt x="6003" y="9276"/>
                  <a:pt x="6036" y="9227"/>
                  <a:pt x="6152" y="9178"/>
                </a:cubicBezTo>
                <a:cubicBezTo>
                  <a:pt x="6350" y="9094"/>
                  <a:pt x="6581" y="9006"/>
                  <a:pt x="6796" y="8979"/>
                </a:cubicBezTo>
                <a:cubicBezTo>
                  <a:pt x="6983" y="8956"/>
                  <a:pt x="7177" y="8954"/>
                  <a:pt x="7367" y="8954"/>
                </a:cubicBezTo>
                <a:cubicBezTo>
                  <a:pt x="7496" y="8954"/>
                  <a:pt x="7615" y="8968"/>
                  <a:pt x="7739" y="8979"/>
                </a:cubicBezTo>
                <a:cubicBezTo>
                  <a:pt x="7867" y="8991"/>
                  <a:pt x="7985" y="9017"/>
                  <a:pt x="8111" y="9054"/>
                </a:cubicBezTo>
                <a:cubicBezTo>
                  <a:pt x="8237" y="9091"/>
                  <a:pt x="8358" y="9096"/>
                  <a:pt x="8483" y="9128"/>
                </a:cubicBezTo>
                <a:cubicBezTo>
                  <a:pt x="8557" y="9147"/>
                  <a:pt x="8641" y="9188"/>
                  <a:pt x="8706" y="9227"/>
                </a:cubicBezTo>
                <a:cubicBezTo>
                  <a:pt x="8732" y="9243"/>
                  <a:pt x="8806" y="9321"/>
                  <a:pt x="8806" y="9252"/>
                </a:cubicBezTo>
                <a:cubicBezTo>
                  <a:pt x="8806" y="9169"/>
                  <a:pt x="8786" y="9088"/>
                  <a:pt x="8781" y="9004"/>
                </a:cubicBezTo>
                <a:cubicBezTo>
                  <a:pt x="8698" y="8879"/>
                  <a:pt x="8825" y="9119"/>
                  <a:pt x="8830" y="9153"/>
                </a:cubicBezTo>
                <a:cubicBezTo>
                  <a:pt x="8848" y="9270"/>
                  <a:pt x="8786" y="9250"/>
                  <a:pt x="8706" y="9277"/>
                </a:cubicBezTo>
                <a:cubicBezTo>
                  <a:pt x="8666" y="9297"/>
                  <a:pt x="8660" y="9306"/>
                  <a:pt x="8632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4554360"/>
            <a:ext cx="366840" cy="490680"/>
          </a:xfrm>
          <a:custGeom>
            <a:avLst/>
            <a:gdLst/>
            <a:ahLst/>
            <a:rect l="l" t="t" r="r" b="b"/>
            <a:pathLst>
              <a:path w="1018" h="1366">
                <a:moveTo>
                  <a:pt x="943" y="13047"/>
                </a:moveTo>
                <a:cubicBezTo>
                  <a:pt x="962" y="13204"/>
                  <a:pt x="958" y="13338"/>
                  <a:pt x="943" y="13494"/>
                </a:cubicBezTo>
                <a:cubicBezTo>
                  <a:pt x="943" y="13551"/>
                  <a:pt x="943" y="13559"/>
                  <a:pt x="943" y="13469"/>
                </a:cubicBezTo>
              </a:path>
              <a:path w="1018" h="1366">
                <a:moveTo>
                  <a:pt x="1042" y="12998"/>
                </a:moveTo>
                <a:cubicBezTo>
                  <a:pt x="1129" y="12998"/>
                  <a:pt x="1209" y="12956"/>
                  <a:pt x="1290" y="12923"/>
                </a:cubicBezTo>
                <a:cubicBezTo>
                  <a:pt x="1330" y="12903"/>
                  <a:pt x="1336" y="12894"/>
                  <a:pt x="1364" y="12898"/>
                </a:cubicBezTo>
                <a:cubicBezTo>
                  <a:pt x="1380" y="12996"/>
                  <a:pt x="1403" y="13093"/>
                  <a:pt x="1389" y="13196"/>
                </a:cubicBezTo>
                <a:cubicBezTo>
                  <a:pt x="1370" y="13270"/>
                  <a:pt x="1362" y="13277"/>
                  <a:pt x="1364" y="13320"/>
                </a:cubicBezTo>
              </a:path>
              <a:path w="1018" h="1366">
                <a:moveTo>
                  <a:pt x="1166" y="13618"/>
                </a:moveTo>
                <a:cubicBezTo>
                  <a:pt x="1226" y="13578"/>
                  <a:pt x="1279" y="13534"/>
                  <a:pt x="1339" y="13494"/>
                </a:cubicBezTo>
                <a:cubicBezTo>
                  <a:pt x="1318" y="13559"/>
                  <a:pt x="1263" y="13628"/>
                  <a:pt x="1240" y="13692"/>
                </a:cubicBezTo>
                <a:cubicBezTo>
                  <a:pt x="1240" y="13700"/>
                  <a:pt x="1240" y="13709"/>
                  <a:pt x="1240" y="13717"/>
                </a:cubicBezTo>
                <a:cubicBezTo>
                  <a:pt x="1296" y="13717"/>
                  <a:pt x="1449" y="13658"/>
                  <a:pt x="1463" y="13742"/>
                </a:cubicBezTo>
                <a:cubicBezTo>
                  <a:pt x="1486" y="13883"/>
                  <a:pt x="1324" y="13954"/>
                  <a:pt x="1240" y="14015"/>
                </a:cubicBezTo>
              </a:path>
              <a:path w="1018" h="1366">
                <a:moveTo>
                  <a:pt x="446" y="12725"/>
                </a:moveTo>
                <a:cubicBezTo>
                  <a:pt x="483" y="12652"/>
                  <a:pt x="546" y="12658"/>
                  <a:pt x="620" y="12675"/>
                </a:cubicBezTo>
                <a:cubicBezTo>
                  <a:pt x="608" y="12833"/>
                  <a:pt x="548" y="12871"/>
                  <a:pt x="471" y="12998"/>
                </a:cubicBezTo>
                <a:cubicBezTo>
                  <a:pt x="442" y="13046"/>
                  <a:pt x="759" y="12888"/>
                  <a:pt x="794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200" y="5197320"/>
            <a:ext cx="268560" cy="241560"/>
          </a:xfrm>
          <a:custGeom>
            <a:avLst/>
            <a:gdLst/>
            <a:ahLst/>
            <a:rect l="l" t="t" r="r" b="b"/>
            <a:pathLst>
              <a:path w="745" h="671">
                <a:moveTo>
                  <a:pt x="1265" y="14436"/>
                </a:moveTo>
                <a:cubicBezTo>
                  <a:pt x="1312" y="14552"/>
                  <a:pt x="1326" y="14661"/>
                  <a:pt x="1339" y="14784"/>
                </a:cubicBezTo>
                <a:cubicBezTo>
                  <a:pt x="1339" y="14776"/>
                  <a:pt x="1339" y="14767"/>
                  <a:pt x="1339" y="14759"/>
                </a:cubicBezTo>
              </a:path>
              <a:path w="745" h="671">
                <a:moveTo>
                  <a:pt x="843" y="14486"/>
                </a:moveTo>
                <a:cubicBezTo>
                  <a:pt x="773" y="14502"/>
                  <a:pt x="682" y="14535"/>
                  <a:pt x="645" y="14610"/>
                </a:cubicBezTo>
                <a:cubicBezTo>
                  <a:pt x="623" y="14654"/>
                  <a:pt x="624" y="14758"/>
                  <a:pt x="620" y="14808"/>
                </a:cubicBezTo>
                <a:cubicBezTo>
                  <a:pt x="620" y="14816"/>
                  <a:pt x="620" y="14825"/>
                  <a:pt x="620" y="14833"/>
                </a:cubicBezTo>
                <a:cubicBezTo>
                  <a:pt x="705" y="14803"/>
                  <a:pt x="896" y="14684"/>
                  <a:pt x="967" y="14808"/>
                </a:cubicBezTo>
                <a:cubicBezTo>
                  <a:pt x="1043" y="14942"/>
                  <a:pt x="846" y="15080"/>
                  <a:pt x="744" y="15106"/>
                </a:cubicBezTo>
                <a:cubicBezTo>
                  <a:pt x="654" y="15106"/>
                  <a:pt x="628" y="15113"/>
                  <a:pt x="595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69040" y="5037120"/>
            <a:ext cx="276120" cy="150840"/>
          </a:xfrm>
          <a:custGeom>
            <a:avLst/>
            <a:gdLst/>
            <a:ahLst/>
            <a:rect l="l" t="t" r="r" b="b"/>
            <a:pathLst>
              <a:path w="770" h="423">
                <a:moveTo>
                  <a:pt x="17413" y="13990"/>
                </a:moveTo>
                <a:cubicBezTo>
                  <a:pt x="17413" y="14057"/>
                  <a:pt x="17426" y="14123"/>
                  <a:pt x="17438" y="14188"/>
                </a:cubicBezTo>
                <a:cubicBezTo>
                  <a:pt x="17445" y="14227"/>
                  <a:pt x="17456" y="14449"/>
                  <a:pt x="17487" y="14387"/>
                </a:cubicBezTo>
              </a:path>
              <a:path w="770" h="423">
                <a:moveTo>
                  <a:pt x="17686" y="14015"/>
                </a:moveTo>
                <a:cubicBezTo>
                  <a:pt x="17804" y="14015"/>
                  <a:pt x="17915" y="13995"/>
                  <a:pt x="18033" y="13990"/>
                </a:cubicBezTo>
                <a:cubicBezTo>
                  <a:pt x="18041" y="13990"/>
                  <a:pt x="18050" y="13990"/>
                  <a:pt x="18058" y="13990"/>
                </a:cubicBezTo>
                <a:cubicBezTo>
                  <a:pt x="18085" y="14085"/>
                  <a:pt x="18037" y="14222"/>
                  <a:pt x="18058" y="14337"/>
                </a:cubicBezTo>
                <a:cubicBezTo>
                  <a:pt x="18070" y="14400"/>
                  <a:pt x="18128" y="14396"/>
                  <a:pt x="18182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15080" y="5027760"/>
            <a:ext cx="36720" cy="125280"/>
          </a:xfrm>
          <a:custGeom>
            <a:avLst/>
            <a:gdLst/>
            <a:ahLst/>
            <a:rect l="l" t="t" r="r" b="b"/>
            <a:pathLst>
              <a:path w="100" h="348">
                <a:moveTo>
                  <a:pt x="18653" y="13990"/>
                </a:moveTo>
                <a:cubicBezTo>
                  <a:pt x="18697" y="13975"/>
                  <a:pt x="18708" y="14110"/>
                  <a:pt x="18728" y="14188"/>
                </a:cubicBezTo>
                <a:cubicBezTo>
                  <a:pt x="18732" y="14203"/>
                  <a:pt x="18752" y="14390"/>
                  <a:pt x="18752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9200" y="4964040"/>
            <a:ext cx="88920" cy="314280"/>
          </a:xfrm>
          <a:custGeom>
            <a:avLst/>
            <a:gdLst/>
            <a:ahLst/>
            <a:rect l="l" t="t" r="r" b="b"/>
            <a:pathLst>
              <a:path w="249" h="870">
                <a:moveTo>
                  <a:pt x="19720" y="13791"/>
                </a:moveTo>
                <a:cubicBezTo>
                  <a:pt x="19818" y="13978"/>
                  <a:pt x="20097" y="14339"/>
                  <a:pt x="19918" y="14560"/>
                </a:cubicBezTo>
                <a:cubicBezTo>
                  <a:pt x="19868" y="14593"/>
                  <a:pt x="19819" y="14627"/>
                  <a:pt x="19769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1.) 2(50 + 8)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4.)  3(5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2.) 4(60 + 3)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5.)   5(21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3.) 12(10 + 5)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6.)   9(17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366920" y="1758960"/>
            <a:ext cx="312480" cy="152280"/>
          </a:xfrm>
          <a:custGeom>
            <a:avLst/>
            <a:gdLst/>
            <a:ahLst/>
            <a:rect l="l" t="t" r="r" b="b"/>
            <a:pathLst>
              <a:path w="869" h="422">
                <a:moveTo>
                  <a:pt x="3795" y="5308"/>
                </a:moveTo>
                <a:cubicBezTo>
                  <a:pt x="3812" y="5209"/>
                  <a:pt x="3864" y="5143"/>
                  <a:pt x="3919" y="5060"/>
                </a:cubicBezTo>
                <a:cubicBezTo>
                  <a:pt x="3984" y="4963"/>
                  <a:pt x="4073" y="4904"/>
                  <a:pt x="4192" y="4887"/>
                </a:cubicBezTo>
                <a:cubicBezTo>
                  <a:pt x="4300" y="4871"/>
                  <a:pt x="4431" y="4919"/>
                  <a:pt x="4514" y="4986"/>
                </a:cubicBezTo>
                <a:cubicBezTo>
                  <a:pt x="4588" y="5046"/>
                  <a:pt x="4657" y="5110"/>
                  <a:pt x="4663" y="5209"/>
                </a:cubicBezTo>
                <a:cubicBezTo>
                  <a:pt x="4663" y="5259"/>
                  <a:pt x="4663" y="5275"/>
                  <a:pt x="4663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4000" y="2367000"/>
            <a:ext cx="1374840" cy="133200"/>
          </a:xfrm>
          <a:custGeom>
            <a:avLst/>
            <a:gdLst/>
            <a:ahLst/>
            <a:rect l="l" t="t" r="r" b="b"/>
            <a:pathLst>
              <a:path w="3821" h="373">
                <a:moveTo>
                  <a:pt x="3473" y="6648"/>
                </a:moveTo>
                <a:cubicBezTo>
                  <a:pt x="3561" y="6657"/>
                  <a:pt x="3671" y="6678"/>
                  <a:pt x="3671" y="6796"/>
                </a:cubicBezTo>
                <a:cubicBezTo>
                  <a:pt x="3671" y="6937"/>
                  <a:pt x="3511" y="6938"/>
                  <a:pt x="3423" y="6921"/>
                </a:cubicBezTo>
                <a:cubicBezTo>
                  <a:pt x="3352" y="6885"/>
                  <a:pt x="3588" y="6846"/>
                  <a:pt x="3597" y="6846"/>
                </a:cubicBezTo>
                <a:cubicBezTo>
                  <a:pt x="3669" y="6848"/>
                  <a:pt x="3721" y="6871"/>
                  <a:pt x="3746" y="6921"/>
                </a:cubicBezTo>
              </a:path>
              <a:path w="3821" h="373">
                <a:moveTo>
                  <a:pt x="3845" y="6648"/>
                </a:moveTo>
                <a:cubicBezTo>
                  <a:pt x="3874" y="6734"/>
                  <a:pt x="3895" y="6823"/>
                  <a:pt x="3944" y="6896"/>
                </a:cubicBezTo>
              </a:path>
              <a:path w="3821" h="373">
                <a:moveTo>
                  <a:pt x="4068" y="6648"/>
                </a:moveTo>
                <a:cubicBezTo>
                  <a:pt x="4023" y="6698"/>
                  <a:pt x="3937" y="6780"/>
                  <a:pt x="3919" y="6846"/>
                </a:cubicBezTo>
                <a:cubicBezTo>
                  <a:pt x="3919" y="6863"/>
                  <a:pt x="3919" y="6879"/>
                  <a:pt x="3919" y="6896"/>
                </a:cubicBezTo>
              </a:path>
              <a:path w="3821" h="373">
                <a:moveTo>
                  <a:pt x="4242" y="6648"/>
                </a:moveTo>
                <a:cubicBezTo>
                  <a:pt x="4203" y="6686"/>
                  <a:pt x="4186" y="6688"/>
                  <a:pt x="4192" y="6722"/>
                </a:cubicBezTo>
                <a:cubicBezTo>
                  <a:pt x="4241" y="6722"/>
                  <a:pt x="4331" y="6707"/>
                  <a:pt x="4366" y="6747"/>
                </a:cubicBezTo>
                <a:cubicBezTo>
                  <a:pt x="4485" y="6881"/>
                  <a:pt x="4279" y="6881"/>
                  <a:pt x="4217" y="6871"/>
                </a:cubicBezTo>
              </a:path>
              <a:path w="3821" h="373">
                <a:moveTo>
                  <a:pt x="4316" y="6648"/>
                </a:moveTo>
                <a:cubicBezTo>
                  <a:pt x="4419" y="6641"/>
                  <a:pt x="4510" y="6623"/>
                  <a:pt x="4614" y="6623"/>
                </a:cubicBezTo>
                <a:cubicBezTo>
                  <a:pt x="4622" y="6623"/>
                  <a:pt x="4630" y="6623"/>
                  <a:pt x="4638" y="6623"/>
                </a:cubicBezTo>
                <a:cubicBezTo>
                  <a:pt x="4610" y="6708"/>
                  <a:pt x="4574" y="6775"/>
                  <a:pt x="4564" y="6871"/>
                </a:cubicBezTo>
                <a:cubicBezTo>
                  <a:pt x="4676" y="6858"/>
                  <a:pt x="4781" y="6836"/>
                  <a:pt x="4787" y="6697"/>
                </a:cubicBezTo>
                <a:cubicBezTo>
                  <a:pt x="4791" y="6600"/>
                  <a:pt x="4642" y="6623"/>
                  <a:pt x="4589" y="6623"/>
                </a:cubicBezTo>
              </a:path>
              <a:path w="3821" h="373">
                <a:moveTo>
                  <a:pt x="6722" y="6573"/>
                </a:moveTo>
                <a:cubicBezTo>
                  <a:pt x="6784" y="6613"/>
                  <a:pt x="6933" y="6675"/>
                  <a:pt x="6846" y="6772"/>
                </a:cubicBezTo>
                <a:cubicBezTo>
                  <a:pt x="6793" y="6831"/>
                  <a:pt x="6694" y="6857"/>
                  <a:pt x="6672" y="6772"/>
                </a:cubicBezTo>
                <a:cubicBezTo>
                  <a:pt x="6768" y="6764"/>
                  <a:pt x="6754" y="6766"/>
                  <a:pt x="6846" y="6796"/>
                </a:cubicBezTo>
              </a:path>
              <a:path w="3821" h="373">
                <a:moveTo>
                  <a:pt x="7069" y="6598"/>
                </a:moveTo>
                <a:cubicBezTo>
                  <a:pt x="7083" y="6722"/>
                  <a:pt x="7108" y="6723"/>
                  <a:pt x="7218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19120" y="3286080"/>
            <a:ext cx="1224000" cy="162000"/>
          </a:xfrm>
          <a:custGeom>
            <a:avLst/>
            <a:gdLst/>
            <a:ahLst/>
            <a:rect l="l" t="t" r="r" b="b"/>
            <a:pathLst>
              <a:path w="3399" h="448">
                <a:moveTo>
                  <a:pt x="3969" y="9575"/>
                </a:moveTo>
                <a:cubicBezTo>
                  <a:pt x="3977" y="9558"/>
                  <a:pt x="4081" y="9445"/>
                  <a:pt x="4167" y="9401"/>
                </a:cubicBezTo>
                <a:cubicBezTo>
                  <a:pt x="4345" y="9310"/>
                  <a:pt x="4593" y="9215"/>
                  <a:pt x="4787" y="9178"/>
                </a:cubicBezTo>
                <a:cubicBezTo>
                  <a:pt x="5095" y="9118"/>
                  <a:pt x="5418" y="9128"/>
                  <a:pt x="5730" y="9128"/>
                </a:cubicBezTo>
                <a:cubicBezTo>
                  <a:pt x="6011" y="9128"/>
                  <a:pt x="6293" y="9129"/>
                  <a:pt x="6573" y="9153"/>
                </a:cubicBezTo>
                <a:cubicBezTo>
                  <a:pt x="6779" y="9171"/>
                  <a:pt x="6953" y="9215"/>
                  <a:pt x="7144" y="9277"/>
                </a:cubicBezTo>
                <a:cubicBezTo>
                  <a:pt x="7235" y="9307"/>
                  <a:pt x="7249" y="9296"/>
                  <a:pt x="7293" y="9327"/>
                </a:cubicBezTo>
                <a:cubicBezTo>
                  <a:pt x="7302" y="9333"/>
                  <a:pt x="7319" y="9360"/>
                  <a:pt x="7342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04960" y="3867120"/>
            <a:ext cx="1197000" cy="731880"/>
          </a:xfrm>
          <a:custGeom>
            <a:avLst/>
            <a:gdLst/>
            <a:ahLst/>
            <a:rect l="l" t="t" r="r" b="b"/>
            <a:pathLst>
              <a:path w="3325" h="2035">
                <a:moveTo>
                  <a:pt x="6995" y="10889"/>
                </a:moveTo>
                <a:cubicBezTo>
                  <a:pt x="6944" y="10992"/>
                  <a:pt x="7117" y="10982"/>
                  <a:pt x="7193" y="10988"/>
                </a:cubicBezTo>
              </a:path>
              <a:path w="3325" h="2035">
                <a:moveTo>
                  <a:pt x="7144" y="10864"/>
                </a:moveTo>
                <a:cubicBezTo>
                  <a:pt x="7127" y="10960"/>
                  <a:pt x="7065" y="11187"/>
                  <a:pt x="7094" y="11187"/>
                </a:cubicBezTo>
              </a:path>
              <a:path w="3325" h="2035">
                <a:moveTo>
                  <a:pt x="7789" y="10740"/>
                </a:moveTo>
                <a:cubicBezTo>
                  <a:pt x="7828" y="10740"/>
                  <a:pt x="7970" y="10715"/>
                  <a:pt x="7962" y="10765"/>
                </a:cubicBezTo>
                <a:cubicBezTo>
                  <a:pt x="7949" y="10849"/>
                  <a:pt x="7894" y="10883"/>
                  <a:pt x="7838" y="10939"/>
                </a:cubicBezTo>
                <a:cubicBezTo>
                  <a:pt x="7952" y="10882"/>
                  <a:pt x="7988" y="10949"/>
                  <a:pt x="8062" y="11038"/>
                </a:cubicBezTo>
                <a:cubicBezTo>
                  <a:pt x="7933" y="11156"/>
                  <a:pt x="7872" y="11234"/>
                  <a:pt x="7714" y="11162"/>
                </a:cubicBezTo>
              </a:path>
              <a:path w="3325" h="2035">
                <a:moveTo>
                  <a:pt x="6028" y="11509"/>
                </a:moveTo>
                <a:cubicBezTo>
                  <a:pt x="6028" y="11593"/>
                  <a:pt x="6047" y="11683"/>
                  <a:pt x="6003" y="11757"/>
                </a:cubicBezTo>
                <a:cubicBezTo>
                  <a:pt x="6003" y="11749"/>
                  <a:pt x="6003" y="11741"/>
                  <a:pt x="6003" y="11733"/>
                </a:cubicBezTo>
              </a:path>
              <a:path w="3325" h="2035">
                <a:moveTo>
                  <a:pt x="5904" y="11633"/>
                </a:moveTo>
                <a:cubicBezTo>
                  <a:pt x="5987" y="11633"/>
                  <a:pt x="6069" y="11633"/>
                  <a:pt x="6152" y="11633"/>
                </a:cubicBezTo>
              </a:path>
              <a:path w="3325" h="2035">
                <a:moveTo>
                  <a:pt x="6499" y="11534"/>
                </a:moveTo>
                <a:cubicBezTo>
                  <a:pt x="6520" y="11636"/>
                  <a:pt x="6530" y="11771"/>
                  <a:pt x="6573" y="11857"/>
                </a:cubicBezTo>
              </a:path>
              <a:path w="3325" h="2035">
                <a:moveTo>
                  <a:pt x="6821" y="11584"/>
                </a:moveTo>
                <a:cubicBezTo>
                  <a:pt x="6937" y="11628"/>
                  <a:pt x="7097" y="11672"/>
                  <a:pt x="7020" y="11832"/>
                </a:cubicBezTo>
                <a:cubicBezTo>
                  <a:pt x="6970" y="11935"/>
                  <a:pt x="6802" y="11948"/>
                  <a:pt x="6747" y="11906"/>
                </a:cubicBezTo>
                <a:cubicBezTo>
                  <a:pt x="6874" y="11876"/>
                  <a:pt x="6917" y="11869"/>
                  <a:pt x="7020" y="11956"/>
                </a:cubicBezTo>
              </a:path>
              <a:path w="3325" h="2035">
                <a:moveTo>
                  <a:pt x="5110" y="12204"/>
                </a:moveTo>
                <a:cubicBezTo>
                  <a:pt x="5153" y="12178"/>
                  <a:pt x="5217" y="12154"/>
                  <a:pt x="5259" y="12204"/>
                </a:cubicBezTo>
                <a:cubicBezTo>
                  <a:pt x="5367" y="12334"/>
                  <a:pt x="5286" y="12415"/>
                  <a:pt x="5159" y="12477"/>
                </a:cubicBezTo>
                <a:cubicBezTo>
                  <a:pt x="5094" y="12499"/>
                  <a:pt x="5079" y="12507"/>
                  <a:pt x="5035" y="12502"/>
                </a:cubicBezTo>
                <a:cubicBezTo>
                  <a:pt x="5043" y="12456"/>
                  <a:pt x="5055" y="12354"/>
                  <a:pt x="5135" y="12402"/>
                </a:cubicBezTo>
                <a:cubicBezTo>
                  <a:pt x="5166" y="12421"/>
                  <a:pt x="5206" y="12474"/>
                  <a:pt x="5234" y="12502"/>
                </a:cubicBezTo>
              </a:path>
              <a:path w="3325" h="2035">
                <a:moveTo>
                  <a:pt x="5482" y="12229"/>
                </a:moveTo>
                <a:cubicBezTo>
                  <a:pt x="5494" y="12193"/>
                  <a:pt x="5505" y="12201"/>
                  <a:pt x="5556" y="12179"/>
                </a:cubicBezTo>
                <a:cubicBezTo>
                  <a:pt x="5524" y="12184"/>
                  <a:pt x="5424" y="12203"/>
                  <a:pt x="5407" y="12229"/>
                </a:cubicBezTo>
                <a:cubicBezTo>
                  <a:pt x="5393" y="12250"/>
                  <a:pt x="5388" y="12300"/>
                  <a:pt x="5383" y="12328"/>
                </a:cubicBezTo>
                <a:cubicBezTo>
                  <a:pt x="5461" y="12328"/>
                  <a:pt x="5533" y="12319"/>
                  <a:pt x="5606" y="12353"/>
                </a:cubicBezTo>
                <a:cubicBezTo>
                  <a:pt x="5665" y="12381"/>
                  <a:pt x="5624" y="12480"/>
                  <a:pt x="5581" y="12502"/>
                </a:cubicBezTo>
                <a:cubicBezTo>
                  <a:pt x="5522" y="12533"/>
                  <a:pt x="5470" y="12526"/>
                  <a:pt x="5407" y="12526"/>
                </a:cubicBezTo>
                <a:cubicBezTo>
                  <a:pt x="5434" y="12472"/>
                  <a:pt x="5446" y="12452"/>
                  <a:pt x="5482" y="12427"/>
                </a:cubicBezTo>
              </a:path>
              <a:path w="3325" h="2035">
                <a:moveTo>
                  <a:pt x="5804" y="12204"/>
                </a:moveTo>
                <a:cubicBezTo>
                  <a:pt x="5892" y="12219"/>
                  <a:pt x="6053" y="12265"/>
                  <a:pt x="6003" y="12402"/>
                </a:cubicBezTo>
                <a:cubicBezTo>
                  <a:pt x="5963" y="12512"/>
                  <a:pt x="5863" y="12505"/>
                  <a:pt x="5779" y="12477"/>
                </a:cubicBezTo>
                <a:cubicBezTo>
                  <a:pt x="5792" y="12399"/>
                  <a:pt x="5846" y="12396"/>
                  <a:pt x="5928" y="12427"/>
                </a:cubicBezTo>
                <a:cubicBezTo>
                  <a:pt x="5985" y="12455"/>
                  <a:pt x="6004" y="12471"/>
                  <a:pt x="6003" y="12526"/>
                </a:cubicBezTo>
              </a:path>
              <a:path w="3325" h="2035">
                <a:moveTo>
                  <a:pt x="4738" y="12650"/>
                </a:moveTo>
                <a:cubicBezTo>
                  <a:pt x="4821" y="12696"/>
                  <a:pt x="4907" y="12728"/>
                  <a:pt x="5011" y="12750"/>
                </a:cubicBezTo>
                <a:cubicBezTo>
                  <a:pt x="5198" y="12790"/>
                  <a:pt x="5391" y="12774"/>
                  <a:pt x="5581" y="12774"/>
                </a:cubicBezTo>
                <a:cubicBezTo>
                  <a:pt x="5757" y="12774"/>
                  <a:pt x="6001" y="12757"/>
                  <a:pt x="6152" y="12650"/>
                </a:cubicBezTo>
                <a:cubicBezTo>
                  <a:pt x="6213" y="12607"/>
                  <a:pt x="6315" y="12515"/>
                  <a:pt x="6276" y="12427"/>
                </a:cubicBezTo>
                <a:cubicBezTo>
                  <a:pt x="6237" y="12339"/>
                  <a:pt x="6165" y="12223"/>
                  <a:pt x="6102" y="12154"/>
                </a:cubicBezTo>
                <a:cubicBezTo>
                  <a:pt x="6043" y="12089"/>
                  <a:pt x="6002" y="12033"/>
                  <a:pt x="5928" y="11981"/>
                </a:cubicBezTo>
                <a:cubicBezTo>
                  <a:pt x="5859" y="11933"/>
                  <a:pt x="5760" y="11915"/>
                  <a:pt x="5680" y="11906"/>
                </a:cubicBezTo>
                <a:cubicBezTo>
                  <a:pt x="5545" y="11891"/>
                  <a:pt x="5414" y="11922"/>
                  <a:pt x="5283" y="11931"/>
                </a:cubicBezTo>
                <a:cubicBezTo>
                  <a:pt x="5115" y="11943"/>
                  <a:pt x="5012" y="11976"/>
                  <a:pt x="4887" y="12105"/>
                </a:cubicBezTo>
                <a:cubicBezTo>
                  <a:pt x="4776" y="12219"/>
                  <a:pt x="4723" y="12375"/>
                  <a:pt x="4787" y="12526"/>
                </a:cubicBezTo>
                <a:cubicBezTo>
                  <a:pt x="4832" y="12632"/>
                  <a:pt x="4853" y="12602"/>
                  <a:pt x="4936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4120" y="4803840"/>
            <a:ext cx="1089000" cy="214200"/>
          </a:xfrm>
          <a:custGeom>
            <a:avLst/>
            <a:gdLst/>
            <a:ahLst/>
            <a:rect l="l" t="t" r="r" b="b"/>
            <a:pathLst>
              <a:path w="3027" h="596">
                <a:moveTo>
                  <a:pt x="4316" y="13915"/>
                </a:moveTo>
                <a:cubicBezTo>
                  <a:pt x="4333" y="13831"/>
                  <a:pt x="4417" y="13739"/>
                  <a:pt x="4490" y="13692"/>
                </a:cubicBezTo>
                <a:cubicBezTo>
                  <a:pt x="4686" y="13566"/>
                  <a:pt x="4909" y="13524"/>
                  <a:pt x="5135" y="13568"/>
                </a:cubicBezTo>
                <a:cubicBezTo>
                  <a:pt x="5279" y="13596"/>
                  <a:pt x="5397" y="13650"/>
                  <a:pt x="5507" y="13742"/>
                </a:cubicBezTo>
              </a:path>
              <a:path w="3027" h="596">
                <a:moveTo>
                  <a:pt x="4316" y="13940"/>
                </a:moveTo>
                <a:cubicBezTo>
                  <a:pt x="4343" y="13902"/>
                  <a:pt x="4340" y="13911"/>
                  <a:pt x="4390" y="13866"/>
                </a:cubicBezTo>
                <a:cubicBezTo>
                  <a:pt x="4484" y="13783"/>
                  <a:pt x="4558" y="13689"/>
                  <a:pt x="4663" y="13618"/>
                </a:cubicBezTo>
                <a:cubicBezTo>
                  <a:pt x="4863" y="13482"/>
                  <a:pt x="5148" y="13418"/>
                  <a:pt x="5383" y="13370"/>
                </a:cubicBezTo>
                <a:cubicBezTo>
                  <a:pt x="5617" y="13322"/>
                  <a:pt x="5890" y="13329"/>
                  <a:pt x="6127" y="13345"/>
                </a:cubicBezTo>
                <a:cubicBezTo>
                  <a:pt x="6363" y="13360"/>
                  <a:pt x="6619" y="13401"/>
                  <a:pt x="6846" y="13469"/>
                </a:cubicBezTo>
                <a:cubicBezTo>
                  <a:pt x="6982" y="13510"/>
                  <a:pt x="7113" y="13587"/>
                  <a:pt x="7243" y="13643"/>
                </a:cubicBezTo>
                <a:cubicBezTo>
                  <a:pt x="7280" y="13659"/>
                  <a:pt x="7328" y="13685"/>
                  <a:pt x="7342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00120" y="5340240"/>
            <a:ext cx="1509840" cy="901800"/>
          </a:xfrm>
          <a:custGeom>
            <a:avLst/>
            <a:gdLst/>
            <a:ahLst/>
            <a:rect l="l" t="t" r="r" b="b"/>
            <a:pathLst>
              <a:path w="4193" h="2506">
                <a:moveTo>
                  <a:pt x="4440" y="15032"/>
                </a:moveTo>
                <a:cubicBezTo>
                  <a:pt x="4440" y="15114"/>
                  <a:pt x="4443" y="15229"/>
                  <a:pt x="4465" y="15304"/>
                </a:cubicBezTo>
                <a:cubicBezTo>
                  <a:pt x="4480" y="15356"/>
                  <a:pt x="4502" y="15258"/>
                  <a:pt x="4514" y="15205"/>
                </a:cubicBezTo>
              </a:path>
              <a:path w="4193" h="2506">
                <a:moveTo>
                  <a:pt x="4614" y="15007"/>
                </a:moveTo>
                <a:cubicBezTo>
                  <a:pt x="4723" y="15007"/>
                  <a:pt x="4856" y="15003"/>
                  <a:pt x="4862" y="15156"/>
                </a:cubicBezTo>
                <a:cubicBezTo>
                  <a:pt x="4863" y="15191"/>
                  <a:pt x="4767" y="15352"/>
                  <a:pt x="4713" y="15304"/>
                </a:cubicBezTo>
                <a:cubicBezTo>
                  <a:pt x="4693" y="15264"/>
                  <a:pt x="4684" y="15258"/>
                  <a:pt x="4688" y="15230"/>
                </a:cubicBezTo>
                <a:cubicBezTo>
                  <a:pt x="4814" y="15192"/>
                  <a:pt x="4857" y="15199"/>
                  <a:pt x="4936" y="15304"/>
                </a:cubicBezTo>
              </a:path>
              <a:path w="4193" h="2506">
                <a:moveTo>
                  <a:pt x="5085" y="15081"/>
                </a:moveTo>
                <a:cubicBezTo>
                  <a:pt x="5099" y="15138"/>
                  <a:pt x="5164" y="15238"/>
                  <a:pt x="5209" y="15280"/>
                </a:cubicBezTo>
                <a:cubicBezTo>
                  <a:pt x="5244" y="15280"/>
                  <a:pt x="5257" y="15271"/>
                  <a:pt x="5259" y="15230"/>
                </a:cubicBezTo>
              </a:path>
              <a:path w="4193" h="2506">
                <a:moveTo>
                  <a:pt x="5432" y="14982"/>
                </a:moveTo>
                <a:cubicBezTo>
                  <a:pt x="5432" y="15058"/>
                  <a:pt x="5454" y="15128"/>
                  <a:pt x="5457" y="15205"/>
                </a:cubicBezTo>
                <a:cubicBezTo>
                  <a:pt x="5457" y="15247"/>
                  <a:pt x="5457" y="15272"/>
                  <a:pt x="5457" y="15230"/>
                </a:cubicBezTo>
              </a:path>
              <a:path w="4193" h="2506">
                <a:moveTo>
                  <a:pt x="4291" y="14858"/>
                </a:moveTo>
                <a:cubicBezTo>
                  <a:pt x="4165" y="14815"/>
                  <a:pt x="4173" y="15143"/>
                  <a:pt x="4167" y="15230"/>
                </a:cubicBezTo>
                <a:cubicBezTo>
                  <a:pt x="4150" y="15475"/>
                  <a:pt x="4160" y="15505"/>
                  <a:pt x="4316" y="15652"/>
                </a:cubicBezTo>
              </a:path>
              <a:path w="4193" h="2506">
                <a:moveTo>
                  <a:pt x="5159" y="15677"/>
                </a:moveTo>
                <a:cubicBezTo>
                  <a:pt x="5159" y="15798"/>
                  <a:pt x="5171" y="15906"/>
                  <a:pt x="5184" y="16024"/>
                </a:cubicBezTo>
                <a:cubicBezTo>
                  <a:pt x="5184" y="16040"/>
                  <a:pt x="5184" y="16057"/>
                  <a:pt x="5184" y="16073"/>
                </a:cubicBezTo>
              </a:path>
              <a:path w="4193" h="2506">
                <a:moveTo>
                  <a:pt x="5333" y="15701"/>
                </a:moveTo>
                <a:cubicBezTo>
                  <a:pt x="5364" y="15679"/>
                  <a:pt x="5470" y="15616"/>
                  <a:pt x="5507" y="15627"/>
                </a:cubicBezTo>
                <a:cubicBezTo>
                  <a:pt x="5628" y="15662"/>
                  <a:pt x="5625" y="15838"/>
                  <a:pt x="5581" y="15925"/>
                </a:cubicBezTo>
                <a:cubicBezTo>
                  <a:pt x="5515" y="16056"/>
                  <a:pt x="5432" y="15953"/>
                  <a:pt x="5358" y="15900"/>
                </a:cubicBezTo>
                <a:cubicBezTo>
                  <a:pt x="5435" y="15891"/>
                  <a:pt x="5516" y="15856"/>
                  <a:pt x="5581" y="15925"/>
                </a:cubicBezTo>
                <a:cubicBezTo>
                  <a:pt x="5653" y="16001"/>
                  <a:pt x="5616" y="16038"/>
                  <a:pt x="5705" y="15925"/>
                </a:cubicBezTo>
              </a:path>
              <a:path w="4193" h="2506">
                <a:moveTo>
                  <a:pt x="5953" y="15627"/>
                </a:moveTo>
                <a:cubicBezTo>
                  <a:pt x="5860" y="15627"/>
                  <a:pt x="5805" y="15716"/>
                  <a:pt x="5779" y="15801"/>
                </a:cubicBezTo>
                <a:cubicBezTo>
                  <a:pt x="5779" y="15876"/>
                  <a:pt x="5779" y="15902"/>
                  <a:pt x="5804" y="15949"/>
                </a:cubicBezTo>
                <a:cubicBezTo>
                  <a:pt x="5876" y="15955"/>
                  <a:pt x="6072" y="15952"/>
                  <a:pt x="6077" y="15825"/>
                </a:cubicBezTo>
                <a:cubicBezTo>
                  <a:pt x="6081" y="15741"/>
                  <a:pt x="6007" y="15692"/>
                  <a:pt x="5953" y="15652"/>
                </a:cubicBezTo>
              </a:path>
              <a:path w="4193" h="2506">
                <a:moveTo>
                  <a:pt x="6375" y="14908"/>
                </a:moveTo>
                <a:cubicBezTo>
                  <a:pt x="6392" y="15026"/>
                  <a:pt x="6400" y="15134"/>
                  <a:pt x="6400" y="15255"/>
                </a:cubicBezTo>
                <a:cubicBezTo>
                  <a:pt x="6400" y="15271"/>
                  <a:pt x="6400" y="15288"/>
                  <a:pt x="6400" y="15304"/>
                </a:cubicBezTo>
              </a:path>
              <a:path w="4193" h="2506">
                <a:moveTo>
                  <a:pt x="6300" y="15180"/>
                </a:moveTo>
                <a:cubicBezTo>
                  <a:pt x="6396" y="15127"/>
                  <a:pt x="6514" y="15112"/>
                  <a:pt x="6623" y="15081"/>
                </a:cubicBezTo>
              </a:path>
              <a:path w="4193" h="2506">
                <a:moveTo>
                  <a:pt x="6424" y="15701"/>
                </a:moveTo>
                <a:cubicBezTo>
                  <a:pt x="6438" y="15770"/>
                  <a:pt x="6449" y="15826"/>
                  <a:pt x="6449" y="15900"/>
                </a:cubicBezTo>
                <a:cubicBezTo>
                  <a:pt x="6449" y="15908"/>
                  <a:pt x="6449" y="15917"/>
                  <a:pt x="6449" y="15925"/>
                </a:cubicBezTo>
              </a:path>
              <a:path w="4193" h="2506">
                <a:moveTo>
                  <a:pt x="6400" y="15875"/>
                </a:moveTo>
                <a:cubicBezTo>
                  <a:pt x="6458" y="15816"/>
                  <a:pt x="6573" y="15826"/>
                  <a:pt x="6623" y="15776"/>
                </a:cubicBezTo>
                <a:cubicBezTo>
                  <a:pt x="6623" y="15768"/>
                  <a:pt x="6623" y="15759"/>
                  <a:pt x="6623" y="15751"/>
                </a:cubicBezTo>
              </a:path>
              <a:path w="4193" h="2506">
                <a:moveTo>
                  <a:pt x="7243" y="15056"/>
                </a:moveTo>
                <a:cubicBezTo>
                  <a:pt x="7243" y="14982"/>
                  <a:pt x="7243" y="15156"/>
                  <a:pt x="7243" y="15230"/>
                </a:cubicBezTo>
                <a:cubicBezTo>
                  <a:pt x="7243" y="15315"/>
                  <a:pt x="7237" y="15335"/>
                  <a:pt x="7268" y="15379"/>
                </a:cubicBezTo>
              </a:path>
              <a:path w="4193" h="2506">
                <a:moveTo>
                  <a:pt x="7392" y="15032"/>
                </a:moveTo>
                <a:cubicBezTo>
                  <a:pt x="7514" y="15018"/>
                  <a:pt x="7581" y="15004"/>
                  <a:pt x="7615" y="15156"/>
                </a:cubicBezTo>
                <a:cubicBezTo>
                  <a:pt x="7639" y="15264"/>
                  <a:pt x="7567" y="15270"/>
                  <a:pt x="7491" y="15304"/>
                </a:cubicBezTo>
                <a:cubicBezTo>
                  <a:pt x="7511" y="15228"/>
                  <a:pt x="7568" y="15222"/>
                  <a:pt x="7640" y="15255"/>
                </a:cubicBezTo>
                <a:cubicBezTo>
                  <a:pt x="7699" y="15294"/>
                  <a:pt x="7711" y="15323"/>
                  <a:pt x="7739" y="15280"/>
                </a:cubicBezTo>
              </a:path>
              <a:path w="4193" h="2506">
                <a:moveTo>
                  <a:pt x="7863" y="15056"/>
                </a:moveTo>
                <a:cubicBezTo>
                  <a:pt x="7892" y="15108"/>
                  <a:pt x="7959" y="15234"/>
                  <a:pt x="8012" y="15255"/>
                </a:cubicBezTo>
                <a:cubicBezTo>
                  <a:pt x="8012" y="15247"/>
                  <a:pt x="8012" y="15238"/>
                  <a:pt x="8012" y="15230"/>
                </a:cubicBezTo>
              </a:path>
              <a:path w="4193" h="2506">
                <a:moveTo>
                  <a:pt x="8136" y="15032"/>
                </a:moveTo>
                <a:cubicBezTo>
                  <a:pt x="8198" y="15080"/>
                  <a:pt x="8292" y="15110"/>
                  <a:pt x="8334" y="15180"/>
                </a:cubicBezTo>
                <a:cubicBezTo>
                  <a:pt x="8431" y="15340"/>
                  <a:pt x="8279" y="15283"/>
                  <a:pt x="8210" y="15230"/>
                </a:cubicBezTo>
              </a:path>
              <a:path w="4193" h="2506">
                <a:moveTo>
                  <a:pt x="7045" y="14908"/>
                </a:moveTo>
                <a:cubicBezTo>
                  <a:pt x="7015" y="15083"/>
                  <a:pt x="6959" y="15269"/>
                  <a:pt x="6995" y="15453"/>
                </a:cubicBezTo>
                <a:cubicBezTo>
                  <a:pt x="7044" y="15574"/>
                  <a:pt x="7058" y="15613"/>
                  <a:pt x="7144" y="15652"/>
                </a:cubicBezTo>
              </a:path>
              <a:path w="4193" h="2506">
                <a:moveTo>
                  <a:pt x="7293" y="15652"/>
                </a:moveTo>
                <a:cubicBezTo>
                  <a:pt x="7233" y="15607"/>
                  <a:pt x="7214" y="15656"/>
                  <a:pt x="7193" y="15751"/>
                </a:cubicBezTo>
                <a:cubicBezTo>
                  <a:pt x="7171" y="15852"/>
                  <a:pt x="7206" y="15981"/>
                  <a:pt x="7342" y="15925"/>
                </a:cubicBezTo>
                <a:cubicBezTo>
                  <a:pt x="7389" y="15906"/>
                  <a:pt x="7431" y="15819"/>
                  <a:pt x="7441" y="15776"/>
                </a:cubicBezTo>
                <a:cubicBezTo>
                  <a:pt x="7345" y="15808"/>
                  <a:pt x="7317" y="15850"/>
                  <a:pt x="7293" y="15949"/>
                </a:cubicBezTo>
                <a:cubicBezTo>
                  <a:pt x="7293" y="15984"/>
                  <a:pt x="7302" y="15988"/>
                  <a:pt x="7342" y="15949"/>
                </a:cubicBezTo>
              </a:path>
              <a:path w="4193" h="2506">
                <a:moveTo>
                  <a:pt x="7615" y="15627"/>
                </a:moveTo>
                <a:cubicBezTo>
                  <a:pt x="7560" y="15668"/>
                  <a:pt x="7521" y="15770"/>
                  <a:pt x="7565" y="15850"/>
                </a:cubicBezTo>
                <a:cubicBezTo>
                  <a:pt x="7638" y="15983"/>
                  <a:pt x="7764" y="15812"/>
                  <a:pt x="7764" y="15726"/>
                </a:cubicBezTo>
                <a:cubicBezTo>
                  <a:pt x="7764" y="15619"/>
                  <a:pt x="7687" y="15652"/>
                  <a:pt x="7615" y="15652"/>
                </a:cubicBezTo>
              </a:path>
              <a:path w="4193" h="2506">
                <a:moveTo>
                  <a:pt x="6028" y="16570"/>
                </a:moveTo>
                <a:cubicBezTo>
                  <a:pt x="6005" y="16661"/>
                  <a:pt x="6003" y="16762"/>
                  <a:pt x="6003" y="16867"/>
                </a:cubicBezTo>
                <a:cubicBezTo>
                  <a:pt x="6003" y="16941"/>
                  <a:pt x="6003" y="16999"/>
                  <a:pt x="6003" y="16942"/>
                </a:cubicBezTo>
              </a:path>
              <a:path w="4193" h="2506">
                <a:moveTo>
                  <a:pt x="6524" y="16446"/>
                </a:moveTo>
                <a:cubicBezTo>
                  <a:pt x="6442" y="16466"/>
                  <a:pt x="6346" y="16503"/>
                  <a:pt x="6300" y="16594"/>
                </a:cubicBezTo>
                <a:cubicBezTo>
                  <a:pt x="6300" y="16602"/>
                  <a:pt x="6300" y="16611"/>
                  <a:pt x="6300" y="16619"/>
                </a:cubicBezTo>
                <a:cubicBezTo>
                  <a:pt x="6385" y="16675"/>
                  <a:pt x="6508" y="16720"/>
                  <a:pt x="6524" y="16818"/>
                </a:cubicBezTo>
                <a:cubicBezTo>
                  <a:pt x="6524" y="16834"/>
                  <a:pt x="6524" y="16851"/>
                  <a:pt x="6524" y="16867"/>
                </a:cubicBezTo>
                <a:cubicBezTo>
                  <a:pt x="6429" y="16867"/>
                  <a:pt x="6347" y="16850"/>
                  <a:pt x="6424" y="16718"/>
                </a:cubicBezTo>
                <a:cubicBezTo>
                  <a:pt x="6467" y="16645"/>
                  <a:pt x="6521" y="16627"/>
                  <a:pt x="6548" y="16545"/>
                </a:cubicBezTo>
              </a:path>
              <a:path w="4193" h="2506">
                <a:moveTo>
                  <a:pt x="6921" y="16421"/>
                </a:moveTo>
                <a:cubicBezTo>
                  <a:pt x="6836" y="16438"/>
                  <a:pt x="6789" y="16532"/>
                  <a:pt x="6772" y="16619"/>
                </a:cubicBezTo>
                <a:cubicBezTo>
                  <a:pt x="6772" y="16711"/>
                  <a:pt x="6770" y="16738"/>
                  <a:pt x="6796" y="16793"/>
                </a:cubicBezTo>
                <a:cubicBezTo>
                  <a:pt x="6922" y="16793"/>
                  <a:pt x="7016" y="16795"/>
                  <a:pt x="7045" y="16644"/>
                </a:cubicBezTo>
                <a:cubicBezTo>
                  <a:pt x="7065" y="16536"/>
                  <a:pt x="7018" y="16469"/>
                  <a:pt x="6921" y="16446"/>
                </a:cubicBezTo>
                <a:cubicBezTo>
                  <a:pt x="6913" y="16446"/>
                  <a:pt x="6904" y="16446"/>
                  <a:pt x="6896" y="16446"/>
                </a:cubicBezTo>
              </a:path>
              <a:path w="4193" h="2506">
                <a:moveTo>
                  <a:pt x="5854" y="17239"/>
                </a:moveTo>
                <a:cubicBezTo>
                  <a:pt x="5956" y="17258"/>
                  <a:pt x="6046" y="17264"/>
                  <a:pt x="6152" y="17264"/>
                </a:cubicBezTo>
                <a:cubicBezTo>
                  <a:pt x="6461" y="17264"/>
                  <a:pt x="6801" y="17186"/>
                  <a:pt x="7094" y="17090"/>
                </a:cubicBezTo>
                <a:cubicBezTo>
                  <a:pt x="7305" y="17021"/>
                  <a:pt x="7473" y="16890"/>
                  <a:pt x="7565" y="16694"/>
                </a:cubicBezTo>
                <a:cubicBezTo>
                  <a:pt x="7627" y="16561"/>
                  <a:pt x="7525" y="16463"/>
                  <a:pt x="7417" y="16396"/>
                </a:cubicBezTo>
                <a:cubicBezTo>
                  <a:pt x="7221" y="16274"/>
                  <a:pt x="7003" y="16193"/>
                  <a:pt x="6772" y="16173"/>
                </a:cubicBezTo>
                <a:cubicBezTo>
                  <a:pt x="6579" y="16157"/>
                  <a:pt x="6328" y="16193"/>
                  <a:pt x="6152" y="16272"/>
                </a:cubicBezTo>
                <a:cubicBezTo>
                  <a:pt x="5924" y="16375"/>
                  <a:pt x="5770" y="16535"/>
                  <a:pt x="5680" y="16768"/>
                </a:cubicBezTo>
                <a:cubicBezTo>
                  <a:pt x="5620" y="16923"/>
                  <a:pt x="5605" y="17188"/>
                  <a:pt x="5779" y="17289"/>
                </a:cubicBezTo>
                <a:cubicBezTo>
                  <a:pt x="5991" y="17413"/>
                  <a:pt x="6304" y="17313"/>
                  <a:pt x="6524" y="17264"/>
                </a:cubicBezTo>
                <a:cubicBezTo>
                  <a:pt x="6549" y="17256"/>
                  <a:pt x="6573" y="17247"/>
                  <a:pt x="6598" y="1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89040" y="3911760"/>
            <a:ext cx="339840" cy="366480"/>
          </a:xfrm>
          <a:custGeom>
            <a:avLst/>
            <a:gdLst/>
            <a:ahLst/>
            <a:rect l="l" t="t" r="r" b="b"/>
            <a:pathLst>
              <a:path w="944" h="1018">
                <a:moveTo>
                  <a:pt x="4738" y="10864"/>
                </a:moveTo>
                <a:cubicBezTo>
                  <a:pt x="4667" y="10953"/>
                  <a:pt x="4616" y="11051"/>
                  <a:pt x="4539" y="11137"/>
                </a:cubicBezTo>
              </a:path>
              <a:path w="944" h="1018">
                <a:moveTo>
                  <a:pt x="4465" y="11658"/>
                </a:moveTo>
                <a:cubicBezTo>
                  <a:pt x="4465" y="11583"/>
                  <a:pt x="4478" y="11606"/>
                  <a:pt x="4539" y="11584"/>
                </a:cubicBezTo>
                <a:cubicBezTo>
                  <a:pt x="4647" y="11546"/>
                  <a:pt x="4702" y="11687"/>
                  <a:pt x="4638" y="11782"/>
                </a:cubicBezTo>
                <a:cubicBezTo>
                  <a:pt x="4593" y="11849"/>
                  <a:pt x="4490" y="11881"/>
                  <a:pt x="4415" y="11881"/>
                </a:cubicBezTo>
                <a:cubicBezTo>
                  <a:pt x="4425" y="11810"/>
                  <a:pt x="4436" y="11786"/>
                  <a:pt x="4514" y="11782"/>
                </a:cubicBezTo>
                <a:cubicBezTo>
                  <a:pt x="4595" y="11778"/>
                  <a:pt x="4638" y="11832"/>
                  <a:pt x="4688" y="11807"/>
                </a:cubicBezTo>
              </a:path>
              <a:path w="944" h="1018">
                <a:moveTo>
                  <a:pt x="4787" y="11584"/>
                </a:moveTo>
                <a:cubicBezTo>
                  <a:pt x="4787" y="11640"/>
                  <a:pt x="4785" y="11674"/>
                  <a:pt x="4837" y="11708"/>
                </a:cubicBezTo>
                <a:cubicBezTo>
                  <a:pt x="4932" y="11769"/>
                  <a:pt x="4989" y="11721"/>
                  <a:pt x="5060" y="11658"/>
                </a:cubicBezTo>
              </a:path>
              <a:path w="944" h="1018">
                <a:moveTo>
                  <a:pt x="5060" y="11509"/>
                </a:moveTo>
                <a:cubicBezTo>
                  <a:pt x="5060" y="11616"/>
                  <a:pt x="5030" y="11703"/>
                  <a:pt x="5011" y="11807"/>
                </a:cubicBezTo>
                <a:cubicBezTo>
                  <a:pt x="5011" y="11815"/>
                  <a:pt x="5011" y="11824"/>
                  <a:pt x="5011" y="11832"/>
                </a:cubicBezTo>
              </a:path>
              <a:path w="944" h="1018">
                <a:moveTo>
                  <a:pt x="5209" y="11584"/>
                </a:moveTo>
                <a:cubicBezTo>
                  <a:pt x="5124" y="11669"/>
                  <a:pt x="5124" y="11737"/>
                  <a:pt x="5159" y="11857"/>
                </a:cubicBezTo>
                <a:cubicBezTo>
                  <a:pt x="5240" y="11830"/>
                  <a:pt x="5354" y="11762"/>
                  <a:pt x="5358" y="11658"/>
                </a:cubicBezTo>
                <a:cubicBezTo>
                  <a:pt x="5361" y="11582"/>
                  <a:pt x="5284" y="11572"/>
                  <a:pt x="5234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55960" y="2251080"/>
            <a:ext cx="4089240" cy="3267000"/>
          </a:xfrm>
          <a:custGeom>
            <a:avLst/>
            <a:gdLst/>
            <a:ahLst/>
            <a:rect l="l" t="t" r="r" b="b"/>
            <a:pathLst>
              <a:path w="11362" h="9079">
                <a:moveTo>
                  <a:pt x="8210" y="15007"/>
                </a:moveTo>
                <a:cubicBezTo>
                  <a:pt x="8290" y="14971"/>
                  <a:pt x="8376" y="14931"/>
                  <a:pt x="8458" y="14908"/>
                </a:cubicBezTo>
              </a:path>
              <a:path w="11362" h="9079">
                <a:moveTo>
                  <a:pt x="8458" y="14908"/>
                </a:moveTo>
                <a:lnTo>
                  <a:pt x="8458" y="14908"/>
                </a:lnTo>
              </a:path>
              <a:path w="11362" h="9079">
                <a:moveTo>
                  <a:pt x="8409" y="14808"/>
                </a:moveTo>
                <a:cubicBezTo>
                  <a:pt x="8576" y="14850"/>
                  <a:pt x="8631" y="14952"/>
                  <a:pt x="8657" y="15131"/>
                </a:cubicBezTo>
                <a:cubicBezTo>
                  <a:pt x="8678" y="15281"/>
                  <a:pt x="8645" y="15277"/>
                  <a:pt x="8533" y="15329"/>
                </a:cubicBezTo>
              </a:path>
              <a:path w="11362" h="9079">
                <a:moveTo>
                  <a:pt x="17611" y="6648"/>
                </a:moveTo>
                <a:lnTo>
                  <a:pt x="17611" y="6648"/>
                </a:lnTo>
              </a:path>
              <a:path w="11362" h="9079">
                <a:moveTo>
                  <a:pt x="17487" y="6524"/>
                </a:moveTo>
                <a:cubicBezTo>
                  <a:pt x="17580" y="6517"/>
                  <a:pt x="17667" y="6505"/>
                  <a:pt x="17760" y="6499"/>
                </a:cubicBezTo>
              </a:path>
              <a:path w="11362" h="9079">
                <a:moveTo>
                  <a:pt x="18380" y="6251"/>
                </a:moveTo>
                <a:cubicBezTo>
                  <a:pt x="18496" y="6366"/>
                  <a:pt x="18672" y="6544"/>
                  <a:pt x="18479" y="6697"/>
                </a:cubicBezTo>
                <a:cubicBezTo>
                  <a:pt x="18438" y="6714"/>
                  <a:pt x="18396" y="6730"/>
                  <a:pt x="18355" y="6747"/>
                </a:cubicBezTo>
              </a:path>
              <a:path w="11362" h="9079">
                <a:moveTo>
                  <a:pt x="17041" y="6921"/>
                </a:moveTo>
                <a:cubicBezTo>
                  <a:pt x="17134" y="7083"/>
                  <a:pt x="17278" y="7257"/>
                  <a:pt x="17140" y="7441"/>
                </a:cubicBezTo>
                <a:cubicBezTo>
                  <a:pt x="17115" y="7458"/>
                  <a:pt x="17091" y="7474"/>
                  <a:pt x="17066" y="7491"/>
                </a:cubicBezTo>
              </a:path>
              <a:path w="11362" h="9079">
                <a:moveTo>
                  <a:pt x="19248" y="6648"/>
                </a:moveTo>
                <a:cubicBezTo>
                  <a:pt x="19405" y="6729"/>
                  <a:pt x="19663" y="6857"/>
                  <a:pt x="19571" y="7094"/>
                </a:cubicBezTo>
                <a:cubicBezTo>
                  <a:pt x="19472" y="7218"/>
                  <a:pt x="19439" y="7259"/>
                  <a:pt x="19348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10240" y="441180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8107" y="12254"/>
                </a:moveTo>
                <a:cubicBezTo>
                  <a:pt x="18151" y="12268"/>
                  <a:pt x="18144" y="12375"/>
                  <a:pt x="18132" y="12427"/>
                </a:cubicBezTo>
                <a:cubicBezTo>
                  <a:pt x="18124" y="12444"/>
                  <a:pt x="18115" y="12460"/>
                  <a:pt x="18107" y="12477"/>
                </a:cubicBezTo>
              </a:path>
              <a:path w="249" h="224">
                <a:moveTo>
                  <a:pt x="18083" y="12328"/>
                </a:moveTo>
                <a:cubicBezTo>
                  <a:pt x="18171" y="12311"/>
                  <a:pt x="18241" y="12303"/>
                  <a:pt x="18331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6720" y="4071960"/>
            <a:ext cx="374400" cy="401760"/>
          </a:xfrm>
          <a:custGeom>
            <a:avLst/>
            <a:gdLst/>
            <a:ahLst/>
            <a:rect l="l" t="t" r="r" b="b"/>
            <a:pathLst>
              <a:path w="1042" h="1117">
                <a:moveTo>
                  <a:pt x="19075" y="11410"/>
                </a:moveTo>
                <a:cubicBezTo>
                  <a:pt x="19083" y="11402"/>
                  <a:pt x="19092" y="11393"/>
                  <a:pt x="19100" y="11385"/>
                </a:cubicBezTo>
                <a:cubicBezTo>
                  <a:pt x="19039" y="11385"/>
                  <a:pt x="19025" y="11379"/>
                  <a:pt x="19000" y="11410"/>
                </a:cubicBezTo>
                <a:cubicBezTo>
                  <a:pt x="18947" y="11474"/>
                  <a:pt x="18936" y="11479"/>
                  <a:pt x="18926" y="11559"/>
                </a:cubicBezTo>
                <a:cubicBezTo>
                  <a:pt x="18993" y="11542"/>
                  <a:pt x="19022" y="11494"/>
                  <a:pt x="19100" y="11534"/>
                </a:cubicBezTo>
                <a:cubicBezTo>
                  <a:pt x="19218" y="11594"/>
                  <a:pt x="19101" y="11731"/>
                  <a:pt x="19025" y="11757"/>
                </a:cubicBezTo>
                <a:cubicBezTo>
                  <a:pt x="18938" y="11787"/>
                  <a:pt x="18895" y="11734"/>
                  <a:pt x="18852" y="11683"/>
                </a:cubicBezTo>
              </a:path>
              <a:path w="1042" h="1117">
                <a:moveTo>
                  <a:pt x="19248" y="11410"/>
                </a:moveTo>
                <a:cubicBezTo>
                  <a:pt x="19286" y="11448"/>
                  <a:pt x="19341" y="11616"/>
                  <a:pt x="19397" y="11633"/>
                </a:cubicBezTo>
                <a:cubicBezTo>
                  <a:pt x="19405" y="11625"/>
                  <a:pt x="19414" y="11617"/>
                  <a:pt x="19422" y="11609"/>
                </a:cubicBezTo>
              </a:path>
              <a:path w="1042" h="1117">
                <a:moveTo>
                  <a:pt x="19422" y="11385"/>
                </a:moveTo>
                <a:cubicBezTo>
                  <a:pt x="19333" y="11463"/>
                  <a:pt x="19275" y="11571"/>
                  <a:pt x="19224" y="11683"/>
                </a:cubicBezTo>
              </a:path>
              <a:path w="1042" h="1117">
                <a:moveTo>
                  <a:pt x="19596" y="11385"/>
                </a:moveTo>
                <a:cubicBezTo>
                  <a:pt x="19606" y="11478"/>
                  <a:pt x="19621" y="11562"/>
                  <a:pt x="19621" y="11658"/>
                </a:cubicBezTo>
              </a:path>
              <a:path w="1042" h="1117">
                <a:moveTo>
                  <a:pt x="19869" y="11311"/>
                </a:moveTo>
                <a:cubicBezTo>
                  <a:pt x="19869" y="11410"/>
                  <a:pt x="19869" y="11510"/>
                  <a:pt x="19869" y="11609"/>
                </a:cubicBezTo>
              </a:path>
              <a:path w="1042" h="1117">
                <a:moveTo>
                  <a:pt x="18976" y="11832"/>
                </a:moveTo>
                <a:cubicBezTo>
                  <a:pt x="19015" y="11886"/>
                  <a:pt x="18976" y="11880"/>
                  <a:pt x="19000" y="11931"/>
                </a:cubicBezTo>
                <a:cubicBezTo>
                  <a:pt x="19165" y="11907"/>
                  <a:pt x="19329" y="11877"/>
                  <a:pt x="19496" y="11857"/>
                </a:cubicBezTo>
                <a:cubicBezTo>
                  <a:pt x="19653" y="11838"/>
                  <a:pt x="19746" y="11825"/>
                  <a:pt x="19893" y="11857"/>
                </a:cubicBezTo>
                <a:cubicBezTo>
                  <a:pt x="19878" y="11811"/>
                  <a:pt x="19860" y="11738"/>
                  <a:pt x="19819" y="11733"/>
                </a:cubicBezTo>
                <a:cubicBezTo>
                  <a:pt x="19811" y="11733"/>
                  <a:pt x="19802" y="11733"/>
                  <a:pt x="19794" y="11733"/>
                </a:cubicBezTo>
              </a:path>
              <a:path w="1042" h="1117">
                <a:moveTo>
                  <a:pt x="19174" y="12179"/>
                </a:moveTo>
                <a:cubicBezTo>
                  <a:pt x="19132" y="12188"/>
                  <a:pt x="19080" y="12191"/>
                  <a:pt x="19075" y="12229"/>
                </a:cubicBezTo>
                <a:cubicBezTo>
                  <a:pt x="19070" y="12267"/>
                  <a:pt x="19085" y="12295"/>
                  <a:pt x="19124" y="12303"/>
                </a:cubicBezTo>
                <a:cubicBezTo>
                  <a:pt x="19151" y="12309"/>
                  <a:pt x="19194" y="12303"/>
                  <a:pt x="19224" y="12303"/>
                </a:cubicBezTo>
                <a:cubicBezTo>
                  <a:pt x="19224" y="12380"/>
                  <a:pt x="19202" y="12374"/>
                  <a:pt x="19124" y="12402"/>
                </a:cubicBezTo>
                <a:cubicBezTo>
                  <a:pt x="19047" y="12429"/>
                  <a:pt x="19042" y="12443"/>
                  <a:pt x="19025" y="12378"/>
                </a:cubicBezTo>
              </a:path>
              <a:path w="1042" h="1117">
                <a:moveTo>
                  <a:pt x="19372" y="12154"/>
                </a:moveTo>
                <a:cubicBezTo>
                  <a:pt x="19372" y="12182"/>
                  <a:pt x="19370" y="12193"/>
                  <a:pt x="19348" y="12204"/>
                </a:cubicBezTo>
                <a:cubicBezTo>
                  <a:pt x="19384" y="12215"/>
                  <a:pt x="19575" y="12242"/>
                  <a:pt x="19571" y="12303"/>
                </a:cubicBezTo>
                <a:cubicBezTo>
                  <a:pt x="19563" y="12416"/>
                  <a:pt x="19429" y="12369"/>
                  <a:pt x="19372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9840" y="3821040"/>
            <a:ext cx="1144440" cy="2206800"/>
          </a:xfrm>
          <a:custGeom>
            <a:avLst/>
            <a:gdLst/>
            <a:ahLst/>
            <a:rect l="l" t="t" r="r" b="b"/>
            <a:pathLst>
              <a:path w="3176" h="6128">
                <a:moveTo>
                  <a:pt x="18033" y="10740"/>
                </a:moveTo>
                <a:cubicBezTo>
                  <a:pt x="17943" y="10822"/>
                  <a:pt x="17928" y="10843"/>
                  <a:pt x="17909" y="10964"/>
                </a:cubicBezTo>
                <a:cubicBezTo>
                  <a:pt x="18006" y="11025"/>
                  <a:pt x="18175" y="11083"/>
                  <a:pt x="18256" y="10939"/>
                </a:cubicBezTo>
                <a:cubicBezTo>
                  <a:pt x="18310" y="10843"/>
                  <a:pt x="18164" y="10794"/>
                  <a:pt x="18107" y="10765"/>
                </a:cubicBezTo>
              </a:path>
              <a:path w="3176" h="6128">
                <a:moveTo>
                  <a:pt x="18628" y="10815"/>
                </a:moveTo>
                <a:cubicBezTo>
                  <a:pt x="18644" y="10901"/>
                  <a:pt x="18654" y="10982"/>
                  <a:pt x="18678" y="11063"/>
                </a:cubicBezTo>
              </a:path>
              <a:path w="3176" h="6128">
                <a:moveTo>
                  <a:pt x="19447" y="10616"/>
                </a:moveTo>
                <a:cubicBezTo>
                  <a:pt x="19521" y="10805"/>
                  <a:pt x="19655" y="11039"/>
                  <a:pt x="19521" y="11237"/>
                </a:cubicBezTo>
                <a:cubicBezTo>
                  <a:pt x="19496" y="11253"/>
                  <a:pt x="19472" y="11270"/>
                  <a:pt x="19447" y="11286"/>
                </a:cubicBezTo>
              </a:path>
              <a:path w="3176" h="6128">
                <a:moveTo>
                  <a:pt x="16470" y="11584"/>
                </a:moveTo>
                <a:cubicBezTo>
                  <a:pt x="16481" y="11651"/>
                  <a:pt x="16507" y="11771"/>
                  <a:pt x="16594" y="11782"/>
                </a:cubicBezTo>
                <a:cubicBezTo>
                  <a:pt x="16594" y="11774"/>
                  <a:pt x="16594" y="11765"/>
                  <a:pt x="16594" y="11757"/>
                </a:cubicBezTo>
              </a:path>
              <a:path w="3176" h="6128">
                <a:moveTo>
                  <a:pt x="16520" y="11658"/>
                </a:moveTo>
                <a:cubicBezTo>
                  <a:pt x="16478" y="11741"/>
                  <a:pt x="16470" y="11757"/>
                  <a:pt x="16446" y="11807"/>
                </a:cubicBezTo>
              </a:path>
              <a:path w="3176" h="6128">
                <a:moveTo>
                  <a:pt x="18157" y="11534"/>
                </a:moveTo>
                <a:cubicBezTo>
                  <a:pt x="18266" y="11528"/>
                  <a:pt x="18370" y="11515"/>
                  <a:pt x="18479" y="11509"/>
                </a:cubicBezTo>
              </a:path>
              <a:path w="3176" h="6128">
                <a:moveTo>
                  <a:pt x="19397" y="12129"/>
                </a:moveTo>
                <a:cubicBezTo>
                  <a:pt x="19473" y="12115"/>
                  <a:pt x="19558" y="12107"/>
                  <a:pt x="19621" y="12080"/>
                </a:cubicBezTo>
              </a:path>
              <a:path w="3176" h="6128">
                <a:moveTo>
                  <a:pt x="17115" y="15230"/>
                </a:moveTo>
                <a:cubicBezTo>
                  <a:pt x="17062" y="15336"/>
                  <a:pt x="16886" y="15416"/>
                  <a:pt x="16966" y="15503"/>
                </a:cubicBezTo>
              </a:path>
              <a:path w="3176" h="6128">
                <a:moveTo>
                  <a:pt x="19050" y="14858"/>
                </a:moveTo>
                <a:cubicBezTo>
                  <a:pt x="19138" y="15067"/>
                  <a:pt x="19240" y="15261"/>
                  <a:pt x="19100" y="15478"/>
                </a:cubicBezTo>
                <a:cubicBezTo>
                  <a:pt x="19075" y="15503"/>
                  <a:pt x="19050" y="15528"/>
                  <a:pt x="19025" y="15553"/>
                </a:cubicBezTo>
              </a:path>
              <a:path w="3176" h="6128">
                <a:moveTo>
                  <a:pt x="16917" y="16073"/>
                </a:moveTo>
                <a:cubicBezTo>
                  <a:pt x="16962" y="16136"/>
                  <a:pt x="16989" y="16228"/>
                  <a:pt x="17066" y="16173"/>
                </a:cubicBezTo>
              </a:path>
              <a:path w="3176" h="6128">
                <a:moveTo>
                  <a:pt x="17090" y="15999"/>
                </a:moveTo>
                <a:cubicBezTo>
                  <a:pt x="17050" y="16074"/>
                  <a:pt x="17020" y="16133"/>
                  <a:pt x="16966" y="16197"/>
                </a:cubicBezTo>
              </a:path>
              <a:path w="3176" h="6128">
                <a:moveTo>
                  <a:pt x="18182" y="16371"/>
                </a:moveTo>
                <a:cubicBezTo>
                  <a:pt x="18197" y="16477"/>
                  <a:pt x="18200" y="16591"/>
                  <a:pt x="18231" y="16694"/>
                </a:cubicBezTo>
                <a:cubicBezTo>
                  <a:pt x="18239" y="16710"/>
                  <a:pt x="18248" y="16727"/>
                  <a:pt x="18256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251080"/>
            <a:ext cx="1419120" cy="946080"/>
          </a:xfrm>
          <a:custGeom>
            <a:avLst/>
            <a:gdLst/>
            <a:ahLst/>
            <a:rect l="l" t="t" r="r" b="b"/>
            <a:pathLst>
              <a:path w="3944" h="2630">
                <a:moveTo>
                  <a:pt x="16222" y="6424"/>
                </a:moveTo>
                <a:cubicBezTo>
                  <a:pt x="16249" y="6389"/>
                  <a:pt x="16333" y="6346"/>
                  <a:pt x="16396" y="6375"/>
                </a:cubicBezTo>
                <a:cubicBezTo>
                  <a:pt x="16404" y="6383"/>
                  <a:pt x="16413" y="6392"/>
                  <a:pt x="16421" y="6400"/>
                </a:cubicBezTo>
                <a:cubicBezTo>
                  <a:pt x="16384" y="6466"/>
                  <a:pt x="16347" y="6517"/>
                  <a:pt x="16297" y="6573"/>
                </a:cubicBezTo>
                <a:cubicBezTo>
                  <a:pt x="16339" y="6594"/>
                  <a:pt x="16445" y="6650"/>
                  <a:pt x="16421" y="6722"/>
                </a:cubicBezTo>
                <a:cubicBezTo>
                  <a:pt x="16394" y="6802"/>
                  <a:pt x="16224" y="6779"/>
                  <a:pt x="16173" y="6772"/>
                </a:cubicBezTo>
                <a:cubicBezTo>
                  <a:pt x="16165" y="6772"/>
                  <a:pt x="16156" y="6772"/>
                  <a:pt x="16148" y="6772"/>
                </a:cubicBezTo>
              </a:path>
              <a:path w="3944" h="2630">
                <a:moveTo>
                  <a:pt x="16644" y="6251"/>
                </a:moveTo>
                <a:cubicBezTo>
                  <a:pt x="16610" y="6401"/>
                  <a:pt x="16555" y="6538"/>
                  <a:pt x="16570" y="6697"/>
                </a:cubicBezTo>
                <a:cubicBezTo>
                  <a:pt x="16582" y="6828"/>
                  <a:pt x="16614" y="6811"/>
                  <a:pt x="16718" y="6821"/>
                </a:cubicBezTo>
              </a:path>
              <a:path w="3944" h="2630">
                <a:moveTo>
                  <a:pt x="16942" y="6350"/>
                </a:moveTo>
                <a:cubicBezTo>
                  <a:pt x="16891" y="6350"/>
                  <a:pt x="16855" y="6334"/>
                  <a:pt x="16842" y="6375"/>
                </a:cubicBezTo>
                <a:cubicBezTo>
                  <a:pt x="16816" y="6454"/>
                  <a:pt x="16804" y="6446"/>
                  <a:pt x="16842" y="6499"/>
                </a:cubicBezTo>
                <a:cubicBezTo>
                  <a:pt x="16897" y="6488"/>
                  <a:pt x="16991" y="6436"/>
                  <a:pt x="17041" y="6499"/>
                </a:cubicBezTo>
                <a:cubicBezTo>
                  <a:pt x="17110" y="6586"/>
                  <a:pt x="17060" y="6722"/>
                  <a:pt x="16942" y="6722"/>
                </a:cubicBezTo>
                <a:cubicBezTo>
                  <a:pt x="16862" y="6722"/>
                  <a:pt x="16811" y="6673"/>
                  <a:pt x="16768" y="6623"/>
                </a:cubicBezTo>
              </a:path>
              <a:path w="3944" h="2630">
                <a:moveTo>
                  <a:pt x="17239" y="6375"/>
                </a:moveTo>
                <a:cubicBezTo>
                  <a:pt x="17152" y="6397"/>
                  <a:pt x="17131" y="6486"/>
                  <a:pt x="17140" y="6573"/>
                </a:cubicBezTo>
                <a:cubicBezTo>
                  <a:pt x="17148" y="6598"/>
                  <a:pt x="17157" y="6623"/>
                  <a:pt x="17165" y="6648"/>
                </a:cubicBezTo>
                <a:cubicBezTo>
                  <a:pt x="17221" y="6635"/>
                  <a:pt x="17394" y="6575"/>
                  <a:pt x="17363" y="6474"/>
                </a:cubicBezTo>
                <a:cubicBezTo>
                  <a:pt x="17347" y="6423"/>
                  <a:pt x="17215" y="6411"/>
                  <a:pt x="17214" y="6400"/>
                </a:cubicBezTo>
              </a:path>
              <a:path w="3944" h="2630">
                <a:moveTo>
                  <a:pt x="17562" y="6375"/>
                </a:moveTo>
                <a:cubicBezTo>
                  <a:pt x="17562" y="6474"/>
                  <a:pt x="17583" y="6553"/>
                  <a:pt x="17611" y="6648"/>
                </a:cubicBezTo>
              </a:path>
              <a:path w="3944" h="2630">
                <a:moveTo>
                  <a:pt x="18008" y="6400"/>
                </a:moveTo>
                <a:cubicBezTo>
                  <a:pt x="18067" y="6400"/>
                  <a:pt x="18179" y="6362"/>
                  <a:pt x="18157" y="6449"/>
                </a:cubicBezTo>
                <a:cubicBezTo>
                  <a:pt x="18140" y="6517"/>
                  <a:pt x="18053" y="6578"/>
                  <a:pt x="18008" y="6623"/>
                </a:cubicBezTo>
                <a:cubicBezTo>
                  <a:pt x="18000" y="6631"/>
                  <a:pt x="17991" y="6640"/>
                  <a:pt x="17983" y="6648"/>
                </a:cubicBezTo>
                <a:cubicBezTo>
                  <a:pt x="18051" y="6676"/>
                  <a:pt x="18268" y="6692"/>
                  <a:pt x="18331" y="6623"/>
                </a:cubicBezTo>
                <a:cubicBezTo>
                  <a:pt x="18339" y="6590"/>
                  <a:pt x="18347" y="6557"/>
                  <a:pt x="18355" y="6524"/>
                </a:cubicBezTo>
              </a:path>
              <a:path w="3944" h="2630">
                <a:moveTo>
                  <a:pt x="15751" y="7119"/>
                </a:moveTo>
                <a:cubicBezTo>
                  <a:pt x="15795" y="7110"/>
                  <a:pt x="15829" y="7100"/>
                  <a:pt x="15875" y="7094"/>
                </a:cubicBezTo>
                <a:cubicBezTo>
                  <a:pt x="15857" y="7192"/>
                  <a:pt x="15849" y="7194"/>
                  <a:pt x="15776" y="7268"/>
                </a:cubicBezTo>
                <a:cubicBezTo>
                  <a:pt x="15815" y="7268"/>
                  <a:pt x="15909" y="7237"/>
                  <a:pt x="15900" y="7293"/>
                </a:cubicBezTo>
                <a:cubicBezTo>
                  <a:pt x="15889" y="7363"/>
                  <a:pt x="15745" y="7469"/>
                  <a:pt x="15677" y="7417"/>
                </a:cubicBezTo>
                <a:cubicBezTo>
                  <a:pt x="15677" y="7400"/>
                  <a:pt x="15677" y="7384"/>
                  <a:pt x="15677" y="7367"/>
                </a:cubicBezTo>
              </a:path>
              <a:path w="3944" h="2630">
                <a:moveTo>
                  <a:pt x="16024" y="7119"/>
                </a:moveTo>
                <a:cubicBezTo>
                  <a:pt x="16068" y="7145"/>
                  <a:pt x="16163" y="7246"/>
                  <a:pt x="16197" y="7293"/>
                </a:cubicBezTo>
                <a:cubicBezTo>
                  <a:pt x="16197" y="7301"/>
                  <a:pt x="16197" y="7309"/>
                  <a:pt x="16197" y="7317"/>
                </a:cubicBezTo>
              </a:path>
              <a:path w="3944" h="2630">
                <a:moveTo>
                  <a:pt x="16197" y="7169"/>
                </a:moveTo>
                <a:cubicBezTo>
                  <a:pt x="16154" y="7234"/>
                  <a:pt x="16010" y="7390"/>
                  <a:pt x="16123" y="7367"/>
                </a:cubicBezTo>
              </a:path>
              <a:path w="3944" h="2630">
                <a:moveTo>
                  <a:pt x="16421" y="7119"/>
                </a:moveTo>
                <a:cubicBezTo>
                  <a:pt x="16439" y="7174"/>
                  <a:pt x="16495" y="7147"/>
                  <a:pt x="16545" y="7193"/>
                </a:cubicBezTo>
                <a:cubicBezTo>
                  <a:pt x="16594" y="7238"/>
                  <a:pt x="16577" y="7367"/>
                  <a:pt x="16495" y="7367"/>
                </a:cubicBezTo>
                <a:cubicBezTo>
                  <a:pt x="16470" y="7359"/>
                  <a:pt x="16446" y="7350"/>
                  <a:pt x="16421" y="7342"/>
                </a:cubicBezTo>
              </a:path>
              <a:path w="3944" h="2630">
                <a:moveTo>
                  <a:pt x="16545" y="7094"/>
                </a:moveTo>
                <a:cubicBezTo>
                  <a:pt x="16622" y="7074"/>
                  <a:pt x="16691" y="7053"/>
                  <a:pt x="16768" y="7045"/>
                </a:cubicBezTo>
                <a:cubicBezTo>
                  <a:pt x="16753" y="7132"/>
                  <a:pt x="16685" y="7231"/>
                  <a:pt x="16743" y="7317"/>
                </a:cubicBezTo>
                <a:cubicBezTo>
                  <a:pt x="16823" y="7437"/>
                  <a:pt x="16966" y="7288"/>
                  <a:pt x="16966" y="7193"/>
                </a:cubicBezTo>
                <a:cubicBezTo>
                  <a:pt x="16966" y="7113"/>
                  <a:pt x="16884" y="7075"/>
                  <a:pt x="16842" y="7020"/>
                </a:cubicBezTo>
              </a:path>
              <a:path w="3944" h="2630">
                <a:moveTo>
                  <a:pt x="15751" y="6846"/>
                </a:moveTo>
                <a:cubicBezTo>
                  <a:pt x="15664" y="7027"/>
                  <a:pt x="15489" y="7203"/>
                  <a:pt x="15429" y="7392"/>
                </a:cubicBezTo>
                <a:cubicBezTo>
                  <a:pt x="15373" y="7570"/>
                  <a:pt x="15627" y="7546"/>
                  <a:pt x="15726" y="7565"/>
                </a:cubicBezTo>
              </a:path>
              <a:path w="3944" h="2630">
                <a:moveTo>
                  <a:pt x="17363" y="6970"/>
                </a:moveTo>
                <a:cubicBezTo>
                  <a:pt x="17373" y="7071"/>
                  <a:pt x="17388" y="7165"/>
                  <a:pt x="17388" y="7268"/>
                </a:cubicBezTo>
              </a:path>
              <a:path w="3944" h="2630">
                <a:moveTo>
                  <a:pt x="17835" y="6896"/>
                </a:moveTo>
                <a:cubicBezTo>
                  <a:pt x="17777" y="7045"/>
                  <a:pt x="17719" y="7153"/>
                  <a:pt x="17760" y="7317"/>
                </a:cubicBezTo>
                <a:cubicBezTo>
                  <a:pt x="17791" y="7380"/>
                  <a:pt x="17814" y="7397"/>
                  <a:pt x="17884" y="7367"/>
                </a:cubicBezTo>
              </a:path>
              <a:path w="3944" h="2630">
                <a:moveTo>
                  <a:pt x="18132" y="6970"/>
                </a:moveTo>
                <a:cubicBezTo>
                  <a:pt x="18161" y="6970"/>
                  <a:pt x="18296" y="6952"/>
                  <a:pt x="18306" y="6995"/>
                </a:cubicBezTo>
                <a:cubicBezTo>
                  <a:pt x="18321" y="7062"/>
                  <a:pt x="18217" y="7063"/>
                  <a:pt x="18182" y="7069"/>
                </a:cubicBezTo>
                <a:cubicBezTo>
                  <a:pt x="18231" y="7077"/>
                  <a:pt x="18401" y="7122"/>
                  <a:pt x="18331" y="7218"/>
                </a:cubicBezTo>
                <a:cubicBezTo>
                  <a:pt x="18295" y="7267"/>
                  <a:pt x="18159" y="7269"/>
                  <a:pt x="18107" y="7243"/>
                </a:cubicBezTo>
              </a:path>
              <a:path w="3944" h="2630">
                <a:moveTo>
                  <a:pt x="18529" y="6995"/>
                </a:moveTo>
                <a:cubicBezTo>
                  <a:pt x="18592" y="7051"/>
                  <a:pt x="18661" y="7153"/>
                  <a:pt x="18728" y="7193"/>
                </a:cubicBezTo>
                <a:cubicBezTo>
                  <a:pt x="18736" y="7193"/>
                  <a:pt x="18744" y="7193"/>
                  <a:pt x="18752" y="7193"/>
                </a:cubicBezTo>
              </a:path>
              <a:path w="3944" h="2630">
                <a:moveTo>
                  <a:pt x="18728" y="7020"/>
                </a:moveTo>
                <a:cubicBezTo>
                  <a:pt x="18689" y="7079"/>
                  <a:pt x="18593" y="7182"/>
                  <a:pt x="18628" y="7218"/>
                </a:cubicBezTo>
              </a:path>
              <a:path w="3944" h="2630">
                <a:moveTo>
                  <a:pt x="18976" y="6896"/>
                </a:moveTo>
                <a:cubicBezTo>
                  <a:pt x="19042" y="6896"/>
                  <a:pt x="19092" y="6889"/>
                  <a:pt x="19124" y="6921"/>
                </a:cubicBezTo>
                <a:cubicBezTo>
                  <a:pt x="19104" y="7010"/>
                  <a:pt x="19061" y="7071"/>
                  <a:pt x="19000" y="7144"/>
                </a:cubicBezTo>
                <a:cubicBezTo>
                  <a:pt x="19130" y="7144"/>
                  <a:pt x="19246" y="7122"/>
                  <a:pt x="19372" y="7094"/>
                </a:cubicBezTo>
              </a:path>
              <a:path w="3944" h="2630">
                <a:moveTo>
                  <a:pt x="18479" y="7565"/>
                </a:moveTo>
                <a:cubicBezTo>
                  <a:pt x="18468" y="7659"/>
                  <a:pt x="18401" y="7796"/>
                  <a:pt x="18405" y="7888"/>
                </a:cubicBezTo>
                <a:cubicBezTo>
                  <a:pt x="18413" y="7905"/>
                  <a:pt x="18422" y="7921"/>
                  <a:pt x="18430" y="7938"/>
                </a:cubicBezTo>
                <a:cubicBezTo>
                  <a:pt x="18543" y="7958"/>
                  <a:pt x="18665" y="7956"/>
                  <a:pt x="18728" y="7838"/>
                </a:cubicBezTo>
                <a:cubicBezTo>
                  <a:pt x="18728" y="7830"/>
                  <a:pt x="18728" y="7821"/>
                  <a:pt x="18728" y="7813"/>
                </a:cubicBezTo>
                <a:cubicBezTo>
                  <a:pt x="18618" y="7825"/>
                  <a:pt x="18584" y="7858"/>
                  <a:pt x="18504" y="7938"/>
                </a:cubicBezTo>
              </a:path>
              <a:path w="3944" h="2630">
                <a:moveTo>
                  <a:pt x="17636" y="7739"/>
                </a:moveTo>
                <a:cubicBezTo>
                  <a:pt x="17660" y="7835"/>
                  <a:pt x="17661" y="7911"/>
                  <a:pt x="17661" y="8012"/>
                </a:cubicBezTo>
              </a:path>
              <a:path w="3944" h="2630">
                <a:moveTo>
                  <a:pt x="17512" y="7863"/>
                </a:moveTo>
                <a:cubicBezTo>
                  <a:pt x="17624" y="7846"/>
                  <a:pt x="17722" y="7838"/>
                  <a:pt x="17835" y="7838"/>
                </a:cubicBezTo>
              </a:path>
              <a:path w="3944" h="2630">
                <a:moveTo>
                  <a:pt x="16148" y="7938"/>
                </a:moveTo>
                <a:cubicBezTo>
                  <a:pt x="16148" y="7861"/>
                  <a:pt x="16123" y="8109"/>
                  <a:pt x="16123" y="8111"/>
                </a:cubicBezTo>
                <a:cubicBezTo>
                  <a:pt x="16114" y="8161"/>
                  <a:pt x="16098" y="8261"/>
                  <a:pt x="16098" y="8210"/>
                </a:cubicBezTo>
              </a:path>
              <a:path w="3944" h="2630">
                <a:moveTo>
                  <a:pt x="16421" y="7789"/>
                </a:moveTo>
                <a:cubicBezTo>
                  <a:pt x="16351" y="7800"/>
                  <a:pt x="16321" y="7792"/>
                  <a:pt x="16321" y="7863"/>
                </a:cubicBezTo>
                <a:cubicBezTo>
                  <a:pt x="16321" y="7896"/>
                  <a:pt x="16318" y="7969"/>
                  <a:pt x="16371" y="7962"/>
                </a:cubicBezTo>
                <a:cubicBezTo>
                  <a:pt x="16401" y="7958"/>
                  <a:pt x="16573" y="7936"/>
                  <a:pt x="16545" y="8037"/>
                </a:cubicBezTo>
                <a:cubicBezTo>
                  <a:pt x="16520" y="8128"/>
                  <a:pt x="16451" y="8161"/>
                  <a:pt x="16371" y="8161"/>
                </a:cubicBezTo>
                <a:cubicBezTo>
                  <a:pt x="16371" y="8091"/>
                  <a:pt x="16380" y="8056"/>
                  <a:pt x="16421" y="8012"/>
                </a:cubicBezTo>
              </a:path>
              <a:path w="3944" h="2630">
                <a:moveTo>
                  <a:pt x="16718" y="7764"/>
                </a:moveTo>
                <a:cubicBezTo>
                  <a:pt x="16661" y="7871"/>
                  <a:pt x="16651" y="7895"/>
                  <a:pt x="16669" y="8012"/>
                </a:cubicBezTo>
                <a:cubicBezTo>
                  <a:pt x="16799" y="8042"/>
                  <a:pt x="16932" y="8072"/>
                  <a:pt x="16917" y="7888"/>
                </a:cubicBezTo>
                <a:cubicBezTo>
                  <a:pt x="16907" y="7765"/>
                  <a:pt x="16785" y="7809"/>
                  <a:pt x="16718" y="7813"/>
                </a:cubicBezTo>
              </a:path>
              <a:path w="3944" h="2630">
                <a:moveTo>
                  <a:pt x="17388" y="8359"/>
                </a:moveTo>
                <a:cubicBezTo>
                  <a:pt x="17388" y="8455"/>
                  <a:pt x="17403" y="8552"/>
                  <a:pt x="17363" y="8632"/>
                </a:cubicBezTo>
              </a:path>
              <a:path w="3944" h="2630">
                <a:moveTo>
                  <a:pt x="17735" y="8310"/>
                </a:moveTo>
                <a:cubicBezTo>
                  <a:pt x="17683" y="8310"/>
                  <a:pt x="17625" y="8292"/>
                  <a:pt x="17611" y="8334"/>
                </a:cubicBezTo>
                <a:cubicBezTo>
                  <a:pt x="17589" y="8401"/>
                  <a:pt x="17585" y="8419"/>
                  <a:pt x="17562" y="8458"/>
                </a:cubicBezTo>
                <a:cubicBezTo>
                  <a:pt x="17635" y="8458"/>
                  <a:pt x="17748" y="8436"/>
                  <a:pt x="17810" y="8483"/>
                </a:cubicBezTo>
                <a:cubicBezTo>
                  <a:pt x="17835" y="8533"/>
                  <a:pt x="17843" y="8549"/>
                  <a:pt x="17859" y="8582"/>
                </a:cubicBezTo>
                <a:cubicBezTo>
                  <a:pt x="17810" y="8626"/>
                  <a:pt x="17645" y="8735"/>
                  <a:pt x="17587" y="8632"/>
                </a:cubicBezTo>
                <a:cubicBezTo>
                  <a:pt x="17587" y="8599"/>
                  <a:pt x="17587" y="8566"/>
                  <a:pt x="17587" y="8533"/>
                </a:cubicBezTo>
              </a:path>
              <a:path w="3944" h="2630">
                <a:moveTo>
                  <a:pt x="18058" y="8310"/>
                </a:moveTo>
                <a:cubicBezTo>
                  <a:pt x="18043" y="8383"/>
                  <a:pt x="18006" y="8479"/>
                  <a:pt x="18033" y="8558"/>
                </a:cubicBezTo>
                <a:cubicBezTo>
                  <a:pt x="18071" y="8673"/>
                  <a:pt x="18208" y="8651"/>
                  <a:pt x="18281" y="8582"/>
                </a:cubicBezTo>
                <a:cubicBezTo>
                  <a:pt x="18298" y="8557"/>
                  <a:pt x="18314" y="8533"/>
                  <a:pt x="18331" y="8508"/>
                </a:cubicBezTo>
                <a:cubicBezTo>
                  <a:pt x="18206" y="8544"/>
                  <a:pt x="18159" y="8605"/>
                  <a:pt x="18083" y="8706"/>
                </a:cubicBezTo>
              </a:path>
              <a:path w="3944" h="2630">
                <a:moveTo>
                  <a:pt x="17140" y="8781"/>
                </a:moveTo>
                <a:cubicBezTo>
                  <a:pt x="17387" y="8781"/>
                  <a:pt x="17640" y="8812"/>
                  <a:pt x="17884" y="8806"/>
                </a:cubicBezTo>
                <a:cubicBezTo>
                  <a:pt x="18135" y="8800"/>
                  <a:pt x="18450" y="8773"/>
                  <a:pt x="18653" y="8607"/>
                </a:cubicBezTo>
                <a:cubicBezTo>
                  <a:pt x="18670" y="8582"/>
                  <a:pt x="18686" y="8558"/>
                  <a:pt x="18703" y="8533"/>
                </a:cubicBezTo>
                <a:cubicBezTo>
                  <a:pt x="18660" y="8304"/>
                  <a:pt x="18521" y="8240"/>
                  <a:pt x="18306" y="8136"/>
                </a:cubicBezTo>
                <a:cubicBezTo>
                  <a:pt x="18017" y="7997"/>
                  <a:pt x="17751" y="8024"/>
                  <a:pt x="17462" y="8161"/>
                </a:cubicBezTo>
                <a:cubicBezTo>
                  <a:pt x="17154" y="8307"/>
                  <a:pt x="16966" y="8439"/>
                  <a:pt x="16917" y="8756"/>
                </a:cubicBezTo>
                <a:cubicBezTo>
                  <a:pt x="17112" y="8867"/>
                  <a:pt x="17194" y="8903"/>
                  <a:pt x="17363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0" y="3795840"/>
            <a:ext cx="1249200" cy="1017360"/>
          </a:xfrm>
          <a:custGeom>
            <a:avLst/>
            <a:gdLst/>
            <a:ahLst/>
            <a:rect l="l" t="t" r="r" b="b"/>
            <a:pathLst>
              <a:path w="3474" h="2829">
                <a:moveTo>
                  <a:pt x="16321" y="10864"/>
                </a:moveTo>
                <a:cubicBezTo>
                  <a:pt x="16329" y="10864"/>
                  <a:pt x="16338" y="10864"/>
                  <a:pt x="16346" y="10864"/>
                </a:cubicBezTo>
                <a:cubicBezTo>
                  <a:pt x="16303" y="10856"/>
                  <a:pt x="16262" y="10869"/>
                  <a:pt x="16247" y="10914"/>
                </a:cubicBezTo>
                <a:cubicBezTo>
                  <a:pt x="16227" y="10974"/>
                  <a:pt x="16228" y="10989"/>
                  <a:pt x="16197" y="11013"/>
                </a:cubicBezTo>
                <a:cubicBezTo>
                  <a:pt x="16293" y="11013"/>
                  <a:pt x="16380" y="11011"/>
                  <a:pt x="16470" y="11038"/>
                </a:cubicBezTo>
                <a:cubicBezTo>
                  <a:pt x="16461" y="11144"/>
                  <a:pt x="16460" y="11253"/>
                  <a:pt x="16321" y="11237"/>
                </a:cubicBezTo>
                <a:cubicBezTo>
                  <a:pt x="16254" y="11214"/>
                  <a:pt x="16233" y="11213"/>
                  <a:pt x="16222" y="11162"/>
                </a:cubicBezTo>
              </a:path>
              <a:path w="3474" h="2829">
                <a:moveTo>
                  <a:pt x="16694" y="10939"/>
                </a:moveTo>
                <a:cubicBezTo>
                  <a:pt x="16721" y="10976"/>
                  <a:pt x="16821" y="11157"/>
                  <a:pt x="16842" y="11112"/>
                </a:cubicBezTo>
              </a:path>
              <a:path w="3474" h="2829">
                <a:moveTo>
                  <a:pt x="16768" y="10939"/>
                </a:moveTo>
                <a:cubicBezTo>
                  <a:pt x="16765" y="10946"/>
                  <a:pt x="16669" y="11206"/>
                  <a:pt x="16669" y="11137"/>
                </a:cubicBezTo>
              </a:path>
              <a:path w="3474" h="2829">
                <a:moveTo>
                  <a:pt x="17165" y="10740"/>
                </a:moveTo>
                <a:cubicBezTo>
                  <a:pt x="17261" y="10756"/>
                  <a:pt x="17379" y="10815"/>
                  <a:pt x="17363" y="10939"/>
                </a:cubicBezTo>
                <a:cubicBezTo>
                  <a:pt x="17350" y="11038"/>
                  <a:pt x="17203" y="11109"/>
                  <a:pt x="17140" y="11013"/>
                </a:cubicBezTo>
                <a:cubicBezTo>
                  <a:pt x="17140" y="11005"/>
                  <a:pt x="17140" y="10996"/>
                  <a:pt x="17140" y="10988"/>
                </a:cubicBezTo>
                <a:cubicBezTo>
                  <a:pt x="17236" y="10942"/>
                  <a:pt x="17231" y="11005"/>
                  <a:pt x="17314" y="11013"/>
                </a:cubicBezTo>
                <a:cubicBezTo>
                  <a:pt x="17339" y="11013"/>
                  <a:pt x="17363" y="11013"/>
                  <a:pt x="17388" y="11013"/>
                </a:cubicBezTo>
              </a:path>
              <a:path w="3474" h="2829">
                <a:moveTo>
                  <a:pt x="17686" y="10740"/>
                </a:moveTo>
                <a:cubicBezTo>
                  <a:pt x="17572" y="10826"/>
                  <a:pt x="17495" y="10881"/>
                  <a:pt x="17462" y="11013"/>
                </a:cubicBezTo>
                <a:cubicBezTo>
                  <a:pt x="17606" y="11032"/>
                  <a:pt x="17779" y="11042"/>
                  <a:pt x="17859" y="10889"/>
                </a:cubicBezTo>
                <a:cubicBezTo>
                  <a:pt x="17906" y="10800"/>
                  <a:pt x="17761" y="10790"/>
                  <a:pt x="17711" y="10790"/>
                </a:cubicBezTo>
              </a:path>
              <a:path w="3474" h="2829">
                <a:moveTo>
                  <a:pt x="18504" y="10914"/>
                </a:moveTo>
                <a:cubicBezTo>
                  <a:pt x="18625" y="10914"/>
                  <a:pt x="18735" y="10914"/>
                  <a:pt x="18852" y="10889"/>
                </a:cubicBezTo>
              </a:path>
              <a:path w="3474" h="2829">
                <a:moveTo>
                  <a:pt x="19000" y="10840"/>
                </a:moveTo>
                <a:cubicBezTo>
                  <a:pt x="19030" y="10889"/>
                  <a:pt x="19022" y="10961"/>
                  <a:pt x="19050" y="11013"/>
                </a:cubicBezTo>
                <a:cubicBezTo>
                  <a:pt x="19073" y="11036"/>
                  <a:pt x="19077" y="11044"/>
                  <a:pt x="19100" y="11038"/>
                </a:cubicBezTo>
              </a:path>
              <a:path w="3474" h="2829">
                <a:moveTo>
                  <a:pt x="19298" y="10790"/>
                </a:moveTo>
                <a:cubicBezTo>
                  <a:pt x="19298" y="10885"/>
                  <a:pt x="19314" y="10970"/>
                  <a:pt x="19323" y="11063"/>
                </a:cubicBezTo>
              </a:path>
              <a:path w="3474" h="2829">
                <a:moveTo>
                  <a:pt x="17190" y="10567"/>
                </a:moveTo>
                <a:cubicBezTo>
                  <a:pt x="17033" y="10528"/>
                  <a:pt x="17019" y="10688"/>
                  <a:pt x="16966" y="10815"/>
                </a:cubicBezTo>
                <a:cubicBezTo>
                  <a:pt x="16850" y="11092"/>
                  <a:pt x="16836" y="11246"/>
                  <a:pt x="17090" y="11361"/>
                </a:cubicBezTo>
              </a:path>
              <a:path w="3474" h="2829">
                <a:moveTo>
                  <a:pt x="16371" y="11534"/>
                </a:moveTo>
                <a:cubicBezTo>
                  <a:pt x="16305" y="11512"/>
                  <a:pt x="16281" y="11539"/>
                  <a:pt x="16222" y="11559"/>
                </a:cubicBezTo>
                <a:cubicBezTo>
                  <a:pt x="16214" y="11559"/>
                  <a:pt x="16205" y="11559"/>
                  <a:pt x="16197" y="11559"/>
                </a:cubicBezTo>
                <a:cubicBezTo>
                  <a:pt x="16229" y="11602"/>
                  <a:pt x="16255" y="11640"/>
                  <a:pt x="16297" y="11683"/>
                </a:cubicBezTo>
                <a:cubicBezTo>
                  <a:pt x="16352" y="11739"/>
                  <a:pt x="16300" y="11776"/>
                  <a:pt x="16247" y="11807"/>
                </a:cubicBezTo>
                <a:cubicBezTo>
                  <a:pt x="16189" y="11841"/>
                  <a:pt x="16147" y="11844"/>
                  <a:pt x="16098" y="11807"/>
                </a:cubicBezTo>
              </a:path>
              <a:path w="3474" h="2829">
                <a:moveTo>
                  <a:pt x="16867" y="11509"/>
                </a:moveTo>
                <a:cubicBezTo>
                  <a:pt x="16949" y="11516"/>
                  <a:pt x="17091" y="11525"/>
                  <a:pt x="17041" y="11658"/>
                </a:cubicBezTo>
                <a:cubicBezTo>
                  <a:pt x="16999" y="11770"/>
                  <a:pt x="16884" y="11777"/>
                  <a:pt x="16793" y="11757"/>
                </a:cubicBezTo>
                <a:cubicBezTo>
                  <a:pt x="16861" y="11707"/>
                  <a:pt x="16913" y="11768"/>
                  <a:pt x="16991" y="11782"/>
                </a:cubicBezTo>
                <a:cubicBezTo>
                  <a:pt x="17049" y="11782"/>
                  <a:pt x="17074" y="11782"/>
                  <a:pt x="17115" y="11782"/>
                </a:cubicBezTo>
              </a:path>
              <a:path w="3474" h="2829">
                <a:moveTo>
                  <a:pt x="17264" y="11485"/>
                </a:moveTo>
                <a:cubicBezTo>
                  <a:pt x="17205" y="11572"/>
                  <a:pt x="17181" y="11609"/>
                  <a:pt x="17165" y="11708"/>
                </a:cubicBezTo>
                <a:cubicBezTo>
                  <a:pt x="17228" y="11727"/>
                  <a:pt x="17440" y="11775"/>
                  <a:pt x="17462" y="11658"/>
                </a:cubicBezTo>
                <a:cubicBezTo>
                  <a:pt x="17492" y="11498"/>
                  <a:pt x="17318" y="11565"/>
                  <a:pt x="17314" y="11509"/>
                </a:cubicBezTo>
                <a:cubicBezTo>
                  <a:pt x="17322" y="11509"/>
                  <a:pt x="17330" y="11509"/>
                  <a:pt x="17338" y="11509"/>
                </a:cubicBezTo>
              </a:path>
              <a:path w="3474" h="2829">
                <a:moveTo>
                  <a:pt x="17562" y="11410"/>
                </a:moveTo>
                <a:cubicBezTo>
                  <a:pt x="17545" y="11501"/>
                  <a:pt x="17483" y="11692"/>
                  <a:pt x="17611" y="11733"/>
                </a:cubicBezTo>
                <a:cubicBezTo>
                  <a:pt x="17721" y="11768"/>
                  <a:pt x="17747" y="11679"/>
                  <a:pt x="17785" y="11609"/>
                </a:cubicBezTo>
                <a:cubicBezTo>
                  <a:pt x="17725" y="11509"/>
                  <a:pt x="17706" y="11515"/>
                  <a:pt x="17587" y="11460"/>
                </a:cubicBezTo>
              </a:path>
              <a:path w="3474" h="2829">
                <a:moveTo>
                  <a:pt x="16321" y="11981"/>
                </a:moveTo>
                <a:cubicBezTo>
                  <a:pt x="16287" y="12015"/>
                  <a:pt x="16258" y="12036"/>
                  <a:pt x="16247" y="12080"/>
                </a:cubicBezTo>
                <a:cubicBezTo>
                  <a:pt x="16416" y="12056"/>
                  <a:pt x="16541" y="12010"/>
                  <a:pt x="16718" y="12005"/>
                </a:cubicBezTo>
                <a:cubicBezTo>
                  <a:pt x="16912" y="12000"/>
                  <a:pt x="17098" y="12006"/>
                  <a:pt x="17289" y="12030"/>
                </a:cubicBezTo>
                <a:cubicBezTo>
                  <a:pt x="17278" y="11987"/>
                  <a:pt x="17211" y="11928"/>
                  <a:pt x="17214" y="11881"/>
                </a:cubicBezTo>
                <a:cubicBezTo>
                  <a:pt x="17222" y="11865"/>
                  <a:pt x="17231" y="11848"/>
                  <a:pt x="17239" y="11832"/>
                </a:cubicBezTo>
              </a:path>
              <a:path w="3474" h="2829">
                <a:moveTo>
                  <a:pt x="16421" y="12303"/>
                </a:moveTo>
                <a:cubicBezTo>
                  <a:pt x="16364" y="12388"/>
                  <a:pt x="16341" y="12499"/>
                  <a:pt x="16321" y="12601"/>
                </a:cubicBezTo>
                <a:cubicBezTo>
                  <a:pt x="16321" y="12609"/>
                  <a:pt x="16321" y="12618"/>
                  <a:pt x="16321" y="12626"/>
                </a:cubicBezTo>
              </a:path>
              <a:path w="3474" h="2829">
                <a:moveTo>
                  <a:pt x="16570" y="12303"/>
                </a:moveTo>
                <a:cubicBezTo>
                  <a:pt x="16484" y="12338"/>
                  <a:pt x="16412" y="12422"/>
                  <a:pt x="16421" y="12526"/>
                </a:cubicBezTo>
                <a:cubicBezTo>
                  <a:pt x="16429" y="12543"/>
                  <a:pt x="16438" y="12559"/>
                  <a:pt x="16446" y="12576"/>
                </a:cubicBezTo>
                <a:cubicBezTo>
                  <a:pt x="16553" y="12565"/>
                  <a:pt x="16669" y="12542"/>
                  <a:pt x="16669" y="12402"/>
                </a:cubicBezTo>
                <a:cubicBezTo>
                  <a:pt x="16644" y="12329"/>
                  <a:pt x="16637" y="12305"/>
                  <a:pt x="16570" y="12328"/>
                </a:cubicBezTo>
              </a:path>
              <a:path w="3474" h="2829">
                <a:moveTo>
                  <a:pt x="16991" y="12328"/>
                </a:moveTo>
                <a:cubicBezTo>
                  <a:pt x="16919" y="12328"/>
                  <a:pt x="16904" y="12388"/>
                  <a:pt x="16867" y="12452"/>
                </a:cubicBezTo>
                <a:cubicBezTo>
                  <a:pt x="16859" y="12469"/>
                  <a:pt x="16850" y="12485"/>
                  <a:pt x="16842" y="12502"/>
                </a:cubicBezTo>
                <a:cubicBezTo>
                  <a:pt x="16920" y="12502"/>
                  <a:pt x="17030" y="12493"/>
                  <a:pt x="17066" y="12402"/>
                </a:cubicBezTo>
                <a:cubicBezTo>
                  <a:pt x="17108" y="12296"/>
                  <a:pt x="17023" y="12328"/>
                  <a:pt x="16966" y="12328"/>
                </a:cubicBezTo>
              </a:path>
              <a:path w="3474" h="2829">
                <a:moveTo>
                  <a:pt x="17239" y="12278"/>
                </a:moveTo>
                <a:cubicBezTo>
                  <a:pt x="17225" y="12320"/>
                  <a:pt x="17153" y="12350"/>
                  <a:pt x="17165" y="12427"/>
                </a:cubicBezTo>
                <a:cubicBezTo>
                  <a:pt x="17173" y="12444"/>
                  <a:pt x="17182" y="12460"/>
                  <a:pt x="17190" y="12477"/>
                </a:cubicBezTo>
                <a:cubicBezTo>
                  <a:pt x="17318" y="12437"/>
                  <a:pt x="17343" y="12432"/>
                  <a:pt x="17413" y="12328"/>
                </a:cubicBezTo>
                <a:cubicBezTo>
                  <a:pt x="17367" y="12291"/>
                  <a:pt x="17311" y="12274"/>
                  <a:pt x="17289" y="12229"/>
                </a:cubicBezTo>
              </a:path>
              <a:path w="3474" h="2829">
                <a:moveTo>
                  <a:pt x="18281" y="11485"/>
                </a:moveTo>
                <a:cubicBezTo>
                  <a:pt x="18258" y="11462"/>
                  <a:pt x="18250" y="11458"/>
                  <a:pt x="18256" y="11435"/>
                </a:cubicBezTo>
                <a:cubicBezTo>
                  <a:pt x="18256" y="11499"/>
                  <a:pt x="18256" y="11761"/>
                  <a:pt x="18256" y="11733"/>
                </a:cubicBezTo>
              </a:path>
              <a:path w="3474" h="2829">
                <a:moveTo>
                  <a:pt x="17462" y="12824"/>
                </a:moveTo>
                <a:cubicBezTo>
                  <a:pt x="17475" y="12951"/>
                  <a:pt x="17482" y="13045"/>
                  <a:pt x="17462" y="13171"/>
                </a:cubicBezTo>
                <a:cubicBezTo>
                  <a:pt x="17462" y="13179"/>
                  <a:pt x="17462" y="13188"/>
                  <a:pt x="17462" y="13196"/>
                </a:cubicBezTo>
              </a:path>
              <a:path w="3474" h="2829">
                <a:moveTo>
                  <a:pt x="17785" y="13097"/>
                </a:moveTo>
                <a:cubicBezTo>
                  <a:pt x="17785" y="13165"/>
                  <a:pt x="17805" y="13266"/>
                  <a:pt x="17760" y="13295"/>
                </a:cubicBezTo>
              </a:path>
              <a:path w="3474" h="2829">
                <a:moveTo>
                  <a:pt x="18008" y="12874"/>
                </a:moveTo>
                <a:cubicBezTo>
                  <a:pt x="17910" y="12959"/>
                  <a:pt x="17874" y="13025"/>
                  <a:pt x="17884" y="13146"/>
                </a:cubicBezTo>
                <a:cubicBezTo>
                  <a:pt x="17997" y="13138"/>
                  <a:pt x="18150" y="13128"/>
                  <a:pt x="18157" y="12973"/>
                </a:cubicBezTo>
                <a:cubicBezTo>
                  <a:pt x="18160" y="12899"/>
                  <a:pt x="18078" y="12885"/>
                  <a:pt x="18033" y="12874"/>
                </a:cubicBezTo>
              </a:path>
              <a:path w="3474" h="2829">
                <a:moveTo>
                  <a:pt x="18455" y="12799"/>
                </a:moveTo>
                <a:cubicBezTo>
                  <a:pt x="18380" y="12799"/>
                  <a:pt x="18401" y="12793"/>
                  <a:pt x="18355" y="12849"/>
                </a:cubicBezTo>
                <a:cubicBezTo>
                  <a:pt x="18355" y="12928"/>
                  <a:pt x="18425" y="12901"/>
                  <a:pt x="18504" y="12923"/>
                </a:cubicBezTo>
                <a:cubicBezTo>
                  <a:pt x="18633" y="12959"/>
                  <a:pt x="18592" y="13074"/>
                  <a:pt x="18479" y="13097"/>
                </a:cubicBezTo>
                <a:cubicBezTo>
                  <a:pt x="18366" y="13120"/>
                  <a:pt x="18371" y="13079"/>
                  <a:pt x="18355" y="12998"/>
                </a:cubicBezTo>
              </a:path>
              <a:path w="3474" h="2829">
                <a:moveTo>
                  <a:pt x="18802" y="12774"/>
                </a:moveTo>
                <a:cubicBezTo>
                  <a:pt x="18736" y="12774"/>
                  <a:pt x="18703" y="12807"/>
                  <a:pt x="18653" y="12849"/>
                </a:cubicBezTo>
                <a:cubicBezTo>
                  <a:pt x="18738" y="12849"/>
                  <a:pt x="18795" y="12848"/>
                  <a:pt x="18852" y="12923"/>
                </a:cubicBezTo>
                <a:cubicBezTo>
                  <a:pt x="18896" y="12981"/>
                  <a:pt x="18879" y="13087"/>
                  <a:pt x="18777" y="13047"/>
                </a:cubicBezTo>
                <a:cubicBezTo>
                  <a:pt x="18761" y="13031"/>
                  <a:pt x="18744" y="13014"/>
                  <a:pt x="18728" y="12998"/>
                </a:cubicBezTo>
              </a:path>
              <a:path w="3474" h="2829">
                <a:moveTo>
                  <a:pt x="18827" y="12725"/>
                </a:moveTo>
                <a:cubicBezTo>
                  <a:pt x="18909" y="12708"/>
                  <a:pt x="18967" y="12700"/>
                  <a:pt x="19050" y="12700"/>
                </a:cubicBezTo>
              </a:path>
              <a:path w="3474" h="2829">
                <a:moveTo>
                  <a:pt x="17140" y="13370"/>
                </a:moveTo>
                <a:cubicBezTo>
                  <a:pt x="17565" y="13370"/>
                  <a:pt x="17960" y="13357"/>
                  <a:pt x="18380" y="13295"/>
                </a:cubicBezTo>
                <a:cubicBezTo>
                  <a:pt x="18706" y="13247"/>
                  <a:pt x="19100" y="13216"/>
                  <a:pt x="19397" y="13047"/>
                </a:cubicBezTo>
                <a:cubicBezTo>
                  <a:pt x="19540" y="12965"/>
                  <a:pt x="19550" y="12893"/>
                  <a:pt x="19571" y="12750"/>
                </a:cubicBezTo>
                <a:cubicBezTo>
                  <a:pt x="19436" y="12601"/>
                  <a:pt x="19268" y="12566"/>
                  <a:pt x="19075" y="12502"/>
                </a:cubicBezTo>
                <a:cubicBezTo>
                  <a:pt x="18692" y="12376"/>
                  <a:pt x="18431" y="12356"/>
                  <a:pt x="18033" y="12452"/>
                </a:cubicBezTo>
                <a:cubicBezTo>
                  <a:pt x="17663" y="12541"/>
                  <a:pt x="17178" y="12673"/>
                  <a:pt x="16991" y="13047"/>
                </a:cubicBezTo>
                <a:cubicBezTo>
                  <a:pt x="16874" y="13280"/>
                  <a:pt x="17040" y="13313"/>
                  <a:pt x="17190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02200" y="5392800"/>
            <a:ext cx="1152720" cy="679320"/>
          </a:xfrm>
          <a:custGeom>
            <a:avLst/>
            <a:gdLst/>
            <a:ahLst/>
            <a:rect l="l" t="t" r="r" b="b"/>
            <a:pathLst>
              <a:path w="3201" h="1886">
                <a:moveTo>
                  <a:pt x="16718" y="15205"/>
                </a:moveTo>
                <a:cubicBezTo>
                  <a:pt x="16696" y="15138"/>
                  <a:pt x="16559" y="15155"/>
                  <a:pt x="16495" y="15180"/>
                </a:cubicBezTo>
                <a:cubicBezTo>
                  <a:pt x="16424" y="15228"/>
                  <a:pt x="16401" y="15241"/>
                  <a:pt x="16396" y="15304"/>
                </a:cubicBezTo>
                <a:cubicBezTo>
                  <a:pt x="16514" y="15363"/>
                  <a:pt x="16559" y="15317"/>
                  <a:pt x="16669" y="15255"/>
                </a:cubicBezTo>
                <a:cubicBezTo>
                  <a:pt x="16685" y="15247"/>
                  <a:pt x="16702" y="15238"/>
                  <a:pt x="16718" y="15230"/>
                </a:cubicBezTo>
                <a:cubicBezTo>
                  <a:pt x="16718" y="15262"/>
                  <a:pt x="16706" y="15526"/>
                  <a:pt x="16743" y="15503"/>
                </a:cubicBezTo>
                <a:cubicBezTo>
                  <a:pt x="16760" y="15486"/>
                  <a:pt x="16776" y="15470"/>
                  <a:pt x="16793" y="15453"/>
                </a:cubicBezTo>
              </a:path>
              <a:path w="3201" h="1886">
                <a:moveTo>
                  <a:pt x="17016" y="15180"/>
                </a:moveTo>
                <a:cubicBezTo>
                  <a:pt x="17016" y="15279"/>
                  <a:pt x="17057" y="15349"/>
                  <a:pt x="17115" y="15429"/>
                </a:cubicBezTo>
                <a:cubicBezTo>
                  <a:pt x="17123" y="15437"/>
                  <a:pt x="17132" y="15445"/>
                  <a:pt x="17140" y="15453"/>
                </a:cubicBezTo>
              </a:path>
              <a:path w="3201" h="1886">
                <a:moveTo>
                  <a:pt x="17462" y="15032"/>
                </a:moveTo>
                <a:cubicBezTo>
                  <a:pt x="17413" y="15171"/>
                  <a:pt x="17360" y="15301"/>
                  <a:pt x="17388" y="15453"/>
                </a:cubicBezTo>
                <a:cubicBezTo>
                  <a:pt x="17408" y="15494"/>
                  <a:pt x="17406" y="15510"/>
                  <a:pt x="17438" y="15503"/>
                </a:cubicBezTo>
              </a:path>
              <a:path w="3201" h="1886">
                <a:moveTo>
                  <a:pt x="17661" y="15106"/>
                </a:moveTo>
                <a:cubicBezTo>
                  <a:pt x="17661" y="15203"/>
                  <a:pt x="17626" y="15284"/>
                  <a:pt x="17611" y="15379"/>
                </a:cubicBezTo>
                <a:cubicBezTo>
                  <a:pt x="17592" y="15499"/>
                  <a:pt x="17685" y="15378"/>
                  <a:pt x="17711" y="15354"/>
                </a:cubicBezTo>
              </a:path>
              <a:path w="3201" h="1886">
                <a:moveTo>
                  <a:pt x="17909" y="15106"/>
                </a:moveTo>
                <a:cubicBezTo>
                  <a:pt x="17824" y="15207"/>
                  <a:pt x="17779" y="15269"/>
                  <a:pt x="17760" y="15404"/>
                </a:cubicBezTo>
                <a:cubicBezTo>
                  <a:pt x="17905" y="15393"/>
                  <a:pt x="18041" y="15383"/>
                  <a:pt x="18033" y="15205"/>
                </a:cubicBezTo>
                <a:cubicBezTo>
                  <a:pt x="18030" y="15137"/>
                  <a:pt x="17909" y="15131"/>
                  <a:pt x="17959" y="15131"/>
                </a:cubicBezTo>
              </a:path>
              <a:path w="3201" h="1886">
                <a:moveTo>
                  <a:pt x="18355" y="15106"/>
                </a:moveTo>
                <a:cubicBezTo>
                  <a:pt x="18355" y="15189"/>
                  <a:pt x="18355" y="15271"/>
                  <a:pt x="18355" y="15354"/>
                </a:cubicBezTo>
              </a:path>
              <a:path w="3201" h="1886">
                <a:moveTo>
                  <a:pt x="18256" y="15180"/>
                </a:moveTo>
                <a:cubicBezTo>
                  <a:pt x="18351" y="15180"/>
                  <a:pt x="18436" y="15165"/>
                  <a:pt x="18529" y="15156"/>
                </a:cubicBezTo>
                <a:cubicBezTo>
                  <a:pt x="18597" y="15156"/>
                  <a:pt x="18616" y="15159"/>
                  <a:pt x="18653" y="15131"/>
                </a:cubicBezTo>
              </a:path>
              <a:path w="3201" h="1886">
                <a:moveTo>
                  <a:pt x="18628" y="15007"/>
                </a:moveTo>
                <a:cubicBezTo>
                  <a:pt x="18686" y="14993"/>
                  <a:pt x="18733" y="14982"/>
                  <a:pt x="18802" y="14982"/>
                </a:cubicBezTo>
                <a:cubicBezTo>
                  <a:pt x="18889" y="14982"/>
                  <a:pt x="18852" y="15176"/>
                  <a:pt x="18852" y="15230"/>
                </a:cubicBezTo>
                <a:cubicBezTo>
                  <a:pt x="18852" y="15342"/>
                  <a:pt x="18851" y="15290"/>
                  <a:pt x="18901" y="15180"/>
                </a:cubicBezTo>
              </a:path>
              <a:path w="3201" h="1886">
                <a:moveTo>
                  <a:pt x="16718" y="16024"/>
                </a:moveTo>
                <a:cubicBezTo>
                  <a:pt x="16665" y="15980"/>
                  <a:pt x="16587" y="15939"/>
                  <a:pt x="16520" y="15999"/>
                </a:cubicBezTo>
                <a:cubicBezTo>
                  <a:pt x="16461" y="16078"/>
                  <a:pt x="16436" y="16087"/>
                  <a:pt x="16446" y="16148"/>
                </a:cubicBezTo>
                <a:cubicBezTo>
                  <a:pt x="16542" y="16132"/>
                  <a:pt x="16618" y="16108"/>
                  <a:pt x="16669" y="16024"/>
                </a:cubicBezTo>
                <a:cubicBezTo>
                  <a:pt x="16696" y="16078"/>
                  <a:pt x="16712" y="16155"/>
                  <a:pt x="16718" y="16222"/>
                </a:cubicBezTo>
                <a:cubicBezTo>
                  <a:pt x="16718" y="16247"/>
                  <a:pt x="16718" y="16255"/>
                  <a:pt x="16718" y="16222"/>
                </a:cubicBezTo>
              </a:path>
              <a:path w="3201" h="1886">
                <a:moveTo>
                  <a:pt x="17338" y="15925"/>
                </a:moveTo>
                <a:cubicBezTo>
                  <a:pt x="17338" y="16019"/>
                  <a:pt x="17250" y="16128"/>
                  <a:pt x="17314" y="16197"/>
                </a:cubicBezTo>
                <a:cubicBezTo>
                  <a:pt x="17336" y="16175"/>
                  <a:pt x="17344" y="16170"/>
                  <a:pt x="17338" y="16148"/>
                </a:cubicBezTo>
              </a:path>
              <a:path w="3201" h="1886">
                <a:moveTo>
                  <a:pt x="17636" y="15974"/>
                </a:moveTo>
                <a:cubicBezTo>
                  <a:pt x="17569" y="16042"/>
                  <a:pt x="17451" y="16110"/>
                  <a:pt x="17487" y="16197"/>
                </a:cubicBezTo>
                <a:cubicBezTo>
                  <a:pt x="17582" y="16174"/>
                  <a:pt x="17792" y="16159"/>
                  <a:pt x="17735" y="15999"/>
                </a:cubicBezTo>
                <a:cubicBezTo>
                  <a:pt x="17698" y="15897"/>
                  <a:pt x="17581" y="15939"/>
                  <a:pt x="17512" y="15949"/>
                </a:cubicBezTo>
              </a:path>
              <a:path w="3201" h="1886">
                <a:moveTo>
                  <a:pt x="17314" y="16594"/>
                </a:moveTo>
                <a:cubicBezTo>
                  <a:pt x="17314" y="16649"/>
                  <a:pt x="17275" y="16532"/>
                  <a:pt x="17214" y="16545"/>
                </a:cubicBezTo>
                <a:cubicBezTo>
                  <a:pt x="17097" y="16570"/>
                  <a:pt x="17054" y="16667"/>
                  <a:pt x="17041" y="16768"/>
                </a:cubicBezTo>
                <a:cubicBezTo>
                  <a:pt x="17136" y="16757"/>
                  <a:pt x="17189" y="16731"/>
                  <a:pt x="17264" y="16669"/>
                </a:cubicBezTo>
                <a:cubicBezTo>
                  <a:pt x="17264" y="16735"/>
                  <a:pt x="17264" y="16801"/>
                  <a:pt x="17264" y="16867"/>
                </a:cubicBezTo>
              </a:path>
              <a:path w="3201" h="1886">
                <a:moveTo>
                  <a:pt x="17438" y="16594"/>
                </a:moveTo>
                <a:cubicBezTo>
                  <a:pt x="17415" y="16654"/>
                  <a:pt x="17332" y="16810"/>
                  <a:pt x="17413" y="16842"/>
                </a:cubicBezTo>
                <a:cubicBezTo>
                  <a:pt x="17511" y="16880"/>
                  <a:pt x="17603" y="16805"/>
                  <a:pt x="17587" y="16694"/>
                </a:cubicBezTo>
                <a:cubicBezTo>
                  <a:pt x="17578" y="16628"/>
                  <a:pt x="17507" y="16624"/>
                  <a:pt x="17462" y="16594"/>
                </a:cubicBezTo>
              </a:path>
              <a:path w="3201" h="1886">
                <a:moveTo>
                  <a:pt x="18058" y="16049"/>
                </a:moveTo>
                <a:cubicBezTo>
                  <a:pt x="18058" y="16090"/>
                  <a:pt x="18058" y="16132"/>
                  <a:pt x="18058" y="16173"/>
                </a:cubicBezTo>
              </a:path>
              <a:path w="3201" h="1886">
                <a:moveTo>
                  <a:pt x="17909" y="16073"/>
                </a:moveTo>
                <a:cubicBezTo>
                  <a:pt x="18034" y="16066"/>
                  <a:pt x="18155" y="16049"/>
                  <a:pt x="18281" y="16049"/>
                </a:cubicBezTo>
              </a:path>
              <a:path w="3201" h="1886">
                <a:moveTo>
                  <a:pt x="18083" y="16594"/>
                </a:moveTo>
                <a:cubicBezTo>
                  <a:pt x="18178" y="16567"/>
                  <a:pt x="18255" y="16530"/>
                  <a:pt x="18331" y="16470"/>
                </a:cubicBezTo>
              </a:path>
              <a:path w="3201" h="1886">
                <a:moveTo>
                  <a:pt x="17983" y="15900"/>
                </a:moveTo>
                <a:cubicBezTo>
                  <a:pt x="17983" y="15969"/>
                  <a:pt x="17973" y="16039"/>
                  <a:pt x="18008" y="16073"/>
                </a:cubicBezTo>
              </a:path>
              <a:path w="3201" h="1886">
                <a:moveTo>
                  <a:pt x="18752" y="15875"/>
                </a:moveTo>
                <a:cubicBezTo>
                  <a:pt x="18764" y="15911"/>
                  <a:pt x="18765" y="15911"/>
                  <a:pt x="18777" y="15875"/>
                </a:cubicBezTo>
                <a:cubicBezTo>
                  <a:pt x="18739" y="15817"/>
                  <a:pt x="18695" y="15788"/>
                  <a:pt x="18628" y="15875"/>
                </a:cubicBezTo>
                <a:cubicBezTo>
                  <a:pt x="18584" y="15965"/>
                  <a:pt x="18564" y="15988"/>
                  <a:pt x="18604" y="16049"/>
                </a:cubicBezTo>
                <a:cubicBezTo>
                  <a:pt x="18694" y="16041"/>
                  <a:pt x="18811" y="16026"/>
                  <a:pt x="18802" y="15900"/>
                </a:cubicBezTo>
                <a:cubicBezTo>
                  <a:pt x="18794" y="15892"/>
                  <a:pt x="18785" y="15883"/>
                  <a:pt x="18777" y="15875"/>
                </a:cubicBezTo>
                <a:cubicBezTo>
                  <a:pt x="18818" y="15944"/>
                  <a:pt x="18822" y="16041"/>
                  <a:pt x="18852" y="16123"/>
                </a:cubicBezTo>
              </a:path>
              <a:path w="3201" h="1886">
                <a:moveTo>
                  <a:pt x="18976" y="15875"/>
                </a:moveTo>
                <a:cubicBezTo>
                  <a:pt x="19018" y="15918"/>
                  <a:pt x="19076" y="16013"/>
                  <a:pt x="19124" y="16024"/>
                </a:cubicBezTo>
                <a:cubicBezTo>
                  <a:pt x="19132" y="16024"/>
                  <a:pt x="19141" y="16024"/>
                  <a:pt x="19149" y="16024"/>
                </a:cubicBezTo>
              </a:path>
              <a:path w="3201" h="1886">
                <a:moveTo>
                  <a:pt x="19174" y="15825"/>
                </a:moveTo>
                <a:cubicBezTo>
                  <a:pt x="19149" y="15893"/>
                  <a:pt x="19067" y="16065"/>
                  <a:pt x="19100" y="16098"/>
                </a:cubicBezTo>
              </a:path>
              <a:path w="3201" h="1886">
                <a:moveTo>
                  <a:pt x="19323" y="15751"/>
                </a:moveTo>
                <a:cubicBezTo>
                  <a:pt x="19415" y="15730"/>
                  <a:pt x="19498" y="15700"/>
                  <a:pt x="19596" y="15677"/>
                </a:cubicBezTo>
                <a:cubicBezTo>
                  <a:pt x="19596" y="15809"/>
                  <a:pt x="19596" y="15941"/>
                  <a:pt x="19596" y="16073"/>
                </a:cubicBezTo>
              </a:path>
              <a:path w="3201" h="1886">
                <a:moveTo>
                  <a:pt x="18951" y="16446"/>
                </a:moveTo>
                <a:cubicBezTo>
                  <a:pt x="18987" y="16434"/>
                  <a:pt x="19002" y="16430"/>
                  <a:pt x="18976" y="16495"/>
                </a:cubicBezTo>
                <a:cubicBezTo>
                  <a:pt x="18930" y="16610"/>
                  <a:pt x="18869" y="16693"/>
                  <a:pt x="18852" y="16818"/>
                </a:cubicBezTo>
                <a:cubicBezTo>
                  <a:pt x="18939" y="16846"/>
                  <a:pt x="19025" y="16869"/>
                  <a:pt x="19100" y="16793"/>
                </a:cubicBezTo>
                <a:cubicBezTo>
                  <a:pt x="19148" y="16745"/>
                  <a:pt x="19186" y="16615"/>
                  <a:pt x="19124" y="16644"/>
                </a:cubicBezTo>
                <a:cubicBezTo>
                  <a:pt x="19060" y="16675"/>
                  <a:pt x="19010" y="16731"/>
                  <a:pt x="18951" y="16768"/>
                </a:cubicBezTo>
                <a:cubicBezTo>
                  <a:pt x="18981" y="16798"/>
                  <a:pt x="18995" y="16803"/>
                  <a:pt x="19025" y="16768"/>
                </a:cubicBezTo>
              </a:path>
              <a:path w="3201" h="1886">
                <a:moveTo>
                  <a:pt x="19323" y="16421"/>
                </a:moveTo>
                <a:cubicBezTo>
                  <a:pt x="19349" y="16355"/>
                  <a:pt x="19359" y="16362"/>
                  <a:pt x="19422" y="16346"/>
                </a:cubicBezTo>
                <a:cubicBezTo>
                  <a:pt x="19461" y="16365"/>
                  <a:pt x="19362" y="16431"/>
                  <a:pt x="19323" y="16470"/>
                </a:cubicBezTo>
                <a:cubicBezTo>
                  <a:pt x="19315" y="16478"/>
                  <a:pt x="19306" y="16487"/>
                  <a:pt x="19298" y="16495"/>
                </a:cubicBezTo>
                <a:cubicBezTo>
                  <a:pt x="19353" y="16477"/>
                  <a:pt x="19384" y="16463"/>
                  <a:pt x="19472" y="16495"/>
                </a:cubicBezTo>
                <a:cubicBezTo>
                  <a:pt x="19614" y="16547"/>
                  <a:pt x="19467" y="16665"/>
                  <a:pt x="19397" y="16694"/>
                </a:cubicBezTo>
                <a:cubicBezTo>
                  <a:pt x="19313" y="16729"/>
                  <a:pt x="19298" y="16706"/>
                  <a:pt x="19224" y="16669"/>
                </a:cubicBezTo>
              </a:path>
              <a:path w="3201" h="1886">
                <a:moveTo>
                  <a:pt x="19273" y="16346"/>
                </a:moveTo>
                <a:cubicBezTo>
                  <a:pt x="19265" y="16346"/>
                  <a:pt x="19256" y="16346"/>
                  <a:pt x="19248" y="16346"/>
                </a:cubicBezTo>
                <a:cubicBezTo>
                  <a:pt x="19260" y="16309"/>
                  <a:pt x="19323" y="16315"/>
                  <a:pt x="19372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46880" y="6224760"/>
            <a:ext cx="366840" cy="23148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17909" y="17462"/>
                </a:moveTo>
                <a:cubicBezTo>
                  <a:pt x="17984" y="17556"/>
                  <a:pt x="17973" y="17692"/>
                  <a:pt x="17959" y="17810"/>
                </a:cubicBezTo>
                <a:cubicBezTo>
                  <a:pt x="17940" y="17884"/>
                  <a:pt x="17932" y="17891"/>
                  <a:pt x="17934" y="17934"/>
                </a:cubicBezTo>
              </a:path>
              <a:path w="1018" h="646">
                <a:moveTo>
                  <a:pt x="18355" y="17363"/>
                </a:moveTo>
                <a:cubicBezTo>
                  <a:pt x="18297" y="17373"/>
                  <a:pt x="18226" y="17378"/>
                  <a:pt x="18182" y="17413"/>
                </a:cubicBezTo>
                <a:cubicBezTo>
                  <a:pt x="18126" y="17458"/>
                  <a:pt x="18147" y="17536"/>
                  <a:pt x="18107" y="17562"/>
                </a:cubicBezTo>
                <a:cubicBezTo>
                  <a:pt x="18178" y="17562"/>
                  <a:pt x="18270" y="17531"/>
                  <a:pt x="18331" y="17537"/>
                </a:cubicBezTo>
                <a:cubicBezTo>
                  <a:pt x="18431" y="17546"/>
                  <a:pt x="18450" y="17644"/>
                  <a:pt x="18430" y="17711"/>
                </a:cubicBezTo>
                <a:cubicBezTo>
                  <a:pt x="18407" y="17785"/>
                  <a:pt x="18246" y="17882"/>
                  <a:pt x="18157" y="17835"/>
                </a:cubicBezTo>
                <a:cubicBezTo>
                  <a:pt x="18122" y="17765"/>
                  <a:pt x="18127" y="17730"/>
                  <a:pt x="18207" y="17686"/>
                </a:cubicBezTo>
              </a:path>
              <a:path w="1018" h="646">
                <a:moveTo>
                  <a:pt x="18579" y="17388"/>
                </a:moveTo>
                <a:cubicBezTo>
                  <a:pt x="18613" y="17341"/>
                  <a:pt x="18723" y="17275"/>
                  <a:pt x="18802" y="17289"/>
                </a:cubicBezTo>
                <a:cubicBezTo>
                  <a:pt x="18810" y="17297"/>
                  <a:pt x="18819" y="17306"/>
                  <a:pt x="18827" y="17314"/>
                </a:cubicBezTo>
                <a:cubicBezTo>
                  <a:pt x="18797" y="17432"/>
                  <a:pt x="18732" y="17415"/>
                  <a:pt x="18653" y="17487"/>
                </a:cubicBezTo>
                <a:cubicBezTo>
                  <a:pt x="18653" y="17515"/>
                  <a:pt x="18655" y="17521"/>
                  <a:pt x="18678" y="17487"/>
                </a:cubicBezTo>
                <a:cubicBezTo>
                  <a:pt x="18794" y="17474"/>
                  <a:pt x="18886" y="17440"/>
                  <a:pt x="18926" y="17587"/>
                </a:cubicBezTo>
                <a:cubicBezTo>
                  <a:pt x="18957" y="17703"/>
                  <a:pt x="18778" y="17810"/>
                  <a:pt x="18678" y="17810"/>
                </a:cubicBezTo>
                <a:cubicBezTo>
                  <a:pt x="18578" y="17785"/>
                  <a:pt x="18544" y="17776"/>
                  <a:pt x="18504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68280" y="1241280"/>
            <a:ext cx="5295960" cy="108000"/>
          </a:xfrm>
          <a:custGeom>
            <a:avLst/>
            <a:gdLst/>
            <a:ahLst/>
            <a:rect l="l" t="t" r="r" b="b"/>
            <a:pathLst>
              <a:path w="14710" h="299">
                <a:moveTo>
                  <a:pt x="3522" y="3696"/>
                </a:moveTo>
                <a:cubicBezTo>
                  <a:pt x="3580" y="3694"/>
                  <a:pt x="3613" y="3669"/>
                  <a:pt x="3671" y="3671"/>
                </a:cubicBezTo>
                <a:cubicBezTo>
                  <a:pt x="3780" y="3674"/>
                  <a:pt x="3884" y="3673"/>
                  <a:pt x="3994" y="3671"/>
                </a:cubicBezTo>
                <a:cubicBezTo>
                  <a:pt x="4114" y="3668"/>
                  <a:pt x="4256" y="3645"/>
                  <a:pt x="4366" y="3646"/>
                </a:cubicBezTo>
                <a:cubicBezTo>
                  <a:pt x="4468" y="3647"/>
                  <a:pt x="4581" y="3650"/>
                  <a:pt x="4688" y="3646"/>
                </a:cubicBezTo>
                <a:cubicBezTo>
                  <a:pt x="5292" y="3626"/>
                  <a:pt x="5878" y="3698"/>
                  <a:pt x="6474" y="3721"/>
                </a:cubicBezTo>
                <a:cubicBezTo>
                  <a:pt x="6657" y="3728"/>
                  <a:pt x="6844" y="3731"/>
                  <a:pt x="7020" y="3721"/>
                </a:cubicBezTo>
                <a:cubicBezTo>
                  <a:pt x="7153" y="3713"/>
                  <a:pt x="7284" y="3708"/>
                  <a:pt x="7417" y="3696"/>
                </a:cubicBezTo>
                <a:cubicBezTo>
                  <a:pt x="7542" y="3684"/>
                  <a:pt x="7665" y="3681"/>
                  <a:pt x="7789" y="3671"/>
                </a:cubicBezTo>
                <a:cubicBezTo>
                  <a:pt x="7955" y="3657"/>
                  <a:pt x="8118" y="3656"/>
                  <a:pt x="8285" y="3646"/>
                </a:cubicBezTo>
                <a:cubicBezTo>
                  <a:pt x="8500" y="3633"/>
                  <a:pt x="8717" y="3615"/>
                  <a:pt x="8930" y="3597"/>
                </a:cubicBezTo>
                <a:cubicBezTo>
                  <a:pt x="9054" y="3587"/>
                  <a:pt x="9177" y="3584"/>
                  <a:pt x="9302" y="3572"/>
                </a:cubicBezTo>
                <a:cubicBezTo>
                  <a:pt x="9475" y="3555"/>
                  <a:pt x="9650" y="3538"/>
                  <a:pt x="9823" y="3522"/>
                </a:cubicBezTo>
                <a:cubicBezTo>
                  <a:pt x="9997" y="3506"/>
                  <a:pt x="10170" y="3491"/>
                  <a:pt x="10344" y="3473"/>
                </a:cubicBezTo>
                <a:cubicBezTo>
                  <a:pt x="10485" y="3458"/>
                  <a:pt x="10623" y="3453"/>
                  <a:pt x="10765" y="3448"/>
                </a:cubicBezTo>
                <a:cubicBezTo>
                  <a:pt x="11064" y="3438"/>
                  <a:pt x="11362" y="3454"/>
                  <a:pt x="11658" y="3473"/>
                </a:cubicBezTo>
                <a:cubicBezTo>
                  <a:pt x="11825" y="3484"/>
                  <a:pt x="11986" y="3495"/>
                  <a:pt x="12154" y="3497"/>
                </a:cubicBezTo>
                <a:cubicBezTo>
                  <a:pt x="12480" y="3500"/>
                  <a:pt x="12799" y="3516"/>
                  <a:pt x="13122" y="3547"/>
                </a:cubicBezTo>
                <a:cubicBezTo>
                  <a:pt x="13280" y="3562"/>
                  <a:pt x="13434" y="3590"/>
                  <a:pt x="13593" y="3597"/>
                </a:cubicBezTo>
                <a:cubicBezTo>
                  <a:pt x="14732" y="3650"/>
                  <a:pt x="15878" y="3572"/>
                  <a:pt x="17016" y="3572"/>
                </a:cubicBezTo>
                <a:cubicBezTo>
                  <a:pt x="17368" y="3572"/>
                  <a:pt x="17739" y="3606"/>
                  <a:pt x="18083" y="3547"/>
                </a:cubicBezTo>
                <a:cubicBezTo>
                  <a:pt x="18133" y="3538"/>
                  <a:pt x="18191" y="3506"/>
                  <a:pt x="18231" y="34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1080" y="2320920"/>
            <a:ext cx="169920" cy="322200"/>
          </a:xfrm>
          <a:custGeom>
            <a:avLst/>
            <a:gdLst/>
            <a:ahLst/>
            <a:rect l="l" t="t" r="r" b="b"/>
            <a:pathLst>
              <a:path w="473" h="894">
                <a:moveTo>
                  <a:pt x="3225" y="6449"/>
                </a:moveTo>
                <a:cubicBezTo>
                  <a:pt x="3122" y="6522"/>
                  <a:pt x="3087" y="6648"/>
                  <a:pt x="3051" y="6772"/>
                </a:cubicBezTo>
                <a:cubicBezTo>
                  <a:pt x="2995" y="6965"/>
                  <a:pt x="2996" y="7310"/>
                  <a:pt x="3274" y="7342"/>
                </a:cubicBezTo>
                <a:cubicBezTo>
                  <a:pt x="3340" y="7334"/>
                  <a:pt x="3407" y="7325"/>
                  <a:pt x="3473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31960" y="2330280"/>
            <a:ext cx="81000" cy="223920"/>
          </a:xfrm>
          <a:custGeom>
            <a:avLst/>
            <a:gdLst/>
            <a:ahLst/>
            <a:rect l="l" t="t" r="r" b="b"/>
            <a:pathLst>
              <a:path w="224" h="621">
                <a:moveTo>
                  <a:pt x="4887" y="6474"/>
                </a:moveTo>
                <a:cubicBezTo>
                  <a:pt x="4959" y="6591"/>
                  <a:pt x="5077" y="6748"/>
                  <a:pt x="5035" y="6896"/>
                </a:cubicBezTo>
                <a:cubicBezTo>
                  <a:pt x="4957" y="7026"/>
                  <a:pt x="4926" y="7071"/>
                  <a:pt x="4812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633760"/>
            <a:ext cx="34920" cy="125280"/>
          </a:xfrm>
          <a:custGeom>
            <a:avLst/>
            <a:gdLst/>
            <a:ahLst/>
            <a:rect l="l" t="t" r="r" b="b"/>
            <a:pathLst>
              <a:path w="100" h="349">
                <a:moveTo>
                  <a:pt x="3696" y="7317"/>
                </a:moveTo>
                <a:cubicBezTo>
                  <a:pt x="3643" y="7423"/>
                  <a:pt x="3646" y="7552"/>
                  <a:pt x="3597" y="7665"/>
                </a:cubicBezTo>
                <a:cubicBezTo>
                  <a:pt x="3597" y="7657"/>
                  <a:pt x="3597" y="7648"/>
                  <a:pt x="3597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4840" y="2616120"/>
            <a:ext cx="108000" cy="108000"/>
          </a:xfrm>
          <a:custGeom>
            <a:avLst/>
            <a:gdLst/>
            <a:ahLst/>
            <a:rect l="l" t="t" r="r" b="b"/>
            <a:pathLst>
              <a:path w="299" h="298">
                <a:moveTo>
                  <a:pt x="3919" y="7317"/>
                </a:moveTo>
                <a:cubicBezTo>
                  <a:pt x="3839" y="7414"/>
                  <a:pt x="3830" y="7419"/>
                  <a:pt x="3820" y="7541"/>
                </a:cubicBezTo>
                <a:cubicBezTo>
                  <a:pt x="3955" y="7584"/>
                  <a:pt x="4032" y="7556"/>
                  <a:pt x="4093" y="7417"/>
                </a:cubicBezTo>
                <a:cubicBezTo>
                  <a:pt x="4178" y="7225"/>
                  <a:pt x="3996" y="7286"/>
                  <a:pt x="3894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09840" y="2608200"/>
            <a:ext cx="106200" cy="12384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4291" y="7293"/>
                </a:moveTo>
                <a:cubicBezTo>
                  <a:pt x="4204" y="7433"/>
                  <a:pt x="4186" y="7421"/>
                  <a:pt x="4242" y="7565"/>
                </a:cubicBezTo>
                <a:cubicBezTo>
                  <a:pt x="4362" y="7576"/>
                  <a:pt x="4485" y="7526"/>
                  <a:pt x="4490" y="7367"/>
                </a:cubicBezTo>
                <a:cubicBezTo>
                  <a:pt x="4493" y="7266"/>
                  <a:pt x="4386" y="7267"/>
                  <a:pt x="4316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1880" y="2625840"/>
            <a:ext cx="19080" cy="106200"/>
          </a:xfrm>
          <a:custGeom>
            <a:avLst/>
            <a:gdLst/>
            <a:ahLst/>
            <a:rect l="l" t="t" r="r" b="b"/>
            <a:pathLst>
              <a:path w="51" h="298">
                <a:moveTo>
                  <a:pt x="5283" y="7293"/>
                </a:moveTo>
                <a:cubicBezTo>
                  <a:pt x="5339" y="7349"/>
                  <a:pt x="5317" y="7473"/>
                  <a:pt x="5308" y="7565"/>
                </a:cubicBezTo>
                <a:cubicBezTo>
                  <a:pt x="5308" y="7573"/>
                  <a:pt x="5308" y="7582"/>
                  <a:pt x="5308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84240" y="2633760"/>
            <a:ext cx="108000" cy="36360"/>
          </a:xfrm>
          <a:custGeom>
            <a:avLst/>
            <a:gdLst/>
            <a:ahLst/>
            <a:rect l="l" t="t" r="r" b="b"/>
            <a:pathLst>
              <a:path w="298" h="101">
                <a:moveTo>
                  <a:pt x="5234" y="7417"/>
                </a:moveTo>
                <a:cubicBezTo>
                  <a:pt x="5323" y="7391"/>
                  <a:pt x="5415" y="7342"/>
                  <a:pt x="5507" y="7317"/>
                </a:cubicBezTo>
                <a:cubicBezTo>
                  <a:pt x="5515" y="7317"/>
                  <a:pt x="5523" y="7317"/>
                  <a:pt x="5531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81160" y="2384280"/>
            <a:ext cx="79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5804" y="6623"/>
                </a:moveTo>
                <a:cubicBezTo>
                  <a:pt x="5804" y="6711"/>
                  <a:pt x="5791" y="6785"/>
                  <a:pt x="5779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2411280"/>
            <a:ext cx="115920" cy="27000"/>
          </a:xfrm>
          <a:custGeom>
            <a:avLst/>
            <a:gdLst/>
            <a:ahLst/>
            <a:rect l="l" t="t" r="r" b="b"/>
            <a:pathLst>
              <a:path w="323" h="76">
                <a:moveTo>
                  <a:pt x="5631" y="6772"/>
                </a:moveTo>
                <a:cubicBezTo>
                  <a:pt x="5733" y="6757"/>
                  <a:pt x="5828" y="6719"/>
                  <a:pt x="5928" y="6697"/>
                </a:cubicBezTo>
                <a:cubicBezTo>
                  <a:pt x="5936" y="6697"/>
                  <a:pt x="5945" y="6697"/>
                  <a:pt x="5953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55840" y="1687680"/>
            <a:ext cx="849240" cy="206280"/>
          </a:xfrm>
          <a:custGeom>
            <a:avLst/>
            <a:gdLst/>
            <a:ahLst/>
            <a:rect l="l" t="t" r="r" b="b"/>
            <a:pathLst>
              <a:path w="2358" h="572">
                <a:moveTo>
                  <a:pt x="4068" y="5259"/>
                </a:moveTo>
                <a:cubicBezTo>
                  <a:pt x="4050" y="5228"/>
                  <a:pt x="4046" y="5232"/>
                  <a:pt x="4043" y="5184"/>
                </a:cubicBezTo>
                <a:cubicBezTo>
                  <a:pt x="4039" y="5122"/>
                  <a:pt x="4038" y="5105"/>
                  <a:pt x="4093" y="5060"/>
                </a:cubicBezTo>
                <a:cubicBezTo>
                  <a:pt x="4154" y="5010"/>
                  <a:pt x="4223" y="4977"/>
                  <a:pt x="4291" y="4936"/>
                </a:cubicBezTo>
                <a:cubicBezTo>
                  <a:pt x="4448" y="4841"/>
                  <a:pt x="4606" y="4779"/>
                  <a:pt x="4787" y="4738"/>
                </a:cubicBezTo>
                <a:cubicBezTo>
                  <a:pt x="4980" y="4694"/>
                  <a:pt x="5188" y="4677"/>
                  <a:pt x="5383" y="4713"/>
                </a:cubicBezTo>
                <a:cubicBezTo>
                  <a:pt x="5583" y="4750"/>
                  <a:pt x="5740" y="4850"/>
                  <a:pt x="5904" y="4961"/>
                </a:cubicBezTo>
                <a:cubicBezTo>
                  <a:pt x="6004" y="5028"/>
                  <a:pt x="6087" y="5094"/>
                  <a:pt x="6201" y="5135"/>
                </a:cubicBezTo>
                <a:cubicBezTo>
                  <a:pt x="6273" y="5161"/>
                  <a:pt x="6330" y="5174"/>
                  <a:pt x="6400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95360" y="2330280"/>
            <a:ext cx="88920" cy="17964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6548" y="6474"/>
                </a:moveTo>
                <a:cubicBezTo>
                  <a:pt x="6450" y="6573"/>
                  <a:pt x="6337" y="6736"/>
                  <a:pt x="6375" y="6896"/>
                </a:cubicBezTo>
                <a:cubicBezTo>
                  <a:pt x="6411" y="7045"/>
                  <a:pt x="6543" y="6951"/>
                  <a:pt x="6623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7840" y="2401920"/>
            <a:ext cx="36360" cy="71280"/>
          </a:xfrm>
          <a:custGeom>
            <a:avLst/>
            <a:gdLst/>
            <a:ahLst/>
            <a:rect l="l" t="t" r="r" b="b"/>
            <a:pathLst>
              <a:path w="100" h="200">
                <a:moveTo>
                  <a:pt x="7094" y="6672"/>
                </a:moveTo>
                <a:cubicBezTo>
                  <a:pt x="7050" y="6783"/>
                  <a:pt x="7042" y="6812"/>
                  <a:pt x="6995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17840" y="2473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995" y="6871"/>
                </a:moveTo>
                <a:lnTo>
                  <a:pt x="6995" y="687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43120" y="2367000"/>
            <a:ext cx="71640" cy="98280"/>
          </a:xfrm>
          <a:custGeom>
            <a:avLst/>
            <a:gdLst/>
            <a:ahLst/>
            <a:rect l="l" t="t" r="r" b="b"/>
            <a:pathLst>
              <a:path w="200" h="274">
                <a:moveTo>
                  <a:pt x="7491" y="6573"/>
                </a:moveTo>
                <a:cubicBezTo>
                  <a:pt x="7427" y="6573"/>
                  <a:pt x="7397" y="6614"/>
                  <a:pt x="7342" y="6648"/>
                </a:cubicBezTo>
                <a:cubicBezTo>
                  <a:pt x="7391" y="6688"/>
                  <a:pt x="7536" y="6732"/>
                  <a:pt x="7541" y="6796"/>
                </a:cubicBezTo>
                <a:cubicBezTo>
                  <a:pt x="7544" y="6836"/>
                  <a:pt x="7443" y="6842"/>
                  <a:pt x="7417" y="6846"/>
                </a:cubicBezTo>
                <a:cubicBezTo>
                  <a:pt x="7451" y="6757"/>
                  <a:pt x="7482" y="6696"/>
                  <a:pt x="7541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6680" y="2313000"/>
            <a:ext cx="28440" cy="196920"/>
          </a:xfrm>
          <a:custGeom>
            <a:avLst/>
            <a:gdLst/>
            <a:ahLst/>
            <a:rect l="l" t="t" r="r" b="b"/>
            <a:pathLst>
              <a:path w="76" h="547">
                <a:moveTo>
                  <a:pt x="7714" y="6424"/>
                </a:moveTo>
                <a:cubicBezTo>
                  <a:pt x="7769" y="6644"/>
                  <a:pt x="7834" y="6785"/>
                  <a:pt x="7714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13000" y="2625840"/>
            <a:ext cx="9360" cy="1159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6449" y="7293"/>
                </a:moveTo>
                <a:cubicBezTo>
                  <a:pt x="6449" y="7402"/>
                  <a:pt x="6430" y="7506"/>
                  <a:pt x="6424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01920" y="2625840"/>
            <a:ext cx="9828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6697" y="7293"/>
                </a:moveTo>
                <a:cubicBezTo>
                  <a:pt x="6677" y="7358"/>
                  <a:pt x="6631" y="7528"/>
                  <a:pt x="6697" y="7590"/>
                </a:cubicBezTo>
                <a:cubicBezTo>
                  <a:pt x="6797" y="7684"/>
                  <a:pt x="6884" y="7592"/>
                  <a:pt x="6921" y="7516"/>
                </a:cubicBezTo>
                <a:cubicBezTo>
                  <a:pt x="6941" y="7475"/>
                  <a:pt x="6949" y="7469"/>
                  <a:pt x="6945" y="7441"/>
                </a:cubicBezTo>
                <a:cubicBezTo>
                  <a:pt x="6896" y="7491"/>
                  <a:pt x="6858" y="7532"/>
                  <a:pt x="6821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60680" y="2894040"/>
            <a:ext cx="9360" cy="142920"/>
          </a:xfrm>
          <a:custGeom>
            <a:avLst/>
            <a:gdLst/>
            <a:ahLst/>
            <a:rect l="l" t="t" r="r" b="b"/>
            <a:pathLst>
              <a:path w="25" h="398">
                <a:moveTo>
                  <a:pt x="4614" y="8037"/>
                </a:moveTo>
                <a:cubicBezTo>
                  <a:pt x="4635" y="8144"/>
                  <a:pt x="4638" y="8245"/>
                  <a:pt x="4638" y="8359"/>
                </a:cubicBezTo>
                <a:cubicBezTo>
                  <a:pt x="4638" y="8384"/>
                  <a:pt x="4638" y="8409"/>
                  <a:pt x="4638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68320" y="2884320"/>
            <a:ext cx="17640" cy="133560"/>
          </a:xfrm>
          <a:custGeom>
            <a:avLst/>
            <a:gdLst/>
            <a:ahLst/>
            <a:rect l="l" t="t" r="r" b="b"/>
            <a:pathLst>
              <a:path w="51" h="373">
                <a:moveTo>
                  <a:pt x="4911" y="8012"/>
                </a:moveTo>
                <a:cubicBezTo>
                  <a:pt x="4949" y="8133"/>
                  <a:pt x="4961" y="8232"/>
                  <a:pt x="4961" y="8359"/>
                </a:cubicBezTo>
                <a:cubicBezTo>
                  <a:pt x="4961" y="8367"/>
                  <a:pt x="4961" y="8376"/>
                  <a:pt x="4961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66960" y="2894040"/>
            <a:ext cx="106200" cy="115920"/>
          </a:xfrm>
          <a:custGeom>
            <a:avLst/>
            <a:gdLst/>
            <a:ahLst/>
            <a:rect l="l" t="t" r="r" b="b"/>
            <a:pathLst>
              <a:path w="299" h="323">
                <a:moveTo>
                  <a:pt x="5184" y="8037"/>
                </a:moveTo>
                <a:cubicBezTo>
                  <a:pt x="5184" y="8100"/>
                  <a:pt x="5151" y="8270"/>
                  <a:pt x="5209" y="8310"/>
                </a:cubicBezTo>
                <a:cubicBezTo>
                  <a:pt x="5284" y="8361"/>
                  <a:pt x="5403" y="8326"/>
                  <a:pt x="5457" y="8260"/>
                </a:cubicBezTo>
                <a:cubicBezTo>
                  <a:pt x="5465" y="8243"/>
                  <a:pt x="5474" y="8227"/>
                  <a:pt x="5482" y="8210"/>
                </a:cubicBezTo>
                <a:cubicBezTo>
                  <a:pt x="5437" y="8181"/>
                  <a:pt x="5356" y="8227"/>
                  <a:pt x="5333" y="8310"/>
                </a:cubicBezTo>
                <a:cubicBezTo>
                  <a:pt x="5333" y="8351"/>
                  <a:pt x="5325" y="8367"/>
                  <a:pt x="5358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82840" y="2795760"/>
            <a:ext cx="633240" cy="347400"/>
          </a:xfrm>
          <a:custGeom>
            <a:avLst/>
            <a:gdLst/>
            <a:ahLst/>
            <a:rect l="l" t="t" r="r" b="b"/>
            <a:pathLst>
              <a:path w="1762" h="968">
                <a:moveTo>
                  <a:pt x="5482" y="8062"/>
                </a:moveTo>
                <a:cubicBezTo>
                  <a:pt x="5456" y="7992"/>
                  <a:pt x="5473" y="8020"/>
                  <a:pt x="5407" y="7962"/>
                </a:cubicBezTo>
                <a:cubicBezTo>
                  <a:pt x="5309" y="7876"/>
                  <a:pt x="5233" y="7830"/>
                  <a:pt x="5110" y="7789"/>
                </a:cubicBezTo>
                <a:cubicBezTo>
                  <a:pt x="5008" y="7755"/>
                  <a:pt x="4843" y="7775"/>
                  <a:pt x="4738" y="7813"/>
                </a:cubicBezTo>
                <a:cubicBezTo>
                  <a:pt x="4581" y="7869"/>
                  <a:pt x="4429" y="7947"/>
                  <a:pt x="4291" y="8037"/>
                </a:cubicBezTo>
                <a:cubicBezTo>
                  <a:pt x="4171" y="8116"/>
                  <a:pt x="4123" y="8167"/>
                  <a:pt x="4118" y="8310"/>
                </a:cubicBezTo>
                <a:cubicBezTo>
                  <a:pt x="4113" y="8445"/>
                  <a:pt x="4216" y="8600"/>
                  <a:pt x="4341" y="8657"/>
                </a:cubicBezTo>
                <a:cubicBezTo>
                  <a:pt x="4574" y="8764"/>
                  <a:pt x="4893" y="8739"/>
                  <a:pt x="5135" y="8682"/>
                </a:cubicBezTo>
                <a:cubicBezTo>
                  <a:pt x="5339" y="8634"/>
                  <a:pt x="5600" y="8563"/>
                  <a:pt x="5755" y="8409"/>
                </a:cubicBezTo>
                <a:cubicBezTo>
                  <a:pt x="5871" y="8294"/>
                  <a:pt x="5925" y="8122"/>
                  <a:pt x="5804" y="7987"/>
                </a:cubicBezTo>
                <a:cubicBezTo>
                  <a:pt x="5670" y="7837"/>
                  <a:pt x="5426" y="7792"/>
                  <a:pt x="5234" y="7813"/>
                </a:cubicBezTo>
                <a:cubicBezTo>
                  <a:pt x="5167" y="7835"/>
                  <a:pt x="5149" y="7840"/>
                  <a:pt x="5110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90760" y="3375000"/>
            <a:ext cx="393480" cy="63360"/>
          </a:xfrm>
          <a:custGeom>
            <a:avLst/>
            <a:gdLst/>
            <a:ahLst/>
            <a:rect l="l" t="t" r="r" b="b"/>
            <a:pathLst>
              <a:path w="1093" h="175">
                <a:moveTo>
                  <a:pt x="4142" y="9500"/>
                </a:moveTo>
                <a:cubicBezTo>
                  <a:pt x="4246" y="9474"/>
                  <a:pt x="4321" y="9419"/>
                  <a:pt x="4440" y="9401"/>
                </a:cubicBezTo>
                <a:cubicBezTo>
                  <a:pt x="4644" y="9370"/>
                  <a:pt x="4810" y="9381"/>
                  <a:pt x="5011" y="9426"/>
                </a:cubicBezTo>
                <a:cubicBezTo>
                  <a:pt x="5094" y="9444"/>
                  <a:pt x="5199" y="9480"/>
                  <a:pt x="5234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51040" y="3902040"/>
            <a:ext cx="9828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4862" y="10840"/>
                </a:moveTo>
                <a:cubicBezTo>
                  <a:pt x="4862" y="10926"/>
                  <a:pt x="4837" y="11038"/>
                  <a:pt x="4887" y="11112"/>
                </a:cubicBezTo>
                <a:cubicBezTo>
                  <a:pt x="4983" y="11254"/>
                  <a:pt x="5060" y="11063"/>
                  <a:pt x="5110" y="11013"/>
                </a:cubicBezTo>
                <a:cubicBezTo>
                  <a:pt x="5118" y="11013"/>
                  <a:pt x="5127" y="11013"/>
                  <a:pt x="5135" y="11013"/>
                </a:cubicBezTo>
                <a:cubicBezTo>
                  <a:pt x="5124" y="11015"/>
                  <a:pt x="4908" y="11107"/>
                  <a:pt x="4961" y="11137"/>
                </a:cubicBezTo>
                <a:cubicBezTo>
                  <a:pt x="4978" y="11129"/>
                  <a:pt x="4994" y="11120"/>
                  <a:pt x="5011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39960" y="3902040"/>
            <a:ext cx="115920" cy="108000"/>
          </a:xfrm>
          <a:custGeom>
            <a:avLst/>
            <a:gdLst/>
            <a:ahLst/>
            <a:rect l="l" t="t" r="r" b="b"/>
            <a:pathLst>
              <a:path w="323" h="298">
                <a:moveTo>
                  <a:pt x="5159" y="10840"/>
                </a:moveTo>
                <a:cubicBezTo>
                  <a:pt x="5110" y="10947"/>
                  <a:pt x="5068" y="11089"/>
                  <a:pt x="5234" y="11137"/>
                </a:cubicBezTo>
                <a:cubicBezTo>
                  <a:pt x="5351" y="11171"/>
                  <a:pt x="5502" y="11040"/>
                  <a:pt x="5432" y="10914"/>
                </a:cubicBezTo>
                <a:cubicBezTo>
                  <a:pt x="5391" y="10841"/>
                  <a:pt x="5298" y="10864"/>
                  <a:pt x="5234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19160" y="3867120"/>
            <a:ext cx="100080" cy="223920"/>
          </a:xfrm>
          <a:custGeom>
            <a:avLst/>
            <a:gdLst/>
            <a:ahLst/>
            <a:rect l="l" t="t" r="r" b="b"/>
            <a:pathLst>
              <a:path w="274" h="622">
                <a:moveTo>
                  <a:pt x="5556" y="10740"/>
                </a:moveTo>
                <a:cubicBezTo>
                  <a:pt x="5605" y="10909"/>
                  <a:pt x="5652" y="11124"/>
                  <a:pt x="5531" y="11286"/>
                </a:cubicBezTo>
                <a:cubicBezTo>
                  <a:pt x="5439" y="11356"/>
                  <a:pt x="5414" y="11381"/>
                  <a:pt x="5333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38200" y="3732120"/>
            <a:ext cx="125640" cy="295200"/>
          </a:xfrm>
          <a:custGeom>
            <a:avLst/>
            <a:gdLst/>
            <a:ahLst/>
            <a:rect l="l" t="t" r="r" b="b"/>
            <a:pathLst>
              <a:path w="348" h="820">
                <a:moveTo>
                  <a:pt x="4341" y="10393"/>
                </a:moveTo>
                <a:cubicBezTo>
                  <a:pt x="4288" y="10353"/>
                  <a:pt x="4232" y="10360"/>
                  <a:pt x="4167" y="10393"/>
                </a:cubicBezTo>
                <a:cubicBezTo>
                  <a:pt x="4001" y="10477"/>
                  <a:pt x="3986" y="10731"/>
                  <a:pt x="4018" y="10889"/>
                </a:cubicBezTo>
                <a:cubicBezTo>
                  <a:pt x="4044" y="11020"/>
                  <a:pt x="4115" y="11091"/>
                  <a:pt x="4192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35040" y="3884760"/>
            <a:ext cx="73080" cy="7128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4316" y="10790"/>
                </a:moveTo>
                <a:cubicBezTo>
                  <a:pt x="4309" y="10826"/>
                  <a:pt x="4242" y="10935"/>
                  <a:pt x="4266" y="10964"/>
                </a:cubicBezTo>
                <a:cubicBezTo>
                  <a:pt x="4310" y="11017"/>
                  <a:pt x="4413" y="10948"/>
                  <a:pt x="4465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89040" y="3894120"/>
            <a:ext cx="19080" cy="123840"/>
          </a:xfrm>
          <a:custGeom>
            <a:avLst/>
            <a:gdLst/>
            <a:ahLst/>
            <a:rect l="l" t="t" r="r" b="b"/>
            <a:pathLst>
              <a:path w="51" h="348">
                <a:moveTo>
                  <a:pt x="4465" y="10815"/>
                </a:moveTo>
                <a:cubicBezTo>
                  <a:pt x="4426" y="10917"/>
                  <a:pt x="4420" y="11025"/>
                  <a:pt x="4415" y="11137"/>
                </a:cubicBezTo>
                <a:cubicBezTo>
                  <a:pt x="4415" y="11145"/>
                  <a:pt x="4415" y="11154"/>
                  <a:pt x="4415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60680" y="3929040"/>
            <a:ext cx="36360" cy="63360"/>
          </a:xfrm>
          <a:custGeom>
            <a:avLst/>
            <a:gdLst/>
            <a:ahLst/>
            <a:rect l="l" t="t" r="r" b="b"/>
            <a:pathLst>
              <a:path w="100" h="175">
                <a:moveTo>
                  <a:pt x="4614" y="10914"/>
                </a:moveTo>
                <a:cubicBezTo>
                  <a:pt x="4644" y="10982"/>
                  <a:pt x="4672" y="11033"/>
                  <a:pt x="4713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87720" y="3919680"/>
            <a:ext cx="19080" cy="90360"/>
          </a:xfrm>
          <a:custGeom>
            <a:avLst/>
            <a:gdLst/>
            <a:ahLst/>
            <a:rect l="l" t="t" r="r" b="b"/>
            <a:pathLst>
              <a:path w="51" h="249">
                <a:moveTo>
                  <a:pt x="6127" y="10889"/>
                </a:moveTo>
                <a:cubicBezTo>
                  <a:pt x="6113" y="10973"/>
                  <a:pt x="6101" y="11057"/>
                  <a:pt x="6077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70080" y="3938760"/>
            <a:ext cx="115920" cy="26640"/>
          </a:xfrm>
          <a:custGeom>
            <a:avLst/>
            <a:gdLst/>
            <a:ahLst/>
            <a:rect l="l" t="t" r="r" b="b"/>
            <a:pathLst>
              <a:path w="323" h="75">
                <a:moveTo>
                  <a:pt x="6028" y="11013"/>
                </a:moveTo>
                <a:cubicBezTo>
                  <a:pt x="6144" y="10996"/>
                  <a:pt x="6235" y="10953"/>
                  <a:pt x="6350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3857760"/>
            <a:ext cx="61920" cy="214200"/>
          </a:xfrm>
          <a:custGeom>
            <a:avLst/>
            <a:gdLst/>
            <a:ahLst/>
            <a:rect l="l" t="t" r="r" b="b"/>
            <a:pathLst>
              <a:path w="175" h="596">
                <a:moveTo>
                  <a:pt x="6772" y="10716"/>
                </a:moveTo>
                <a:cubicBezTo>
                  <a:pt x="6717" y="10902"/>
                  <a:pt x="6644" y="11079"/>
                  <a:pt x="6747" y="11261"/>
                </a:cubicBezTo>
                <a:cubicBezTo>
                  <a:pt x="6798" y="11313"/>
                  <a:pt x="6817" y="11329"/>
                  <a:pt x="6871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0760" y="3946680"/>
            <a:ext cx="71280" cy="80640"/>
          </a:xfrm>
          <a:custGeom>
            <a:avLst/>
            <a:gdLst/>
            <a:ahLst/>
            <a:rect l="l" t="t" r="r" b="b"/>
            <a:pathLst>
              <a:path w="199" h="224">
                <a:moveTo>
                  <a:pt x="7392" y="10964"/>
                </a:moveTo>
                <a:cubicBezTo>
                  <a:pt x="7444" y="11083"/>
                  <a:pt x="7454" y="11197"/>
                  <a:pt x="7590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52840" y="3929040"/>
            <a:ext cx="44280" cy="98280"/>
          </a:xfrm>
          <a:custGeom>
            <a:avLst/>
            <a:gdLst/>
            <a:ahLst/>
            <a:rect l="l" t="t" r="r" b="b"/>
            <a:pathLst>
              <a:path w="125" h="274">
                <a:moveTo>
                  <a:pt x="7491" y="10914"/>
                </a:moveTo>
                <a:cubicBezTo>
                  <a:pt x="7454" y="10978"/>
                  <a:pt x="7318" y="11137"/>
                  <a:pt x="7392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67040" y="3768840"/>
            <a:ext cx="150840" cy="312480"/>
          </a:xfrm>
          <a:custGeom>
            <a:avLst/>
            <a:gdLst/>
            <a:ahLst/>
            <a:rect l="l" t="t" r="r" b="b"/>
            <a:pathLst>
              <a:path w="423" h="869">
                <a:moveTo>
                  <a:pt x="8136" y="10468"/>
                </a:moveTo>
                <a:cubicBezTo>
                  <a:pt x="8292" y="10575"/>
                  <a:pt x="8426" y="10748"/>
                  <a:pt x="8384" y="10964"/>
                </a:cubicBezTo>
                <a:cubicBezTo>
                  <a:pt x="8338" y="11200"/>
                  <a:pt x="8147" y="11243"/>
                  <a:pt x="7962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0240" y="5411880"/>
            <a:ext cx="63720" cy="106200"/>
          </a:xfrm>
          <a:custGeom>
            <a:avLst/>
            <a:gdLst/>
            <a:ahLst/>
            <a:rect l="l" t="t" r="r" b="b"/>
            <a:pathLst>
              <a:path w="175" h="298">
                <a:moveTo>
                  <a:pt x="5259" y="15032"/>
                </a:moveTo>
                <a:cubicBezTo>
                  <a:pt x="5200" y="15130"/>
                  <a:pt x="5140" y="15228"/>
                  <a:pt x="5085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35080" y="5375160"/>
            <a:ext cx="81000" cy="125640"/>
          </a:xfrm>
          <a:custGeom>
            <a:avLst/>
            <a:gdLst/>
            <a:ahLst/>
            <a:rect l="l" t="t" r="r" b="b"/>
            <a:pathLst>
              <a:path w="225" h="349">
                <a:moveTo>
                  <a:pt x="5680" y="15032"/>
                </a:moveTo>
                <a:cubicBezTo>
                  <a:pt x="5665" y="15170"/>
                  <a:pt x="5638" y="15188"/>
                  <a:pt x="5730" y="15280"/>
                </a:cubicBezTo>
                <a:cubicBezTo>
                  <a:pt x="5824" y="15217"/>
                  <a:pt x="5961" y="15083"/>
                  <a:pt x="5854" y="14957"/>
                </a:cubicBezTo>
                <a:cubicBezTo>
                  <a:pt x="5781" y="14933"/>
                  <a:pt x="5757" y="14924"/>
                  <a:pt x="5705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52800" y="5295960"/>
            <a:ext cx="61920" cy="276120"/>
          </a:xfrm>
          <a:custGeom>
            <a:avLst/>
            <a:gdLst/>
            <a:ahLst/>
            <a:rect l="l" t="t" r="r" b="b"/>
            <a:pathLst>
              <a:path w="175" h="770">
                <a:moveTo>
                  <a:pt x="6003" y="14709"/>
                </a:moveTo>
                <a:cubicBezTo>
                  <a:pt x="6085" y="14896"/>
                  <a:pt x="6218" y="15165"/>
                  <a:pt x="6152" y="15379"/>
                </a:cubicBezTo>
                <a:cubicBezTo>
                  <a:pt x="6082" y="15471"/>
                  <a:pt x="6065" y="15504"/>
                  <a:pt x="5978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40040" y="5411880"/>
            <a:ext cx="44280" cy="88920"/>
          </a:xfrm>
          <a:custGeom>
            <a:avLst/>
            <a:gdLst/>
            <a:ahLst/>
            <a:rect l="l" t="t" r="r" b="b"/>
            <a:pathLst>
              <a:path w="125" h="249">
                <a:moveTo>
                  <a:pt x="8012" y="15032"/>
                </a:moveTo>
                <a:cubicBezTo>
                  <a:pt x="7952" y="15106"/>
                  <a:pt x="7801" y="15319"/>
                  <a:pt x="7888" y="15280"/>
                </a:cubicBezTo>
                <a:cubicBezTo>
                  <a:pt x="7905" y="15263"/>
                  <a:pt x="7921" y="15247"/>
                  <a:pt x="7938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15040" y="2544840"/>
            <a:ext cx="125280" cy="36360"/>
          </a:xfrm>
          <a:custGeom>
            <a:avLst/>
            <a:gdLst/>
            <a:ahLst/>
            <a:rect l="l" t="t" r="r" b="b"/>
            <a:pathLst>
              <a:path w="348" h="101">
                <a:moveTo>
                  <a:pt x="17264" y="7169"/>
                </a:moveTo>
                <a:cubicBezTo>
                  <a:pt x="17384" y="7152"/>
                  <a:pt x="17495" y="7103"/>
                  <a:pt x="17611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7:42:23Z</dcterms:created>
  <dc:creator>TAMMY  COON</dc:creator>
  <dc:description/>
  <dc:language>en-US</dc:language>
  <cp:lastModifiedBy>deanne elizabeth mcgrath</cp:lastModifiedBy>
  <dcterms:modified xsi:type="dcterms:W3CDTF">2011-12-15T15:53:43Z</dcterms:modified>
  <cp:revision>10</cp:revision>
  <dc:subject/>
  <dc:title>Opener: Find the % of the number </dc:title>
</cp:coreProperties>
</file>